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E93FE-EF28-40F2-9DBF-58AA24C18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177B1-73B9-4BE3-B0BA-A535FD244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1BA66-E2BB-4969-90C0-D2F8895D4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BB05B-2713-4978-A065-447012946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9381B-6CD2-4D24-9045-3B84016CC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63E61-047B-4662-8132-412D37718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03698-485E-4B13-A447-11482001C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1699B-0005-4650-A8C1-3EB756AA7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A34C3-F158-400E-B3D5-3CBB64D39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5DEA3-FA7D-40BD-9A64-8C3E223D8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B688C-D84D-46AD-8AAA-7448BA7C4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5ECA2-635A-4703-9F98-57BAF2083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A0D1D-28A5-4046-AEC0-286DF9090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8BAEB-C238-4F03-B043-D1F926C83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5A136-DA97-4CA7-BDF0-76808A2C8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BFF13-07CF-437E-818D-840BF7273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95BD3-AA81-4596-BAF3-9BED74A51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54B6A-E5BE-4E35-8A40-1D0B4A83C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AD27C-BF27-4C1E-A476-880288F53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CCC40-FB2E-432A-8B99-AF81A0F8E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88A47-13EE-464B-92C7-A976C97F0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E2AAF-B779-498C-A4A0-DFED1BFA5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8C025-3A7E-4C28-8C90-289B4A6C5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0FCB5-0DE9-4F94-B7AD-F1B231057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57150-5B08-4A4B-978D-C7FF143096D5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346120"/>
            <a:ext cx="859284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3439800"/>
            <a:ext cx="76770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542916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20713-8467-4AC7-AC5E-693446884013}" type="slidenum"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339560"/>
            <a:ext cx="85932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굴림"/>
                <a:ea typeface="굴림"/>
              </a:rPr>
              <a:t>2</a:t>
            </a: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장 통합교육의 동향과 발전과제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-360" y="2922120"/>
            <a:ext cx="76770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철학적 근거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1)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정상화 개념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7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 북유럽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2)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잠재력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일반 체제 이론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자기 개인의 철학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자기 결정 운동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통합교육의 용어와 배경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정상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normalization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주류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mainstreaming)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와 탈수용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deinstitutionalization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주류화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환경과 관련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탈수용화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지역사회의 환경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Renaissance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의 인본주의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주류화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통합교육의 방안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구체적인 방안 미흡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전통적인 일반학교의 적합성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과정과 프로그램의 효율성 비판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의 수행에 문제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최소화와 비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수학급의 증가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일반학급에서의 통합교육의 필요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일반교육 주도화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Regular Education Initiative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권리 확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수교육과 일반교육의 단일체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분리교육의 감소 또는 제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효율적인 교수체제의 단일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중증 중복장애아동의 통합 비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  <a:ea typeface="굴림"/>
              </a:rPr>
              <a:t>(</a:t>
            </a: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완전</a:t>
            </a:r>
            <a:r>
              <a:rPr b="0" lang="en-US" sz="4400" spc="-1" strike="noStrike">
                <a:solidFill>
                  <a:srgbClr val="ffc638"/>
                </a:solidFill>
                <a:latin typeface="Arial"/>
                <a:ea typeface="굴림"/>
              </a:rPr>
              <a:t>) </a:t>
            </a: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통합교육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인간의 자유와 존엄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중증장애아동의 통합 제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여러 압력 단체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살라만카</a:t>
            </a: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Salamanca) </a:t>
            </a: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선언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자신의 거주지 학교 입학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최소화와 이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638"/>
                </a:solidFill>
                <a:latin typeface="Arial"/>
                <a:ea typeface="굴림"/>
              </a:rPr>
              <a:t>살라만카 선언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UNESCO 1994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년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- 88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국가와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25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개의 국제조직위원회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의 기본권과 기회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별한 욕구와 적성에 맞는 교육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체제와 아동의 다양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아동중심 교육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완전통합 방향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법적 근거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교재 참고 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역사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제외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850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년 대 이전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분리 특수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850-1950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모움식 통합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950-1980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포함식 통합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990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년 이후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 모형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물리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용어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행정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사회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교육과정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심리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638"/>
                </a:solidFill>
                <a:latin typeface="Arial"/>
                <a:ea typeface="굴림"/>
              </a:rPr>
              <a:t>정리 및 질문</a:t>
            </a:r>
            <a:endParaRPr b="0" lang="en-US" sz="40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통합교육에 대한 이해의 필요성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조작적 정의에 대한 이해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강제가 아니라 최적의 학습 조건 제공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통학교육의 당위성 증명 노력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우리의 현실은 모움식 통합 단계이며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완전 포함교육을 강제해서는 안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교육전반의 개선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(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협력학습 등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행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재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교사양성 및 재교육 체제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학교 구조의 재조직화 등이 선결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과정과 수단 및 방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(+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목적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)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c638"/>
                </a:solidFill>
                <a:latin typeface="Arial"/>
                <a:ea typeface="굴림"/>
              </a:rPr>
              <a:t>질문</a:t>
            </a:r>
            <a:r>
              <a:rPr b="0" lang="en-US" sz="6000" spc="-1" strike="noStrike">
                <a:solidFill>
                  <a:srgbClr val="ffc638"/>
                </a:solidFill>
                <a:latin typeface="Arial"/>
                <a:ea typeface="굴림"/>
              </a:rPr>
              <a:t>??</a:t>
            </a:r>
            <a:endParaRPr b="0" lang="en-US" sz="6000" spc="-1" strike="noStrike">
              <a:solidFill>
                <a:srgbClr val="ffc638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1833480" y="1771560"/>
            <a:ext cx="54738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638"/>
                </a:solidFill>
                <a:latin typeface="굴림"/>
                <a:ea typeface="굴림"/>
              </a:rPr>
              <a:t>1. </a:t>
            </a: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동향과 발전과제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특수학급의 설치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71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에 대한 논의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8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현장 적용의 시도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9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특수교육 진흥법에 규정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94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용어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Integration: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선 분리 후 통합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Inclusion: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비 분리 후 필요에 따른 분리 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목적과 가치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삶의 질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객관적과 주관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교육 목표 또는 가치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다양성이 전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육의 평등권 추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육의 수월성 보장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조화의 극대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수단과 과정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 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-</a:t>
            </a: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목적도 포함되어야 한다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.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개념적 및 법적 정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미국 공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Public Law: PL) 94-142(1975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완전취학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무상교육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평한 평가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개별화 교육 프로그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제한된 환경의 최소화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적법 절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부모 참여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PL 99-457(1986): 0-5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세의 무상교육 확대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우리나라 통합교육 규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특수교육진흥법 제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2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조 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6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항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2005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- 1977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년 제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; 10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차례 개정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이해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Thomas Kuhn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의 저서 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The Structure of Scientific Revolutions(1962, 1970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）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이란 무엇인가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뉴턴의 만류인력 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객관성과 불변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의 인식론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패러다임의 도입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패러다임과 권력의 상관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과 권력의 상관성</a:t>
            </a:r>
            <a:r>
              <a:rPr b="0" lang="en-US" sz="3200" spc="-1" strike="noStrike">
                <a:solidFill>
                  <a:srgbClr val="323232"/>
                </a:solidFill>
                <a:latin typeface="HY버들M"/>
                <a:ea typeface="HY버들M"/>
              </a:rPr>
              <a:t> 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기원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Kuhn(1962, 1970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Burrell &amp; Morgan(1979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Skrtic(1991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정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일본에 대한 사고의 틀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1945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년          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2008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년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침략국          경제대국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원수             소형화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(SONY)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징병             자동차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(TOYOTA) 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죽일             죽일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274920" y="1771560"/>
            <a:ext cx="0" cy="312264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38200" y="2490840"/>
            <a:ext cx="609264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분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26920" y="1914120"/>
            <a:ext cx="800424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                     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거시적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인본주의           구조주의</a:t>
            </a:r>
            <a:br>
              <a:rPr sz="3200"/>
            </a:br>
            <a:br>
              <a:rPr sz="3200"/>
            </a:b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주관적                                객관적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해석주의           기능주의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             미시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554200" y="3643200"/>
            <a:ext cx="350532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138560" y="2563920"/>
            <a:ext cx="0" cy="220968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사회적 배경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Kuhn(1962, 1970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Burrell &amp; Morgan(1979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Skrtic(1991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패러다임의 변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개인의 결함보다는 환경과 제도의 문제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모두를 위한 교육에 대한 공통체 의식 확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삶의 질 향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4T21:04:06Z</dcterms:created>
  <dc:creator/>
  <dc:description/>
  <dc:language>en-US</dc:language>
  <cp:lastModifiedBy>XPuser</cp:lastModifiedBy>
  <dcterms:modified xsi:type="dcterms:W3CDTF">2008-07-25T03:10:18Z</dcterms:modified>
  <cp:revision>19</cp:revision>
  <dc:subject/>
  <dc:title>농아동의 수학교과교육</dc:title>
</cp:coreProperties>
</file>