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13.png" ContentType="image/png"/>
  <Override PartName="/ppt/media/image1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20.png" ContentType="image/png"/>
  <Override PartName="/ppt/media/image57.png" ContentType="image/png"/>
  <Override PartName="/ppt/media/image21.png" ContentType="image/png"/>
  <Override PartName="/ppt/media/image58.png" ContentType="image/png"/>
  <Override PartName="/ppt/media/image22.png" ContentType="image/png"/>
  <Override PartName="/ppt/media/image59.png" ContentType="image/png"/>
  <Override PartName="/ppt/media/image23.png" ContentType="image/png"/>
  <Override PartName="/ppt/media/image60.png" ContentType="image/png"/>
  <Override PartName="/ppt/media/image24.png" ContentType="image/png"/>
  <Override PartName="/ppt/media/image61.png" ContentType="image/png"/>
  <Override PartName="/ppt/media/image62.png" ContentType="image/png"/>
  <Override PartName="/ppt/media/image63.png" ContentType="image/png"/>
  <Override PartName="/ppt/media/image64.png" ContentType="image/png"/>
  <Override PartName="/ppt/media/image65.png" ContentType="image/png"/>
  <Override PartName="/ppt/media/image31.png" ContentType="image/png"/>
  <Override PartName="/ppt/media/image68.png" ContentType="image/png"/>
  <Override PartName="/ppt/media/image66.png" ContentType="image/png"/>
  <Override PartName="/ppt/media/image79.png" ContentType="image/png"/>
  <Override PartName="/ppt/media/image67.png" ContentType="image/png"/>
  <Override PartName="/ppt/media/image78.png" ContentType="image/png"/>
  <Override PartName="/ppt/media/image77.png" ContentType="image/png"/>
  <Override PartName="/ppt/media/image76.png" ContentType="image/png"/>
  <Override PartName="/ppt/media/image75.png" ContentType="image/png"/>
  <Override PartName="/ppt/media/image74.png" ContentType="image/png"/>
  <Override PartName="/ppt/media/image73.png" ContentType="image/png"/>
  <Override PartName="/ppt/media/image72.png" ContentType="image/png"/>
  <Override PartName="/ppt/media/image71.png" ContentType="image/png"/>
  <Override PartName="/ppt/media/image29.png" ContentType="image/png"/>
  <Override PartName="/ppt/media/image69.png" ContentType="image/png"/>
  <Override PartName="/ppt/media/image32.png" ContentType="image/png"/>
  <Override PartName="/ppt/media/image70.png" ContentType="image/png"/>
  <Override PartName="/ppt/media/image28.png" ContentType="image/png"/>
  <Override PartName="/ppt/media/image25.png" ContentType="image/png"/>
  <Override PartName="/ppt/media/image2.png" ContentType="image/png"/>
  <Override PartName="/ppt/media/image14.png" ContentType="image/png"/>
  <Override PartName="/ppt/media/image26.png" ContentType="image/png"/>
  <Override PartName="/ppt/media/image80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81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87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60D9F-7933-43E6-AA59-2924B8B3B9D4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744D9-F047-4CD0-A44F-B858740B9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31213-AEC0-45DF-AD13-90E4EA209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CE0F9B-C737-4DF3-87C8-BA202C120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014419-D3A0-4E53-B15B-4CF216FA1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994472-0F2D-4E2A-9B82-DD45D257E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79FCF9-0A21-4C9D-870F-8EE886E13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E6CBC4-E342-4B8E-B5E3-C415867FD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208577-A44B-4B6B-9FF2-A2824DFF9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D6E69C-1D09-4FDF-988B-1EC484E84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835F1A-7BD9-496F-9AD9-00F3B08F5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18F280-0A03-4D3D-A72F-8AF2CF92D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800FC0-1868-48CC-94B8-6B4547D43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53FA7-9C60-4590-A0ED-C192A0014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0305B4-E9A6-4E47-A0BB-CF1B568E1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78AF50-2A98-4ED4-829D-C4DBFCF43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E96B26-F5A1-4987-9436-DC6707EAD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A1EDA7-B7E7-4DAC-9511-CC683D60E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A7C840-0C10-4A9B-B7F1-9CEB57698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606EA8-5DAF-4680-A7DC-17DF19FA3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663FF5-0BA5-470C-B0C3-DBB2E555A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BBA457-818F-4BF7-A60A-4EF391BFC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D8606B-9CB9-4A01-972E-4A43590E5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4C9E14-1D95-4CE4-B168-5A7D01099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1F0BD-6E34-4DEE-8B0F-01DA058B6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A19D7E-9AD1-488B-848F-B352BFBC7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8D7FEB-98BE-42C0-9CB1-CDC26F12E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573677-5E25-40E4-85BB-009825B2E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BF91CA-0D3E-4A1C-BF97-D86591BD5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D7D64A-0A10-45DB-993F-6EEE1FE97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191784-B788-49E4-8EC9-6A8C5761D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47BB3B-014F-43CC-8505-AE29B790E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8A7C4F-9C7F-4995-87DC-0E248462C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C6F882-20F9-4B12-8E17-453E17F70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E4EA44-C2DC-455E-AB7A-773AC64B0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D35B6-0303-4BC1-B4B1-8270ECE21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68C48E-8509-4646-BB69-828B88129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F54153-A17B-4130-9A3C-17E2C13FE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880F57-4749-4372-AF6A-48CFF4F1E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5A465A-BD36-4350-868C-A0F0CEC1A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4627E2-99CB-4B9D-A119-574DEFC75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09F0E2-61A4-42F0-997A-3F565BE30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2E8F87-7307-4029-910F-4FA240F99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D8EE4E-EAB0-441B-B7D1-0E457B0A1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3EDE44-8411-47D1-989D-72E49EA52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ACED4A-F2ED-4D77-8C5A-AC2B2E1EC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2C59B-DBC7-470D-BD8F-8AAA36C4A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65F397-F9F4-44FD-9B4B-ACAC7B62D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427BF5-6370-486D-984A-3BC940374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B1096C-65F9-455A-8C9B-B7739FF2A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C0820B-E82C-440B-81A9-9ACDBEA69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FC8591-ABD6-4228-ABAC-C904FB394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1BB3024-D8B1-44EF-9B7F-0B43E04E9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A967A01-B7CF-480A-8276-7263F5C4C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4A11D31-AF63-45B5-9DBF-79FE2D06A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F9F7AF3-CA9E-4732-A182-B620E5405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7309C1E-8D9F-4CD4-9649-D057C5449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E9921-6D8B-40E7-AFD5-7777F1248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F6C183A-4B8A-4222-A84A-D3F0FA646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BE4C061-DE80-4FB7-B4AB-246F47B40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D5A017C-F8E0-443D-BF9F-3682A7808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955318B-7B55-43BB-BBAE-C4CBE6E33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30E851A-EB3B-491A-B0E4-B76C406E1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F5F4D4B-A3C0-4C92-9445-062D1BE8D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F725E94-9AD0-4CB8-BBB5-3C47E3060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4568B-E915-4F29-8685-772425A95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6FDBF-BBB4-47BE-B82D-F210DF037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B3905-7976-480A-960E-1ED2014C5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E031F-3FD3-40DE-9CAB-D017C17EA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489D1-A768-4FFE-B99F-F1B3C02FF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0E877-7045-47B9-A2C5-239F759BA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C2709-A710-4D93-8E84-D7E339B03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1CE9A-DD15-43CF-A77F-9447B0C9E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9FFE9-CC9D-4D4A-B517-986956415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4D6E9-7C36-4184-AC88-A2F7C49E1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B34F3B-229D-45FA-985D-D61A121A6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9A6184-5B50-40D6-B9AC-1F3C89F18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C1F5F5-48D6-49D9-88FF-2F7BB50CF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15CF17-4884-4726-B0CE-E5A4DF88A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7B7559-A37B-45A4-A193-4398E77F6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F416C-E40D-4040-9274-B0329B40F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F22D0F-9A73-4154-9942-3264901D0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9FE003-D446-47D1-8FF3-9EC835843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4507AB-1D82-477C-BECE-D021E3EFF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33723D-BDD8-4D3D-89FB-0331356E0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4E87B0-A926-4C87-9940-A7D96B452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5FA806-4CEB-4375-B419-C3A77F2E1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4636ED-8E76-4BAE-A28A-3D5460EC2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468A36-FF8F-49B5-875A-4ADBCE243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2A4A36-AC6E-4F27-B8C8-3E796C289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4CDEF6-129C-4B36-BC2A-4355246EB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F4495-E081-4D70-9173-1B1A2A99E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7F8531-CF7D-412E-A678-6563D6344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272FAA-7A0D-42A6-9C59-F79CCFC30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99241F-C698-475E-A5DE-7496170FA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623B71-6AA9-4E9E-A505-631C66665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567BF1-A6F3-4021-BE1C-2096D40BF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A2A63F-FEAC-4EB5-ACD2-4DFB0E170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E68F96-6AA1-4AB6-9D95-68749DFCA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87A0E5-A528-48C1-BD8E-5FB026D20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AC1512-2473-4B99-88AE-BFE3B8D13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891E0C-EFF0-43C8-8F1B-4640191A9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6BE3D-62E7-41DB-A52B-F0CBA2A89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F9BCC9-E47D-4D79-8C5C-72589A99E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DBED37-6D29-4B14-A9F5-04F5E4025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4C5C79-18A4-42F6-94B1-F50E262F1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D8E5C2-B5B3-4D6A-A16B-A30F578D1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E57DA4-AD8E-4DD9-BC80-C0464D336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4AA1C2-0906-49FC-804D-534917B4A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6EE5F2-6AD7-4107-A791-ACF12CC8C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021AE3-B623-4923-A3BE-0CAC9D801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EED4F7-5F31-425E-B98B-98D39CB38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1ECAF7-47E6-4F45-9B96-92545584C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7ABCB-155E-4164-B092-CB934AA75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9F1170-4712-4484-84C8-2F8A1E952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C968211-D56A-44C8-9C50-541DD8285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137DE27-D4F9-4402-A53C-9DF663B1B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7DE3548-7A07-4EDC-B5BD-8EF90EED6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ED07651-E14B-419C-ACF5-A063C0C11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9AB6874-C0CE-412A-901D-9B45FF989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AE87B81-B27D-4C5B-99EE-7FF5F6008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D8C2AAC-BC87-4433-A96F-AACE1056B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E63211D-D892-41C1-A694-C27EFE3D4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DE19CE5-89A3-4F0E-918A-7000B466F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F6F78-335D-4D4F-A6CC-9931E1902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5A76E7E-8B77-4DC7-AE60-8BE73951E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289C610-6066-4F83-ADE8-95949CEA1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E9B3202-5A0A-4121-BCA1-17F234C66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0D9938-BEC3-415A-9B4E-0CD5E8414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5156F2-97B5-4046-9343-8883551A1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B63952-5580-4E56-9DF7-EF4E992FD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5B9BA6-3995-4088-BFC8-09CEF31BD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3DC513-7DCD-4A20-AFA7-1EFBC3B72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F7A5B5-9BB2-4AF1-9887-E62F10CD5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CE7571-284B-4514-842E-C1C36C469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20908-E1EB-4B14-A0E4-AE76FE6EE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B1562C-7FBC-415C-A7A7-A5AF6D25F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967174-2A99-461A-B19A-CF59100A3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06C653-C624-4894-B2D0-689D8BF6F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1AA039-B950-4B85-95BE-803775896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AA6ABB-1279-4CED-AF63-9675501F0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901657-75BC-4D4C-9FE2-654976247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1C4E56-7C17-4299-BE51-AFE33FEDE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DF7194-1B0B-43A2-AD7A-DDEF44178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77D2C2-2B08-4C48-BE7F-263A5F6AF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233697-340B-4CFD-98D9-925B3B65E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519F3-C314-43CC-B434-4995A8B87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EF70C8-EA9C-4173-A684-A17C69AD8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6E5901-1060-40D6-A8C8-FE528C3EF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686B7C-EDF2-47D4-85B5-44649553E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293A86-7575-4CF4-9445-9F856BCF0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FEFABA-5E28-4681-8F84-7DA7CDB09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02E9FA-C547-4220-8166-20BED81D4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59A713-13F0-422D-BB7C-CD93B2C92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8DA1EE-B784-4814-9D1E-4D4CE8694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FA33E0-97DA-4638-8768-273266EED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C10A8A-942B-43BA-B7C0-175F10CEC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6EC04-6846-4A96-9014-B49B3047E62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E7048-236B-4978-8199-6025E8FFB39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43B33-D496-44B0-AA36-328C0153709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E5BEB-E01F-487C-A619-E4BB902A5FE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83F2C-EBFE-4D78-AB65-0B16D3B6BFE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ABD7E-07E2-44E5-93EC-080F6F53F65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97FA2-CC08-4407-A452-CE1BA72603B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03C0F-6860-497E-9C71-C8C64CECBC4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DA439-3AB2-4249-96D4-DCBCF322098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C1CF4-05BF-46B5-929D-3165E11CEB2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1D45E-216F-49E8-94FE-14DAB920B82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A031B-15A7-4525-ABDE-A4B947AA24B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7FC95-BE39-4C49-AB33-D45DB452354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image" Target="../media/image42.png"/><Relationship Id="rId6" Type="http://schemas.openxmlformats.org/officeDocument/2006/relationships/image" Target="../media/image43.png"/><Relationship Id="rId7" Type="http://schemas.openxmlformats.org/officeDocument/2006/relationships/image" Target="../media/image44.png"/><Relationship Id="rId8" Type="http://schemas.openxmlformats.org/officeDocument/2006/relationships/image" Target="../media/image36.png"/><Relationship Id="rId9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9.png"/><Relationship Id="rId4" Type="http://schemas.openxmlformats.org/officeDocument/2006/relationships/image" Target="../media/image45.png"/><Relationship Id="rId5" Type="http://schemas.openxmlformats.org/officeDocument/2006/relationships/image" Target="../media/image46.png"/><Relationship Id="rId6" Type="http://schemas.openxmlformats.org/officeDocument/2006/relationships/image" Target="../media/image47.png"/><Relationship Id="rId7" Type="http://schemas.openxmlformats.org/officeDocument/2006/relationships/image" Target="../media/image48.png"/><Relationship Id="rId8" Type="http://schemas.openxmlformats.org/officeDocument/2006/relationships/image" Target="../media/image49.png"/><Relationship Id="rId9" Type="http://schemas.openxmlformats.org/officeDocument/2006/relationships/image" Target="../media/image50.png"/><Relationship Id="rId10" Type="http://schemas.openxmlformats.org/officeDocument/2006/relationships/image" Target="../media/image36.png"/><Relationship Id="rId1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9.png"/><Relationship Id="rId4" Type="http://schemas.openxmlformats.org/officeDocument/2006/relationships/image" Target="../media/image45.png"/><Relationship Id="rId5" Type="http://schemas.openxmlformats.org/officeDocument/2006/relationships/image" Target="../media/image51.png"/><Relationship Id="rId6" Type="http://schemas.openxmlformats.org/officeDocument/2006/relationships/image" Target="../media/image45.png"/><Relationship Id="rId7" Type="http://schemas.openxmlformats.org/officeDocument/2006/relationships/image" Target="../media/image52.png"/><Relationship Id="rId8" Type="http://schemas.openxmlformats.org/officeDocument/2006/relationships/image" Target="../media/image53.png"/><Relationship Id="rId9" Type="http://schemas.openxmlformats.org/officeDocument/2006/relationships/image" Target="../media/image36.png"/><Relationship Id="rId10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9.png"/><Relationship Id="rId4" Type="http://schemas.openxmlformats.org/officeDocument/2006/relationships/image" Target="../media/image45.png"/><Relationship Id="rId5" Type="http://schemas.openxmlformats.org/officeDocument/2006/relationships/image" Target="../media/image54.png"/><Relationship Id="rId6" Type="http://schemas.openxmlformats.org/officeDocument/2006/relationships/image" Target="../media/image45.png"/><Relationship Id="rId7" Type="http://schemas.openxmlformats.org/officeDocument/2006/relationships/image" Target="../media/image55.png"/><Relationship Id="rId8" Type="http://schemas.openxmlformats.org/officeDocument/2006/relationships/image" Target="../media/image45.png"/><Relationship Id="rId9" Type="http://schemas.openxmlformats.org/officeDocument/2006/relationships/image" Target="../media/image56.png"/><Relationship Id="rId10" Type="http://schemas.openxmlformats.org/officeDocument/2006/relationships/image" Target="../media/image36.png"/><Relationship Id="rId1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9.png"/><Relationship Id="rId4" Type="http://schemas.openxmlformats.org/officeDocument/2006/relationships/image" Target="../media/image45.png"/><Relationship Id="rId5" Type="http://schemas.openxmlformats.org/officeDocument/2006/relationships/image" Target="../media/image57.png"/><Relationship Id="rId6" Type="http://schemas.openxmlformats.org/officeDocument/2006/relationships/image" Target="../media/image45.png"/><Relationship Id="rId7" Type="http://schemas.openxmlformats.org/officeDocument/2006/relationships/image" Target="../media/image58.png"/><Relationship Id="rId8" Type="http://schemas.openxmlformats.org/officeDocument/2006/relationships/image" Target="../media/image45.png"/><Relationship Id="rId9" Type="http://schemas.openxmlformats.org/officeDocument/2006/relationships/image" Target="../media/image59.png"/><Relationship Id="rId10" Type="http://schemas.openxmlformats.org/officeDocument/2006/relationships/image" Target="../media/image36.png"/><Relationship Id="rId1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62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4.png"/><Relationship Id="rId3" Type="http://schemas.openxmlformats.org/officeDocument/2006/relationships/image" Target="../media/image65.png"/><Relationship Id="rId4" Type="http://schemas.openxmlformats.org/officeDocument/2006/relationships/image" Target="../media/image66.png"/><Relationship Id="rId5" Type="http://schemas.openxmlformats.org/officeDocument/2006/relationships/image" Target="../media/image64.png"/><Relationship Id="rId6" Type="http://schemas.openxmlformats.org/officeDocument/2006/relationships/image" Target="../media/image67.png"/><Relationship Id="rId7" Type="http://schemas.openxmlformats.org/officeDocument/2006/relationships/image" Target="../media/image66.png"/><Relationship Id="rId8" Type="http://schemas.openxmlformats.org/officeDocument/2006/relationships/image" Target="../media/image64.png"/><Relationship Id="rId9" Type="http://schemas.openxmlformats.org/officeDocument/2006/relationships/image" Target="../media/image68.png"/><Relationship Id="rId10" Type="http://schemas.openxmlformats.org/officeDocument/2006/relationships/image" Target="../media/image66.png"/><Relationship Id="rId11" Type="http://schemas.openxmlformats.org/officeDocument/2006/relationships/image" Target="../media/image64.png"/><Relationship Id="rId12" Type="http://schemas.openxmlformats.org/officeDocument/2006/relationships/image" Target="../media/image69.png"/><Relationship Id="rId13" Type="http://schemas.openxmlformats.org/officeDocument/2006/relationships/image" Target="../media/image66.png"/><Relationship Id="rId14" Type="http://schemas.openxmlformats.org/officeDocument/2006/relationships/image" Target="../media/image6.png"/><Relationship Id="rId15" Type="http://schemas.openxmlformats.org/officeDocument/2006/relationships/image" Target="../media/image7.png"/><Relationship Id="rId16" Type="http://schemas.openxmlformats.org/officeDocument/2006/relationships/image" Target="../media/image70.png"/><Relationship Id="rId17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6.png"/><Relationship Id="rId5" Type="http://schemas.openxmlformats.org/officeDocument/2006/relationships/image" Target="../media/image71.png"/><Relationship Id="rId6" Type="http://schemas.openxmlformats.org/officeDocument/2006/relationships/image" Target="../media/image7.png"/><Relationship Id="rId7" Type="http://schemas.openxmlformats.org/officeDocument/2006/relationships/image" Target="../media/image16.png"/><Relationship Id="rId8" Type="http://schemas.openxmlformats.org/officeDocument/2006/relationships/image" Target="../media/image72.png"/><Relationship Id="rId9" Type="http://schemas.openxmlformats.org/officeDocument/2006/relationships/image" Target="../media/image7.png"/><Relationship Id="rId10" Type="http://schemas.openxmlformats.org/officeDocument/2006/relationships/image" Target="../media/image16.png"/><Relationship Id="rId11" Type="http://schemas.openxmlformats.org/officeDocument/2006/relationships/image" Target="../media/image73.png"/><Relationship Id="rId12" Type="http://schemas.openxmlformats.org/officeDocument/2006/relationships/image" Target="../media/image7.png"/><Relationship Id="rId13" Type="http://schemas.openxmlformats.org/officeDocument/2006/relationships/image" Target="../media/image74.png"/><Relationship Id="rId14" Type="http://schemas.openxmlformats.org/officeDocument/2006/relationships/image" Target="../media/image75.png"/><Relationship Id="rId15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7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77.png"/><Relationship Id="rId5" Type="http://schemas.openxmlformats.org/officeDocument/2006/relationships/image" Target="../media/image78.png"/><Relationship Id="rId6" Type="http://schemas.openxmlformats.org/officeDocument/2006/relationships/image" Target="../media/image79.png"/><Relationship Id="rId7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6.png"/><Relationship Id="rId5" Type="http://schemas.openxmlformats.org/officeDocument/2006/relationships/image" Target="../media/image80.png"/><Relationship Id="rId6" Type="http://schemas.openxmlformats.org/officeDocument/2006/relationships/image" Target="../media/image7.png"/><Relationship Id="rId7" Type="http://schemas.openxmlformats.org/officeDocument/2006/relationships/image" Target="../media/image16.png"/><Relationship Id="rId8" Type="http://schemas.openxmlformats.org/officeDocument/2006/relationships/image" Target="../media/image81.png"/><Relationship Id="rId9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7.png"/><Relationship Id="rId7" Type="http://schemas.openxmlformats.org/officeDocument/2006/relationships/image" Target="../media/image10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7.png"/><Relationship Id="rId7" Type="http://schemas.openxmlformats.org/officeDocument/2006/relationships/image" Target="../media/image19.png"/><Relationship Id="rId8" Type="http://schemas.openxmlformats.org/officeDocument/2006/relationships/image" Target="../media/image21.png"/><Relationship Id="rId9" Type="http://schemas.openxmlformats.org/officeDocument/2006/relationships/image" Target="../media/image22.png"/><Relationship Id="rId10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7.png"/><Relationship Id="rId3" Type="http://schemas.openxmlformats.org/officeDocument/2006/relationships/image" Target="../media/image19.png"/><Relationship Id="rId4" Type="http://schemas.openxmlformats.org/officeDocument/2006/relationships/image" Target="../media/image23.png"/><Relationship Id="rId5" Type="http://schemas.openxmlformats.org/officeDocument/2006/relationships/image" Target="../media/image7.png"/><Relationship Id="rId6" Type="http://schemas.openxmlformats.org/officeDocument/2006/relationships/image" Target="../media/image19.png"/><Relationship Id="rId7" Type="http://schemas.openxmlformats.org/officeDocument/2006/relationships/image" Target="../media/image24.png"/><Relationship Id="rId8" Type="http://schemas.openxmlformats.org/officeDocument/2006/relationships/image" Target="../media/image7.png"/><Relationship Id="rId9" Type="http://schemas.openxmlformats.org/officeDocument/2006/relationships/image" Target="../media/image25.png"/><Relationship Id="rId10" Type="http://schemas.openxmlformats.org/officeDocument/2006/relationships/image" Target="../media/image26.png"/><Relationship Id="rId1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9.png"/><Relationship Id="rId5" Type="http://schemas.openxmlformats.org/officeDocument/2006/relationships/image" Target="../media/image27.png"/><Relationship Id="rId6" Type="http://schemas.openxmlformats.org/officeDocument/2006/relationships/image" Target="../media/image7.png"/><Relationship Id="rId7" Type="http://schemas.openxmlformats.org/officeDocument/2006/relationships/image" Target="../media/image19.png"/><Relationship Id="rId8" Type="http://schemas.openxmlformats.org/officeDocument/2006/relationships/image" Target="../media/image28.png"/><Relationship Id="rId9" Type="http://schemas.openxmlformats.org/officeDocument/2006/relationships/image" Target="../media/image29.png"/><Relationship Id="rId10" Type="http://schemas.openxmlformats.org/officeDocument/2006/relationships/image" Target="../media/image30.png"/><Relationship Id="rId1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7.png"/><Relationship Id="rId3" Type="http://schemas.openxmlformats.org/officeDocument/2006/relationships/image" Target="../media/image25.png"/><Relationship Id="rId4" Type="http://schemas.openxmlformats.org/officeDocument/2006/relationships/image" Target="../media/image31.png"/><Relationship Id="rId5" Type="http://schemas.openxmlformats.org/officeDocument/2006/relationships/image" Target="../media/image7.png"/><Relationship Id="rId6" Type="http://schemas.openxmlformats.org/officeDocument/2006/relationships/image" Target="../media/image25.png"/><Relationship Id="rId7" Type="http://schemas.openxmlformats.org/officeDocument/2006/relationships/image" Target="../media/image32.png"/><Relationship Id="rId8" Type="http://schemas.openxmlformats.org/officeDocument/2006/relationships/image" Target="../media/image7.png"/><Relationship Id="rId9" Type="http://schemas.openxmlformats.org/officeDocument/2006/relationships/image" Target="../media/image25.png"/><Relationship Id="rId10" Type="http://schemas.openxmlformats.org/officeDocument/2006/relationships/image" Target="../media/image33.png"/><Relationship Id="rId1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36.png"/><Relationship Id="rId6" Type="http://schemas.openxmlformats.org/officeDocument/2006/relationships/image" Target="../media/image37.png"/><Relationship Id="rId7" Type="http://schemas.openxmlformats.org/officeDocument/2006/relationships/image" Target="../media/image38.png"/><Relationship Id="rId8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768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769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2060"/>
              </a:solidFill>
              <a:ln w="9360">
                <a:solidFill>
                  <a:srgbClr val="a04da3"/>
                </a:solidFill>
                <a:miter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002060"/>
              </a:solidFill>
              <a:ln w="0">
                <a:noFill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1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772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4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83a7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5" name="직사각형 5" descr=""/>
          <p:cNvPicPr/>
          <p:nvPr/>
        </p:nvPicPr>
        <p:blipFill>
          <a:blip r:embed="rId2"/>
          <a:stretch/>
        </p:blipFill>
        <p:spPr>
          <a:xfrm>
            <a:off x="401760" y="2401920"/>
            <a:ext cx="2176200" cy="1054080"/>
          </a:xfrm>
          <a:prstGeom prst="rect">
            <a:avLst/>
          </a:prstGeom>
          <a:ln w="0">
            <a:noFill/>
          </a:ln>
        </p:spPr>
      </p:pic>
      <p:pic>
        <p:nvPicPr>
          <p:cNvPr id="776" name="직사각형 6" descr=""/>
          <p:cNvPicPr/>
          <p:nvPr/>
        </p:nvPicPr>
        <p:blipFill>
          <a:blip r:embed="rId3"/>
          <a:stretch/>
        </p:blipFill>
        <p:spPr>
          <a:xfrm>
            <a:off x="328680" y="3316320"/>
            <a:ext cx="3176640" cy="1719360"/>
          </a:xfrm>
          <a:prstGeom prst="rect">
            <a:avLst/>
          </a:prstGeom>
          <a:ln w="0">
            <a:noFill/>
          </a:ln>
        </p:spPr>
      </p:pic>
      <p:sp>
        <p:nvSpPr>
          <p:cNvPr id="777" name="직사각형 45"/>
          <p:cNvSpPr/>
          <p:nvPr/>
        </p:nvSpPr>
        <p:spPr>
          <a:xfrm>
            <a:off x="4853880" y="1857240"/>
            <a:ext cx="158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학습의 개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직사각형 45"/>
          <p:cNvSpPr/>
          <p:nvPr/>
        </p:nvSpPr>
        <p:spPr>
          <a:xfrm>
            <a:off x="5028120" y="2500200"/>
            <a:ext cx="19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행동주의의 출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0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8F0CB-B1E5-4B75-A453-17D177D60CD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직사각형 45"/>
          <p:cNvSpPr/>
          <p:nvPr/>
        </p:nvSpPr>
        <p:spPr>
          <a:xfrm>
            <a:off x="4753440" y="3143160"/>
            <a:ext cx="168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행동주의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(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직사각형 45"/>
          <p:cNvSpPr/>
          <p:nvPr/>
        </p:nvSpPr>
        <p:spPr>
          <a:xfrm>
            <a:off x="4726800" y="3786120"/>
            <a:ext cx="178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행동주의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(I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직사각형 45"/>
          <p:cNvSpPr/>
          <p:nvPr/>
        </p:nvSpPr>
        <p:spPr>
          <a:xfrm>
            <a:off x="5000040" y="4429080"/>
            <a:ext cx="235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5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행동주의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교수전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직사각형 45"/>
          <p:cNvSpPr/>
          <p:nvPr/>
        </p:nvSpPr>
        <p:spPr>
          <a:xfrm>
            <a:off x="5016960" y="5110200"/>
            <a:ext cx="19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6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행동주의 비판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직사각형 45"/>
          <p:cNvSpPr/>
          <p:nvPr/>
        </p:nvSpPr>
        <p:spPr>
          <a:xfrm>
            <a:off x="4929840" y="5753160"/>
            <a:ext cx="16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7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사회인지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슬라이드 번호 개체 틀 4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Arial"/>
              </a:rPr>
              <a:t>6-</a:t>
            </a:r>
            <a:fld id="{BA50BE7C-BFF2-4ADB-B3FD-7C66ACC3290A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5" name="Group 5"/>
          <p:cNvGrpSpPr/>
          <p:nvPr/>
        </p:nvGrpSpPr>
        <p:grpSpPr>
          <a:xfrm>
            <a:off x="1008000" y="1849320"/>
            <a:ext cx="7223040" cy="4365360"/>
            <a:chOff x="1008000" y="1849320"/>
            <a:chExt cx="7223040" cy="4365360"/>
          </a:xfrm>
        </p:grpSpPr>
        <p:grpSp>
          <p:nvGrpSpPr>
            <p:cNvPr id="1236" name="Group 6"/>
            <p:cNvGrpSpPr/>
            <p:nvPr/>
          </p:nvGrpSpPr>
          <p:grpSpPr>
            <a:xfrm>
              <a:off x="2673360" y="1849320"/>
              <a:ext cx="2363760" cy="632880"/>
              <a:chOff x="2673360" y="1849320"/>
              <a:chExt cx="2363760" cy="632880"/>
            </a:xfrm>
          </p:grpSpPr>
          <p:sp>
            <p:nvSpPr>
              <p:cNvPr id="1237" name="AutoShape 7"/>
              <p:cNvSpPr/>
              <p:nvPr/>
            </p:nvSpPr>
            <p:spPr>
              <a:xfrm>
                <a:off x="2677680" y="1849320"/>
                <a:ext cx="2359440" cy="63288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8" name="Rectangle 8"/>
              <p:cNvSpPr/>
              <p:nvPr/>
            </p:nvSpPr>
            <p:spPr>
              <a:xfrm>
                <a:off x="2673360" y="1891800"/>
                <a:ext cx="2359440" cy="54936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행동의 결과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39" name="Line 9"/>
            <p:cNvSpPr/>
            <p:nvPr/>
          </p:nvSpPr>
          <p:spPr>
            <a:xfrm>
              <a:off x="2023920" y="2757240"/>
              <a:ext cx="370044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Line 10"/>
            <p:cNvSpPr/>
            <p:nvPr/>
          </p:nvSpPr>
          <p:spPr>
            <a:xfrm>
              <a:off x="2004840" y="2728800"/>
              <a:ext cx="1440" cy="30780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41" name="Group 11"/>
            <p:cNvGrpSpPr/>
            <p:nvPr/>
          </p:nvGrpSpPr>
          <p:grpSpPr>
            <a:xfrm>
              <a:off x="1008000" y="3066840"/>
              <a:ext cx="2113920" cy="933120"/>
              <a:chOff x="1008000" y="3066840"/>
              <a:chExt cx="2113920" cy="933120"/>
            </a:xfrm>
          </p:grpSpPr>
          <p:sp>
            <p:nvSpPr>
              <p:cNvPr id="1242" name="AutoShape 12"/>
              <p:cNvSpPr/>
              <p:nvPr/>
            </p:nvSpPr>
            <p:spPr>
              <a:xfrm>
                <a:off x="1012320" y="3066840"/>
                <a:ext cx="2109600" cy="933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3" name="Rectangle 13"/>
              <p:cNvSpPr/>
              <p:nvPr/>
            </p:nvSpPr>
            <p:spPr>
              <a:xfrm>
                <a:off x="1008000" y="3129840"/>
                <a:ext cx="2109600" cy="80964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강화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-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이 다시 나타날 가능성을 증가시켜 주는 사건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4" name="Group 14"/>
            <p:cNvGrpSpPr/>
            <p:nvPr/>
          </p:nvGrpSpPr>
          <p:grpSpPr>
            <a:xfrm>
              <a:off x="4692600" y="3071520"/>
              <a:ext cx="2089080" cy="933120"/>
              <a:chOff x="4692600" y="3071520"/>
              <a:chExt cx="2089080" cy="933120"/>
            </a:xfrm>
          </p:grpSpPr>
          <p:sp>
            <p:nvSpPr>
              <p:cNvPr id="1245" name="AutoShape 15"/>
              <p:cNvSpPr/>
              <p:nvPr/>
            </p:nvSpPr>
            <p:spPr>
              <a:xfrm>
                <a:off x="4696920" y="3071520"/>
                <a:ext cx="2084760" cy="933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6" name="Rectangle 16"/>
              <p:cNvSpPr/>
              <p:nvPr/>
            </p:nvSpPr>
            <p:spPr>
              <a:xfrm>
                <a:off x="4692600" y="3134520"/>
                <a:ext cx="2084760" cy="80964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처벌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–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다시 나타날 가능성 있는 행동을 감소시키는 사건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7" name="Group 17"/>
            <p:cNvGrpSpPr/>
            <p:nvPr/>
          </p:nvGrpSpPr>
          <p:grpSpPr>
            <a:xfrm>
              <a:off x="2439720" y="5276880"/>
              <a:ext cx="2014200" cy="932760"/>
              <a:chOff x="2439720" y="5276880"/>
              <a:chExt cx="2014200" cy="932760"/>
            </a:xfrm>
          </p:grpSpPr>
          <p:sp>
            <p:nvSpPr>
              <p:cNvPr id="1248" name="AutoShape 18"/>
              <p:cNvSpPr/>
              <p:nvPr/>
            </p:nvSpPr>
            <p:spPr>
              <a:xfrm>
                <a:off x="2444400" y="5276880"/>
                <a:ext cx="2009520" cy="93276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9" name="Rectangle 19"/>
              <p:cNvSpPr/>
              <p:nvPr/>
            </p:nvSpPr>
            <p:spPr>
              <a:xfrm>
                <a:off x="2439720" y="5339880"/>
                <a:ext cx="2009880" cy="80928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부적강화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–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을 증가시키는 요인을 없애는 것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0" name="Group 20"/>
            <p:cNvGrpSpPr/>
            <p:nvPr/>
          </p:nvGrpSpPr>
          <p:grpSpPr>
            <a:xfrm>
              <a:off x="2441520" y="4227480"/>
              <a:ext cx="2012400" cy="933120"/>
              <a:chOff x="2441520" y="4227480"/>
              <a:chExt cx="2012400" cy="933120"/>
            </a:xfrm>
          </p:grpSpPr>
          <p:sp>
            <p:nvSpPr>
              <p:cNvPr id="1251" name="AutoShape 21"/>
              <p:cNvSpPr/>
              <p:nvPr/>
            </p:nvSpPr>
            <p:spPr>
              <a:xfrm>
                <a:off x="2446200" y="4227480"/>
                <a:ext cx="2007720" cy="933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2" name="Rectangle 22"/>
              <p:cNvSpPr/>
              <p:nvPr/>
            </p:nvSpPr>
            <p:spPr>
              <a:xfrm>
                <a:off x="2441520" y="4290480"/>
                <a:ext cx="2008080" cy="80964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정적강화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–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을 증가시키는 요인을 제공하는 것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3" name="Group 23"/>
            <p:cNvGrpSpPr/>
            <p:nvPr/>
          </p:nvGrpSpPr>
          <p:grpSpPr>
            <a:xfrm>
              <a:off x="6175080" y="5281560"/>
              <a:ext cx="2027160" cy="933120"/>
              <a:chOff x="6175080" y="5281560"/>
              <a:chExt cx="2027160" cy="933120"/>
            </a:xfrm>
          </p:grpSpPr>
          <p:sp>
            <p:nvSpPr>
              <p:cNvPr id="1254" name="AutoShape 24"/>
              <p:cNvSpPr/>
              <p:nvPr/>
            </p:nvSpPr>
            <p:spPr>
              <a:xfrm>
                <a:off x="6179760" y="5281560"/>
                <a:ext cx="2022480" cy="933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5" name="Rectangle 25"/>
              <p:cNvSpPr/>
              <p:nvPr/>
            </p:nvSpPr>
            <p:spPr>
              <a:xfrm>
                <a:off x="6175080" y="5344560"/>
                <a:ext cx="2022840" cy="80964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제거형 처벌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–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을 감소시키는 요인을 없애는 것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6" name="Group 26"/>
            <p:cNvGrpSpPr/>
            <p:nvPr/>
          </p:nvGrpSpPr>
          <p:grpSpPr>
            <a:xfrm>
              <a:off x="6167160" y="4208400"/>
              <a:ext cx="2063880" cy="933120"/>
              <a:chOff x="6167160" y="4208400"/>
              <a:chExt cx="2063880" cy="933120"/>
            </a:xfrm>
          </p:grpSpPr>
          <p:sp>
            <p:nvSpPr>
              <p:cNvPr id="1257" name="AutoShape 27"/>
              <p:cNvSpPr/>
              <p:nvPr/>
            </p:nvSpPr>
            <p:spPr>
              <a:xfrm>
                <a:off x="6171480" y="4208400"/>
                <a:ext cx="2059560" cy="933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8" name="Rectangle 28"/>
              <p:cNvSpPr/>
              <p:nvPr/>
            </p:nvSpPr>
            <p:spPr>
              <a:xfrm>
                <a:off x="6167160" y="4271400"/>
                <a:ext cx="2059560" cy="80964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수여성 처벌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–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을 감소시키는 요인을 받는 것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59" name="Line 29"/>
            <p:cNvSpPr/>
            <p:nvPr/>
          </p:nvSpPr>
          <p:spPr>
            <a:xfrm>
              <a:off x="5705280" y="2744640"/>
              <a:ext cx="1440" cy="30816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60" name="Group 30"/>
            <p:cNvGrpSpPr/>
            <p:nvPr/>
          </p:nvGrpSpPr>
          <p:grpSpPr>
            <a:xfrm>
              <a:off x="1976400" y="3985920"/>
              <a:ext cx="439200" cy="1747800"/>
              <a:chOff x="1976400" y="3985920"/>
              <a:chExt cx="439200" cy="1747800"/>
            </a:xfrm>
          </p:grpSpPr>
          <p:sp>
            <p:nvSpPr>
              <p:cNvPr id="1261" name="Line 31"/>
              <p:cNvSpPr/>
              <p:nvPr/>
            </p:nvSpPr>
            <p:spPr>
              <a:xfrm flipH="1" flipV="1">
                <a:off x="1976400" y="4679280"/>
                <a:ext cx="436320" cy="32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  <a:head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2" name="Line 32"/>
              <p:cNvSpPr/>
              <p:nvPr/>
            </p:nvSpPr>
            <p:spPr>
              <a:xfrm>
                <a:off x="2000160" y="3985920"/>
                <a:ext cx="3240" cy="174780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3" name="Line 33"/>
              <p:cNvSpPr/>
              <p:nvPr/>
            </p:nvSpPr>
            <p:spPr>
              <a:xfrm flipH="1" flipV="1">
                <a:off x="1978920" y="5697000"/>
                <a:ext cx="436680" cy="32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  <a:head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4" name="Group 34"/>
            <p:cNvGrpSpPr/>
            <p:nvPr/>
          </p:nvGrpSpPr>
          <p:grpSpPr>
            <a:xfrm>
              <a:off x="5697360" y="4014720"/>
              <a:ext cx="439200" cy="1747800"/>
              <a:chOff x="5697360" y="4014720"/>
              <a:chExt cx="439200" cy="1747800"/>
            </a:xfrm>
          </p:grpSpPr>
          <p:sp>
            <p:nvSpPr>
              <p:cNvPr id="1265" name="Line 35"/>
              <p:cNvSpPr/>
              <p:nvPr/>
            </p:nvSpPr>
            <p:spPr>
              <a:xfrm flipH="1" flipV="1">
                <a:off x="5697360" y="4708080"/>
                <a:ext cx="436320" cy="32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  <a:head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6" name="Line 36"/>
              <p:cNvSpPr/>
              <p:nvPr/>
            </p:nvSpPr>
            <p:spPr>
              <a:xfrm>
                <a:off x="5721120" y="4014720"/>
                <a:ext cx="3240" cy="174780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7" name="Line 37"/>
              <p:cNvSpPr/>
              <p:nvPr/>
            </p:nvSpPr>
            <p:spPr>
              <a:xfrm flipH="1" flipV="1">
                <a:off x="5699880" y="5725800"/>
                <a:ext cx="436680" cy="32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  <a:head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68" name="Line 38"/>
            <p:cNvSpPr/>
            <p:nvPr/>
          </p:nvSpPr>
          <p:spPr>
            <a:xfrm>
              <a:off x="3830400" y="2484360"/>
              <a:ext cx="1800" cy="30780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9" name="TextBox 41" descr=""/>
          <p:cNvPicPr/>
          <p:nvPr/>
        </p:nvPicPr>
        <p:blipFill>
          <a:blip r:embed="rId1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슬라이드 번호 개체 틀 4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Arial"/>
              </a:rPr>
              <a:t>6-</a:t>
            </a:r>
            <a:fld id="{EE883A3C-1797-445A-A8A5-11250CE15F42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1" name=""/>
          <p:cNvGraphicFramePr/>
          <p:nvPr/>
        </p:nvGraphicFramePr>
        <p:xfrm>
          <a:off x="438120" y="2195640"/>
          <a:ext cx="8255160" cy="4211640"/>
        </p:xfrm>
        <a:graphic>
          <a:graphicData uri="http://schemas.openxmlformats.org/drawingml/2006/table">
            <a:tbl>
              <a:tblPr/>
              <a:tblGrid>
                <a:gridCol w="1416240"/>
                <a:gridCol w="3593880"/>
                <a:gridCol w="324504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고전적 조건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조작적 조건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3548a"/>
                    </a:solidFill>
                  </a:tcPr>
                </a:tc>
              </a:tr>
              <a:tr h="1031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행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비자발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인간은 행동을 조직하지 않는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정서적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생리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발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인간은 행동을 조직한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9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순서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행동은 자극의 뒤에 온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행동은 자극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결과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에 앞선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1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학습은 어떻게 발생하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중성적인 자극이 무조건 자극과 연합될 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행동의 결과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consequence)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가 차후의 행동에 영향을 미친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1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학습자가 교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원래 중성적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을 교사의 따뜻함과 연합하면 교실이 긍정적인 정서를 유발한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학습자가 질문에 답을 하면 칭찬이 주어지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그러면 답을 하려는 시도는 증가된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주요 연구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파블로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스키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72" name="TextBox 7" descr=""/>
          <p:cNvPicPr/>
          <p:nvPr/>
        </p:nvPicPr>
        <p:blipFill>
          <a:blip r:embed="rId1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  <p:sp>
        <p:nvSpPr>
          <p:cNvPr id="1273" name=""/>
          <p:cNvSpPr txBox="1"/>
          <p:nvPr/>
        </p:nvSpPr>
        <p:spPr>
          <a:xfrm>
            <a:off x="457200" y="2143080"/>
            <a:ext cx="822960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274" name="그룹 35"/>
          <p:cNvGrpSpPr/>
          <p:nvPr/>
        </p:nvGrpSpPr>
        <p:grpSpPr>
          <a:xfrm>
            <a:off x="500040" y="1407960"/>
            <a:ext cx="8429760" cy="449280"/>
            <a:chOff x="500040" y="1407960"/>
            <a:chExt cx="8429760" cy="449280"/>
          </a:xfrm>
        </p:grpSpPr>
        <p:grpSp>
          <p:nvGrpSpPr>
            <p:cNvPr id="1275" name="그룹 48"/>
            <p:cNvGrpSpPr/>
            <p:nvPr/>
          </p:nvGrpSpPr>
          <p:grpSpPr>
            <a:xfrm>
              <a:off x="500040" y="1455480"/>
              <a:ext cx="8429760" cy="401760"/>
              <a:chOff x="500040" y="1455480"/>
              <a:chExt cx="8429760" cy="401760"/>
            </a:xfrm>
          </p:grpSpPr>
          <p:sp>
            <p:nvSpPr>
              <p:cNvPr id="1276" name="직사각형 13"/>
              <p:cNvSpPr/>
              <p:nvPr/>
            </p:nvSpPr>
            <p:spPr>
              <a:xfrm>
                <a:off x="1825560" y="1455480"/>
                <a:ext cx="3033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조작적 조건형성과 고전적 조건형성 비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7" name="직선 연결선 18"/>
              <p:cNvSpPr/>
              <p:nvPr/>
            </p:nvSpPr>
            <p:spPr>
              <a:xfrm>
                <a:off x="500040" y="185580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78" name="그룹 49"/>
            <p:cNvGrpSpPr/>
            <p:nvPr/>
          </p:nvGrpSpPr>
          <p:grpSpPr>
            <a:xfrm>
              <a:off x="528480" y="1464840"/>
              <a:ext cx="328320" cy="319320"/>
              <a:chOff x="528480" y="1464840"/>
              <a:chExt cx="328320" cy="319320"/>
            </a:xfrm>
          </p:grpSpPr>
          <p:sp>
            <p:nvSpPr>
              <p:cNvPr id="1279" name="AutoShape 4"/>
              <p:cNvSpPr/>
              <p:nvPr/>
            </p:nvSpPr>
            <p:spPr>
              <a:xfrm>
                <a:off x="528480" y="146484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80" name="Freeform 5"/>
              <p:cNvGrpSpPr/>
              <p:nvPr/>
            </p:nvGrpSpPr>
            <p:grpSpPr>
              <a:xfrm>
                <a:off x="542160" y="1480680"/>
                <a:ext cx="176760" cy="171000"/>
                <a:chOff x="542160" y="1480680"/>
                <a:chExt cx="176760" cy="171000"/>
              </a:xfrm>
            </p:grpSpPr>
            <p:pic>
              <p:nvPicPr>
                <p:cNvPr id="128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42160" y="1480680"/>
                  <a:ext cx="17676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82" name=""/>
                <p:cNvSpPr/>
                <p:nvPr/>
              </p:nvSpPr>
              <p:spPr>
                <a:xfrm>
                  <a:off x="548640" y="148500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83" name="TextBox 88"/>
            <p:cNvSpPr/>
            <p:nvPr/>
          </p:nvSpPr>
          <p:spPr>
            <a:xfrm>
              <a:off x="535680" y="14079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4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28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86" name="직사각형 23"/>
              <p:cNvSpPr/>
              <p:nvPr/>
            </p:nvSpPr>
            <p:spPr>
              <a:xfrm>
                <a:off x="1406880" y="1385640"/>
                <a:ext cx="334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수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behavior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ification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8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9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91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9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93" name="TextBox 88"/>
            <p:cNvSpPr/>
            <p:nvPr/>
          </p:nvSpPr>
          <p:spPr>
            <a:xfrm>
              <a:off x="67860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4" name="그룹 39"/>
          <p:cNvGrpSpPr/>
          <p:nvPr/>
        </p:nvGrpSpPr>
        <p:grpSpPr>
          <a:xfrm>
            <a:off x="571680" y="2214720"/>
            <a:ext cx="8215200" cy="3643200"/>
            <a:chOff x="571680" y="2214720"/>
            <a:chExt cx="8215200" cy="3643200"/>
          </a:xfrm>
        </p:grpSpPr>
        <p:grpSp>
          <p:nvGrpSpPr>
            <p:cNvPr id="1295" name="그룹 123"/>
            <p:cNvGrpSpPr/>
            <p:nvPr/>
          </p:nvGrpSpPr>
          <p:grpSpPr>
            <a:xfrm>
              <a:off x="571680" y="2214720"/>
              <a:ext cx="8215200" cy="3643200"/>
              <a:chOff x="571680" y="2214720"/>
              <a:chExt cx="8215200" cy="3643200"/>
            </a:xfrm>
          </p:grpSpPr>
          <p:pic>
            <p:nvPicPr>
              <p:cNvPr id="1296" name="Picture 5" descr="233"/>
              <p:cNvPicPr/>
              <p:nvPr/>
            </p:nvPicPr>
            <p:blipFill>
              <a:blip r:embed="rId2"/>
              <a:srcRect l="2544" t="0" r="24313" b="0"/>
              <a:stretch/>
            </p:blipFill>
            <p:spPr>
              <a:xfrm>
                <a:off x="571680" y="2214720"/>
                <a:ext cx="8072640" cy="364320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97" name="직사각형 29"/>
              <p:cNvSpPr/>
              <p:nvPr/>
            </p:nvSpPr>
            <p:spPr>
              <a:xfrm>
                <a:off x="857160" y="2286000"/>
                <a:ext cx="7929720" cy="3111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조작적 조건형성 기법을 이용해서 행동을 변화시키려는 절차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=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응용행동분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동수정의 기본전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모든 행동은 학습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따라서 특정 행동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A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를 다른 행동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B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로 대치시킬 수 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 또는 처벌을 효과적으로 활용하면 모든 행동을 수정할 수 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바람직한 행동을 증가시키는 방법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바람직하지 않은 행동을 감소시키는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방법으로 대별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98" name="타원 30"/>
              <p:cNvGrpSpPr/>
              <p:nvPr/>
            </p:nvGrpSpPr>
            <p:grpSpPr>
              <a:xfrm>
                <a:off x="975240" y="3669840"/>
                <a:ext cx="231480" cy="231480"/>
                <a:chOff x="975240" y="3669840"/>
                <a:chExt cx="231480" cy="231480"/>
              </a:xfrm>
            </p:grpSpPr>
            <p:pic>
              <p:nvPicPr>
                <p:cNvPr id="1299" name="타원 30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75240" y="3669840"/>
                  <a:ext cx="23148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00" name=""/>
                <p:cNvSpPr/>
                <p:nvPr/>
              </p:nvSpPr>
              <p:spPr>
                <a:xfrm rot="10800000">
                  <a:off x="1059120" y="372888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01" name="타원 31"/>
              <p:cNvGrpSpPr/>
              <p:nvPr/>
            </p:nvGrpSpPr>
            <p:grpSpPr>
              <a:xfrm>
                <a:off x="835200" y="3145680"/>
                <a:ext cx="225360" cy="231480"/>
                <a:chOff x="835200" y="3145680"/>
                <a:chExt cx="225360" cy="231480"/>
              </a:xfrm>
            </p:grpSpPr>
            <p:pic>
              <p:nvPicPr>
                <p:cNvPr id="1302" name="타원 31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35200" y="314568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03" name=""/>
                <p:cNvSpPr/>
                <p:nvPr/>
              </p:nvSpPr>
              <p:spPr>
                <a:xfrm rot="10800000">
                  <a:off x="916200" y="320220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4" name="타원 27"/>
            <p:cNvGrpSpPr/>
            <p:nvPr/>
          </p:nvGrpSpPr>
          <p:grpSpPr>
            <a:xfrm>
              <a:off x="835200" y="4743000"/>
              <a:ext cx="225360" cy="231480"/>
              <a:chOff x="835200" y="4743000"/>
              <a:chExt cx="225360" cy="231480"/>
            </a:xfrm>
          </p:grpSpPr>
          <p:pic>
            <p:nvPicPr>
              <p:cNvPr id="1305" name="타원 27" descr=""/>
              <p:cNvPicPr/>
              <p:nvPr/>
            </p:nvPicPr>
            <p:blipFill>
              <a:blip r:embed="rId5"/>
              <a:stretch/>
            </p:blipFill>
            <p:spPr>
              <a:xfrm>
                <a:off x="835200" y="47430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06" name=""/>
              <p:cNvSpPr/>
              <p:nvPr/>
            </p:nvSpPr>
            <p:spPr>
              <a:xfrm rot="10800000">
                <a:off x="916200" y="48009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07" name="오른쪽 화살표 33"/>
          <p:cNvGrpSpPr/>
          <p:nvPr/>
        </p:nvGrpSpPr>
        <p:grpSpPr>
          <a:xfrm>
            <a:off x="755640" y="2523960"/>
            <a:ext cx="353880" cy="311400"/>
            <a:chOff x="755640" y="2523960"/>
            <a:chExt cx="353880" cy="311400"/>
          </a:xfrm>
        </p:grpSpPr>
        <p:pic>
          <p:nvPicPr>
            <p:cNvPr id="1308" name="오른쪽 화살표 33" descr=""/>
            <p:cNvPicPr/>
            <p:nvPr/>
          </p:nvPicPr>
          <p:blipFill>
            <a:blip r:embed="rId6"/>
            <a:stretch/>
          </p:blipFill>
          <p:spPr>
            <a:xfrm>
              <a:off x="755640" y="2523960"/>
              <a:ext cx="353880" cy="31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9" name=""/>
            <p:cNvSpPr/>
            <p:nvPr/>
          </p:nvSpPr>
          <p:spPr>
            <a:xfrm>
              <a:off x="798480" y="2611440"/>
              <a:ext cx="174600" cy="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0" name="직선 연결선 34"/>
          <p:cNvSpPr/>
          <p:nvPr/>
        </p:nvSpPr>
        <p:spPr>
          <a:xfrm>
            <a:off x="3214800" y="3214800"/>
            <a:ext cx="5287680" cy="144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1" name="타원 36"/>
          <p:cNvGrpSpPr/>
          <p:nvPr/>
        </p:nvGrpSpPr>
        <p:grpSpPr>
          <a:xfrm>
            <a:off x="974880" y="4005360"/>
            <a:ext cx="225360" cy="231840"/>
            <a:chOff x="974880" y="4005360"/>
            <a:chExt cx="225360" cy="231840"/>
          </a:xfrm>
        </p:grpSpPr>
        <p:pic>
          <p:nvPicPr>
            <p:cNvPr id="1312" name="타원 36" descr=""/>
            <p:cNvPicPr/>
            <p:nvPr/>
          </p:nvPicPr>
          <p:blipFill>
            <a:blip r:embed="rId7"/>
            <a:stretch/>
          </p:blipFill>
          <p:spPr>
            <a:xfrm>
              <a:off x="974880" y="400536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3" name=""/>
            <p:cNvSpPr/>
            <p:nvPr/>
          </p:nvSpPr>
          <p:spPr>
            <a:xfrm rot="10800000">
              <a:off x="1058760" y="40593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4" name="직선 연결선 37"/>
          <p:cNvSpPr/>
          <p:nvPr/>
        </p:nvSpPr>
        <p:spPr>
          <a:xfrm>
            <a:off x="1000080" y="4429080"/>
            <a:ext cx="7502400" cy="180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슬라이드 번호 개체 틀 23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E5C00-0174-4341-83B8-FB9F81BD594E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6" name="TextBox 23" descr=""/>
          <p:cNvPicPr/>
          <p:nvPr/>
        </p:nvPicPr>
        <p:blipFill>
          <a:blip r:embed="rId8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1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슬라이드 번호 개체 틀 4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Arial"/>
              </a:rPr>
              <a:t>6-</a:t>
            </a:r>
            <a:fld id="{191286FE-EBAA-4AB4-9D9A-F886258C8901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Text Box 4"/>
          <p:cNvSpPr/>
          <p:nvPr/>
        </p:nvSpPr>
        <p:spPr>
          <a:xfrm>
            <a:off x="3108240" y="6006960"/>
            <a:ext cx="269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[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그림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6.3] 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강화 계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9" name="Group 113"/>
          <p:cNvGrpSpPr/>
          <p:nvPr/>
        </p:nvGrpSpPr>
        <p:grpSpPr>
          <a:xfrm>
            <a:off x="657360" y="1955880"/>
            <a:ext cx="8076960" cy="3969720"/>
            <a:chOff x="657360" y="1955880"/>
            <a:chExt cx="8076960" cy="3969720"/>
          </a:xfrm>
        </p:grpSpPr>
        <p:grpSp>
          <p:nvGrpSpPr>
            <p:cNvPr id="1320" name="Group 40"/>
            <p:cNvGrpSpPr/>
            <p:nvPr/>
          </p:nvGrpSpPr>
          <p:grpSpPr>
            <a:xfrm>
              <a:off x="2309760" y="1955880"/>
              <a:ext cx="2363760" cy="632880"/>
              <a:chOff x="2309760" y="1955880"/>
              <a:chExt cx="2363760" cy="632880"/>
            </a:xfrm>
          </p:grpSpPr>
          <p:sp>
            <p:nvSpPr>
              <p:cNvPr id="1321" name="AutoShape 41"/>
              <p:cNvSpPr/>
              <p:nvPr/>
            </p:nvSpPr>
            <p:spPr>
              <a:xfrm>
                <a:off x="2314080" y="1955880"/>
                <a:ext cx="2359440" cy="63288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2" name="Rectangle 42"/>
              <p:cNvSpPr/>
              <p:nvPr/>
            </p:nvSpPr>
            <p:spPr>
              <a:xfrm>
                <a:off x="2309760" y="1998360"/>
                <a:ext cx="2359440" cy="54936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계 획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3" name="Group 45"/>
            <p:cNvGrpSpPr/>
            <p:nvPr/>
          </p:nvGrpSpPr>
          <p:grpSpPr>
            <a:xfrm>
              <a:off x="657360" y="3073320"/>
              <a:ext cx="2113920" cy="618840"/>
              <a:chOff x="657360" y="3073320"/>
              <a:chExt cx="2113920" cy="618840"/>
            </a:xfrm>
          </p:grpSpPr>
          <p:sp>
            <p:nvSpPr>
              <p:cNvPr id="1324" name="AutoShape 46"/>
              <p:cNvSpPr/>
              <p:nvPr/>
            </p:nvSpPr>
            <p:spPr>
              <a:xfrm>
                <a:off x="661680" y="3073320"/>
                <a:ext cx="2109600" cy="6188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5" name="Rectangle 47"/>
              <p:cNvSpPr/>
              <p:nvPr/>
            </p:nvSpPr>
            <p:spPr>
              <a:xfrm>
                <a:off x="657360" y="3115080"/>
                <a:ext cx="2109600" cy="5371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연속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모든 행동 강화됨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6" name="Group 48"/>
            <p:cNvGrpSpPr/>
            <p:nvPr/>
          </p:nvGrpSpPr>
          <p:grpSpPr>
            <a:xfrm>
              <a:off x="4329000" y="3065400"/>
              <a:ext cx="2089440" cy="658440"/>
              <a:chOff x="4329000" y="3065400"/>
              <a:chExt cx="2089440" cy="658440"/>
            </a:xfrm>
          </p:grpSpPr>
          <p:sp>
            <p:nvSpPr>
              <p:cNvPr id="1327" name="AutoShape 49"/>
              <p:cNvSpPr/>
              <p:nvPr/>
            </p:nvSpPr>
            <p:spPr>
              <a:xfrm>
                <a:off x="4333320" y="3065400"/>
                <a:ext cx="2085120" cy="6584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8" name="Rectangle 50"/>
              <p:cNvSpPr/>
              <p:nvPr/>
            </p:nvSpPr>
            <p:spPr>
              <a:xfrm>
                <a:off x="4329000" y="3109680"/>
                <a:ext cx="2085120" cy="5713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간헐적 강화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몇 행동만 강화됨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9" name="Group 51"/>
            <p:cNvGrpSpPr/>
            <p:nvPr/>
          </p:nvGrpSpPr>
          <p:grpSpPr>
            <a:xfrm>
              <a:off x="1976400" y="5271840"/>
              <a:ext cx="1485720" cy="645840"/>
              <a:chOff x="1976400" y="5271840"/>
              <a:chExt cx="1485720" cy="645840"/>
            </a:xfrm>
          </p:grpSpPr>
          <p:sp>
            <p:nvSpPr>
              <p:cNvPr id="1330" name="AutoShape 52"/>
              <p:cNvSpPr/>
              <p:nvPr/>
            </p:nvSpPr>
            <p:spPr>
              <a:xfrm>
                <a:off x="1979280" y="5271840"/>
                <a:ext cx="1482840" cy="6458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1" name="Rectangle 53"/>
              <p:cNvSpPr/>
              <p:nvPr/>
            </p:nvSpPr>
            <p:spPr>
              <a:xfrm>
                <a:off x="1976400" y="5315400"/>
                <a:ext cx="1482840" cy="5605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고정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예상 가능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2" name="Group 54"/>
            <p:cNvGrpSpPr/>
            <p:nvPr/>
          </p:nvGrpSpPr>
          <p:grpSpPr>
            <a:xfrm>
              <a:off x="2604960" y="4182840"/>
              <a:ext cx="1887480" cy="631440"/>
              <a:chOff x="2604960" y="4182840"/>
              <a:chExt cx="1887480" cy="631440"/>
            </a:xfrm>
          </p:grpSpPr>
          <p:sp>
            <p:nvSpPr>
              <p:cNvPr id="1333" name="AutoShape 55"/>
              <p:cNvSpPr/>
              <p:nvPr/>
            </p:nvSpPr>
            <p:spPr>
              <a:xfrm>
                <a:off x="2609280" y="4182840"/>
                <a:ext cx="1883160" cy="6314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4" name="Rectangle 56"/>
              <p:cNvSpPr/>
              <p:nvPr/>
            </p:nvSpPr>
            <p:spPr>
              <a:xfrm>
                <a:off x="2604960" y="4225320"/>
                <a:ext cx="1883520" cy="5479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간격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시간에 따라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5" name="Group 60"/>
            <p:cNvGrpSpPr/>
            <p:nvPr/>
          </p:nvGrpSpPr>
          <p:grpSpPr>
            <a:xfrm>
              <a:off x="6127920" y="4200480"/>
              <a:ext cx="1950840" cy="632880"/>
              <a:chOff x="6127920" y="4200480"/>
              <a:chExt cx="1950840" cy="632880"/>
            </a:xfrm>
          </p:grpSpPr>
          <p:sp>
            <p:nvSpPr>
              <p:cNvPr id="1336" name="AutoShape 61"/>
              <p:cNvSpPr/>
              <p:nvPr/>
            </p:nvSpPr>
            <p:spPr>
              <a:xfrm>
                <a:off x="6132600" y="4200480"/>
                <a:ext cx="1946160" cy="63288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7" name="Rectangle 62"/>
              <p:cNvSpPr/>
              <p:nvPr/>
            </p:nvSpPr>
            <p:spPr>
              <a:xfrm>
                <a:off x="6127920" y="4242960"/>
                <a:ext cx="1946160" cy="54936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비율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 변화에 따라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8" name="Group 87"/>
            <p:cNvGrpSpPr/>
            <p:nvPr/>
          </p:nvGrpSpPr>
          <p:grpSpPr>
            <a:xfrm>
              <a:off x="3683160" y="5273640"/>
              <a:ext cx="1487160" cy="645840"/>
              <a:chOff x="3683160" y="5273640"/>
              <a:chExt cx="1487160" cy="645840"/>
            </a:xfrm>
          </p:grpSpPr>
          <p:sp>
            <p:nvSpPr>
              <p:cNvPr id="1339" name="AutoShape 88"/>
              <p:cNvSpPr/>
              <p:nvPr/>
            </p:nvSpPr>
            <p:spPr>
              <a:xfrm>
                <a:off x="3686040" y="5273640"/>
                <a:ext cx="1484280" cy="6458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0" name="Rectangle 89"/>
              <p:cNvSpPr/>
              <p:nvPr/>
            </p:nvSpPr>
            <p:spPr>
              <a:xfrm>
                <a:off x="3683160" y="5317200"/>
                <a:ext cx="1484280" cy="5605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변동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예상 불가능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1" name="Group 90"/>
            <p:cNvGrpSpPr/>
            <p:nvPr/>
          </p:nvGrpSpPr>
          <p:grpSpPr>
            <a:xfrm>
              <a:off x="5538960" y="5276880"/>
              <a:ext cx="1498320" cy="645480"/>
              <a:chOff x="5538960" y="5276880"/>
              <a:chExt cx="1498320" cy="645480"/>
            </a:xfrm>
          </p:grpSpPr>
          <p:sp>
            <p:nvSpPr>
              <p:cNvPr id="1342" name="AutoShape 91"/>
              <p:cNvSpPr/>
              <p:nvPr/>
            </p:nvSpPr>
            <p:spPr>
              <a:xfrm>
                <a:off x="5542200" y="5276880"/>
                <a:ext cx="1495080" cy="64548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3" name="Rectangle 92"/>
              <p:cNvSpPr/>
              <p:nvPr/>
            </p:nvSpPr>
            <p:spPr>
              <a:xfrm>
                <a:off x="5538960" y="5320440"/>
                <a:ext cx="1495080" cy="56016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고정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예상 가능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4" name="Group 93"/>
            <p:cNvGrpSpPr/>
            <p:nvPr/>
          </p:nvGrpSpPr>
          <p:grpSpPr>
            <a:xfrm>
              <a:off x="7210440" y="5279760"/>
              <a:ext cx="1523880" cy="645840"/>
              <a:chOff x="7210440" y="5279760"/>
              <a:chExt cx="1523880" cy="645840"/>
            </a:xfrm>
          </p:grpSpPr>
          <p:sp>
            <p:nvSpPr>
              <p:cNvPr id="1345" name="AutoShape 94"/>
              <p:cNvSpPr/>
              <p:nvPr/>
            </p:nvSpPr>
            <p:spPr>
              <a:xfrm>
                <a:off x="7213680" y="5279760"/>
                <a:ext cx="1520640" cy="6458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6" name="Rectangle 95"/>
              <p:cNvSpPr/>
              <p:nvPr/>
            </p:nvSpPr>
            <p:spPr>
              <a:xfrm>
                <a:off x="7210440" y="5323320"/>
                <a:ext cx="1520640" cy="5605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변동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예상 불가능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7" name="Group 97"/>
            <p:cNvGrpSpPr/>
            <p:nvPr/>
          </p:nvGrpSpPr>
          <p:grpSpPr>
            <a:xfrm>
              <a:off x="1641600" y="2603520"/>
              <a:ext cx="3719520" cy="466560"/>
              <a:chOff x="1641600" y="2603520"/>
              <a:chExt cx="3719520" cy="466560"/>
            </a:xfrm>
          </p:grpSpPr>
          <p:sp>
            <p:nvSpPr>
              <p:cNvPr id="1348" name="Line 43"/>
              <p:cNvSpPr/>
              <p:nvPr/>
            </p:nvSpPr>
            <p:spPr>
              <a:xfrm>
                <a:off x="1660680" y="2838240"/>
                <a:ext cx="3700440" cy="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9" name="Line 44"/>
              <p:cNvSpPr/>
              <p:nvPr/>
            </p:nvSpPr>
            <p:spPr>
              <a:xfrm>
                <a:off x="1641600" y="2809800"/>
                <a:ext cx="144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0" name="Line 72"/>
              <p:cNvSpPr/>
              <p:nvPr/>
            </p:nvSpPr>
            <p:spPr>
              <a:xfrm>
                <a:off x="3467160" y="2603520"/>
                <a:ext cx="1440" cy="19512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1" name="Line 96"/>
              <p:cNvSpPr/>
              <p:nvPr/>
            </p:nvSpPr>
            <p:spPr>
              <a:xfrm>
                <a:off x="5340240" y="2813040"/>
                <a:ext cx="180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52" name="Group 98"/>
            <p:cNvGrpSpPr/>
            <p:nvPr/>
          </p:nvGrpSpPr>
          <p:grpSpPr>
            <a:xfrm>
              <a:off x="3600360" y="3746520"/>
              <a:ext cx="3531960" cy="466560"/>
              <a:chOff x="3600360" y="3746520"/>
              <a:chExt cx="3531960" cy="466560"/>
            </a:xfrm>
          </p:grpSpPr>
          <p:sp>
            <p:nvSpPr>
              <p:cNvPr id="1353" name="Line 99"/>
              <p:cNvSpPr/>
              <p:nvPr/>
            </p:nvSpPr>
            <p:spPr>
              <a:xfrm>
                <a:off x="3618360" y="3981240"/>
                <a:ext cx="3513960" cy="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4" name="Line 100"/>
              <p:cNvSpPr/>
              <p:nvPr/>
            </p:nvSpPr>
            <p:spPr>
              <a:xfrm>
                <a:off x="3600360" y="3952800"/>
                <a:ext cx="108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5" name="Line 101"/>
              <p:cNvSpPr/>
              <p:nvPr/>
            </p:nvSpPr>
            <p:spPr>
              <a:xfrm>
                <a:off x="5333760" y="3746520"/>
                <a:ext cx="1080" cy="19512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6" name="Line 102"/>
              <p:cNvSpPr/>
              <p:nvPr/>
            </p:nvSpPr>
            <p:spPr>
              <a:xfrm>
                <a:off x="7112520" y="3956040"/>
                <a:ext cx="144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57" name="Group 103"/>
            <p:cNvGrpSpPr/>
            <p:nvPr/>
          </p:nvGrpSpPr>
          <p:grpSpPr>
            <a:xfrm>
              <a:off x="6145200" y="4813200"/>
              <a:ext cx="1965240" cy="466560"/>
              <a:chOff x="6145200" y="4813200"/>
              <a:chExt cx="1965240" cy="466560"/>
            </a:xfrm>
          </p:grpSpPr>
          <p:sp>
            <p:nvSpPr>
              <p:cNvPr id="1358" name="Line 104"/>
              <p:cNvSpPr/>
              <p:nvPr/>
            </p:nvSpPr>
            <p:spPr>
              <a:xfrm>
                <a:off x="6155280" y="5047920"/>
                <a:ext cx="1955160" cy="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9" name="Line 105"/>
              <p:cNvSpPr/>
              <p:nvPr/>
            </p:nvSpPr>
            <p:spPr>
              <a:xfrm>
                <a:off x="6145200" y="5019480"/>
                <a:ext cx="72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0" name="Line 106"/>
              <p:cNvSpPr/>
              <p:nvPr/>
            </p:nvSpPr>
            <p:spPr>
              <a:xfrm>
                <a:off x="7109640" y="4813200"/>
                <a:ext cx="720" cy="19512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1" name="Line 107"/>
              <p:cNvSpPr/>
              <p:nvPr/>
            </p:nvSpPr>
            <p:spPr>
              <a:xfrm>
                <a:off x="8099280" y="5022720"/>
                <a:ext cx="72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62" name="Group 108"/>
            <p:cNvGrpSpPr/>
            <p:nvPr/>
          </p:nvGrpSpPr>
          <p:grpSpPr>
            <a:xfrm>
              <a:off x="2616120" y="4816440"/>
              <a:ext cx="1965600" cy="466560"/>
              <a:chOff x="2616120" y="4816440"/>
              <a:chExt cx="1965600" cy="466560"/>
            </a:xfrm>
          </p:grpSpPr>
          <p:sp>
            <p:nvSpPr>
              <p:cNvPr id="1363" name="Line 109"/>
              <p:cNvSpPr/>
              <p:nvPr/>
            </p:nvSpPr>
            <p:spPr>
              <a:xfrm>
                <a:off x="2626200" y="5051160"/>
                <a:ext cx="1955520" cy="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4" name="Line 110"/>
              <p:cNvSpPr/>
              <p:nvPr/>
            </p:nvSpPr>
            <p:spPr>
              <a:xfrm>
                <a:off x="2616120" y="5022720"/>
                <a:ext cx="72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5" name="Line 111"/>
              <p:cNvSpPr/>
              <p:nvPr/>
            </p:nvSpPr>
            <p:spPr>
              <a:xfrm>
                <a:off x="3580920" y="4816440"/>
                <a:ext cx="720" cy="19512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6" name="Line 112"/>
              <p:cNvSpPr/>
              <p:nvPr/>
            </p:nvSpPr>
            <p:spPr>
              <a:xfrm>
                <a:off x="4570560" y="5025960"/>
                <a:ext cx="72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367" name="TextBox 54" descr=""/>
          <p:cNvPicPr/>
          <p:nvPr/>
        </p:nvPicPr>
        <p:blipFill>
          <a:blip r:embed="rId1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  <p:sp>
        <p:nvSpPr>
          <p:cNvPr id="1368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9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37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71" name="직사각형 23"/>
              <p:cNvSpPr/>
              <p:nvPr/>
            </p:nvSpPr>
            <p:spPr>
              <a:xfrm>
                <a:off x="1406880" y="1385640"/>
                <a:ext cx="334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수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behavior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ification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7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7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76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7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78" name="TextBox 88"/>
            <p:cNvSpPr/>
            <p:nvPr/>
          </p:nvSpPr>
          <p:spPr>
            <a:xfrm>
              <a:off x="67860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9" name="그룹 37"/>
          <p:cNvGrpSpPr/>
          <p:nvPr/>
        </p:nvGrpSpPr>
        <p:grpSpPr>
          <a:xfrm>
            <a:off x="357120" y="1857240"/>
            <a:ext cx="8286840" cy="4000680"/>
            <a:chOff x="357120" y="1857240"/>
            <a:chExt cx="8286840" cy="4000680"/>
          </a:xfrm>
        </p:grpSpPr>
        <p:grpSp>
          <p:nvGrpSpPr>
            <p:cNvPr id="1380" name="그룹 91"/>
            <p:cNvGrpSpPr/>
            <p:nvPr/>
          </p:nvGrpSpPr>
          <p:grpSpPr>
            <a:xfrm>
              <a:off x="357120" y="1857240"/>
              <a:ext cx="8286840" cy="4000680"/>
              <a:chOff x="357120" y="1857240"/>
              <a:chExt cx="8286840" cy="4000680"/>
            </a:xfrm>
          </p:grpSpPr>
          <p:pic>
            <p:nvPicPr>
              <p:cNvPr id="1381" name="Picture 5" descr="233"/>
              <p:cNvPicPr/>
              <p:nvPr/>
            </p:nvPicPr>
            <p:blipFill>
              <a:blip r:embed="rId2"/>
              <a:srcRect l="0" t="0" r="24313" b="0"/>
              <a:stretch/>
            </p:blipFill>
            <p:spPr>
              <a:xfrm>
                <a:off x="357120" y="2142720"/>
                <a:ext cx="8286840" cy="371520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382" name="그룹 34"/>
              <p:cNvGrpSpPr/>
              <p:nvPr/>
            </p:nvGrpSpPr>
            <p:grpSpPr>
              <a:xfrm>
                <a:off x="928440" y="1947240"/>
                <a:ext cx="349200" cy="381240"/>
                <a:chOff x="928440" y="1947240"/>
                <a:chExt cx="349200" cy="381240"/>
              </a:xfrm>
            </p:grpSpPr>
            <p:pic>
              <p:nvPicPr>
                <p:cNvPr id="1383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28440" y="1974240"/>
                  <a:ext cx="349200" cy="35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84" name="TextBox 36"/>
                <p:cNvSpPr/>
                <p:nvPr/>
              </p:nvSpPr>
              <p:spPr>
                <a:xfrm>
                  <a:off x="963720" y="1947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85" name="직사각형 103"/>
              <p:cNvSpPr/>
              <p:nvPr/>
            </p:nvSpPr>
            <p:spPr>
              <a:xfrm>
                <a:off x="1968480" y="1857240"/>
                <a:ext cx="251100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바람직한 행동을 증가시키는 방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86" name="직선 연결선 100"/>
            <p:cNvSpPr/>
            <p:nvPr/>
          </p:nvSpPr>
          <p:spPr>
            <a:xfrm>
              <a:off x="5786640" y="2142720"/>
              <a:ext cx="271620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7" name="그룹 52"/>
          <p:cNvGrpSpPr/>
          <p:nvPr/>
        </p:nvGrpSpPr>
        <p:grpSpPr>
          <a:xfrm>
            <a:off x="1008000" y="2571840"/>
            <a:ext cx="7729560" cy="3057120"/>
            <a:chOff x="1008000" y="2571840"/>
            <a:chExt cx="7729560" cy="3057120"/>
          </a:xfrm>
        </p:grpSpPr>
        <p:grpSp>
          <p:nvGrpSpPr>
            <p:cNvPr id="1388" name="그룹 142"/>
            <p:cNvGrpSpPr/>
            <p:nvPr/>
          </p:nvGrpSpPr>
          <p:grpSpPr>
            <a:xfrm>
              <a:off x="1008000" y="2571840"/>
              <a:ext cx="1919880" cy="505440"/>
              <a:chOff x="1008000" y="2571840"/>
              <a:chExt cx="1919880" cy="505440"/>
            </a:xfrm>
          </p:grpSpPr>
          <p:grpSp>
            <p:nvGrpSpPr>
              <p:cNvPr id="1389" name="그룹 97"/>
              <p:cNvGrpSpPr/>
              <p:nvPr/>
            </p:nvGrpSpPr>
            <p:grpSpPr>
              <a:xfrm>
                <a:off x="1008000" y="2630160"/>
                <a:ext cx="295200" cy="338040"/>
                <a:chOff x="1008000" y="2630160"/>
                <a:chExt cx="295200" cy="338040"/>
              </a:xfrm>
            </p:grpSpPr>
            <p:pic>
              <p:nvPicPr>
                <p:cNvPr id="1390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017720" y="2687040"/>
                  <a:ext cx="281880" cy="281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91" name="TextBox 146"/>
                <p:cNvSpPr/>
                <p:nvPr/>
              </p:nvSpPr>
              <p:spPr>
                <a:xfrm>
                  <a:off x="1008000" y="26301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92" name="직사각형 115"/>
              <p:cNvSpPr/>
              <p:nvPr/>
            </p:nvSpPr>
            <p:spPr>
              <a:xfrm>
                <a:off x="1242720" y="2571840"/>
                <a:ext cx="16851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동조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shaping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93" name="직선 연결선 109"/>
            <p:cNvSpPr/>
            <p:nvPr/>
          </p:nvSpPr>
          <p:spPr>
            <a:xfrm>
              <a:off x="4500360" y="28573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94" name="그룹 114"/>
            <p:cNvGrpSpPr/>
            <p:nvPr/>
          </p:nvGrpSpPr>
          <p:grpSpPr>
            <a:xfrm>
              <a:off x="1377720" y="2928960"/>
              <a:ext cx="7359840" cy="2700000"/>
              <a:chOff x="1377720" y="2928960"/>
              <a:chExt cx="7359840" cy="2700000"/>
            </a:xfrm>
          </p:grpSpPr>
          <p:sp>
            <p:nvSpPr>
              <p:cNvPr id="1395" name="직사각형 37"/>
              <p:cNvSpPr/>
              <p:nvPr/>
            </p:nvSpPr>
            <p:spPr>
              <a:xfrm>
                <a:off x="1564200" y="2928960"/>
                <a:ext cx="7173360" cy="2700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용해서 목표행동을 점진적으로 형성하는 기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동조성은 차별강화와 점진적 접근으로 이루어져 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차별강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어떤 반응에는 강화를 주고 어떤 반응에는 강화를 주지 않는 것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점진적 접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목표행동에 근접하는 행동에만 강화를 주는 것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복잡한 행동을 단계적으로 형성하고자 할 경우 적합하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96" name="타원 112"/>
              <p:cNvGrpSpPr/>
              <p:nvPr/>
            </p:nvGrpSpPr>
            <p:grpSpPr>
              <a:xfrm>
                <a:off x="1377720" y="3169800"/>
                <a:ext cx="223200" cy="231480"/>
                <a:chOff x="1377720" y="3169800"/>
                <a:chExt cx="223200" cy="231480"/>
              </a:xfrm>
            </p:grpSpPr>
            <p:pic>
              <p:nvPicPr>
                <p:cNvPr id="1397" name="타원 11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377720" y="316980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98" name=""/>
                <p:cNvSpPr/>
                <p:nvPr/>
              </p:nvSpPr>
              <p:spPr>
                <a:xfrm rot="10800000">
                  <a:off x="1458000" y="32288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99" name="타원 113"/>
              <p:cNvGrpSpPr/>
              <p:nvPr/>
            </p:nvGrpSpPr>
            <p:grpSpPr>
              <a:xfrm>
                <a:off x="1377720" y="3791520"/>
                <a:ext cx="223200" cy="231480"/>
                <a:chOff x="1377720" y="3791520"/>
                <a:chExt cx="223200" cy="231480"/>
              </a:xfrm>
            </p:grpSpPr>
            <p:pic>
              <p:nvPicPr>
                <p:cNvPr id="1400" name="타원 113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377720" y="379152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01" name=""/>
                <p:cNvSpPr/>
                <p:nvPr/>
              </p:nvSpPr>
              <p:spPr>
                <a:xfrm rot="10800000">
                  <a:off x="1458000" y="38455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2" name="타원 119"/>
              <p:cNvGrpSpPr/>
              <p:nvPr/>
            </p:nvGrpSpPr>
            <p:grpSpPr>
              <a:xfrm>
                <a:off x="1377720" y="5242680"/>
                <a:ext cx="223200" cy="231480"/>
                <a:chOff x="1377720" y="5242680"/>
                <a:chExt cx="223200" cy="231480"/>
              </a:xfrm>
            </p:grpSpPr>
            <p:pic>
              <p:nvPicPr>
                <p:cNvPr id="1403" name="타원 119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77720" y="524268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04" name=""/>
                <p:cNvSpPr/>
                <p:nvPr/>
              </p:nvSpPr>
              <p:spPr>
                <a:xfrm rot="10800000">
                  <a:off x="1458000" y="53013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5" name="타원 120"/>
              <p:cNvGrpSpPr/>
              <p:nvPr/>
            </p:nvGrpSpPr>
            <p:grpSpPr>
              <a:xfrm>
                <a:off x="1540800" y="4291560"/>
                <a:ext cx="229320" cy="231480"/>
                <a:chOff x="1540800" y="4291560"/>
                <a:chExt cx="229320" cy="231480"/>
              </a:xfrm>
            </p:grpSpPr>
            <p:pic>
              <p:nvPicPr>
                <p:cNvPr id="1406" name="타원 120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540800" y="429156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07" name=""/>
                <p:cNvSpPr/>
                <p:nvPr/>
              </p:nvSpPr>
              <p:spPr>
                <a:xfrm rot="10800000">
                  <a:off x="1623600" y="43455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8" name="타원 121"/>
              <p:cNvGrpSpPr/>
              <p:nvPr/>
            </p:nvGrpSpPr>
            <p:grpSpPr>
              <a:xfrm>
                <a:off x="1540800" y="4742640"/>
                <a:ext cx="229320" cy="231480"/>
                <a:chOff x="1540800" y="4742640"/>
                <a:chExt cx="229320" cy="231480"/>
              </a:xfrm>
            </p:grpSpPr>
            <p:pic>
              <p:nvPicPr>
                <p:cNvPr id="1409" name="타원 121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540800" y="474264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10" name=""/>
                <p:cNvSpPr/>
                <p:nvPr/>
              </p:nvSpPr>
              <p:spPr>
                <a:xfrm rot="10800000">
                  <a:off x="1623600" y="48009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11" name="슬라이드 번호 개체 틀 32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0DF0F-F026-4AE9-9B82-042196CF42C8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2" name="TextBox 33" descr=""/>
          <p:cNvPicPr/>
          <p:nvPr/>
        </p:nvPicPr>
        <p:blipFill>
          <a:blip r:embed="rId10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1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3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41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415" name="직사각형 23"/>
              <p:cNvSpPr/>
              <p:nvPr/>
            </p:nvSpPr>
            <p:spPr>
              <a:xfrm>
                <a:off x="1406880" y="1385640"/>
                <a:ext cx="334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수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behavior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ification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41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1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420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2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22" name="TextBox 88"/>
            <p:cNvSpPr/>
            <p:nvPr/>
          </p:nvSpPr>
          <p:spPr>
            <a:xfrm>
              <a:off x="67860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3" name="그룹 37"/>
          <p:cNvGrpSpPr/>
          <p:nvPr/>
        </p:nvGrpSpPr>
        <p:grpSpPr>
          <a:xfrm>
            <a:off x="357120" y="1857240"/>
            <a:ext cx="8286840" cy="4500720"/>
            <a:chOff x="357120" y="1857240"/>
            <a:chExt cx="8286840" cy="4500720"/>
          </a:xfrm>
        </p:grpSpPr>
        <p:grpSp>
          <p:nvGrpSpPr>
            <p:cNvPr id="1424" name="그룹 91"/>
            <p:cNvGrpSpPr/>
            <p:nvPr/>
          </p:nvGrpSpPr>
          <p:grpSpPr>
            <a:xfrm>
              <a:off x="357120" y="1857240"/>
              <a:ext cx="8286840" cy="4500720"/>
              <a:chOff x="357120" y="1857240"/>
              <a:chExt cx="8286840" cy="4500720"/>
            </a:xfrm>
          </p:grpSpPr>
          <p:pic>
            <p:nvPicPr>
              <p:cNvPr id="1425" name="Picture 5" descr="233"/>
              <p:cNvPicPr/>
              <p:nvPr/>
            </p:nvPicPr>
            <p:blipFill>
              <a:blip r:embed="rId2"/>
              <a:srcRect l="0" t="0" r="24313" b="0"/>
              <a:stretch/>
            </p:blipFill>
            <p:spPr>
              <a:xfrm>
                <a:off x="357120" y="2142720"/>
                <a:ext cx="8286840" cy="42152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426" name="그룹 34"/>
              <p:cNvGrpSpPr/>
              <p:nvPr/>
            </p:nvGrpSpPr>
            <p:grpSpPr>
              <a:xfrm>
                <a:off x="928440" y="1947240"/>
                <a:ext cx="349200" cy="381240"/>
                <a:chOff x="928440" y="1947240"/>
                <a:chExt cx="349200" cy="381240"/>
              </a:xfrm>
            </p:grpSpPr>
            <p:pic>
              <p:nvPicPr>
                <p:cNvPr id="1427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28440" y="1974240"/>
                  <a:ext cx="349200" cy="35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28" name="TextBox 36"/>
                <p:cNvSpPr/>
                <p:nvPr/>
              </p:nvSpPr>
              <p:spPr>
                <a:xfrm>
                  <a:off x="963720" y="1947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29" name="직사각형 103"/>
              <p:cNvSpPr/>
              <p:nvPr/>
            </p:nvSpPr>
            <p:spPr>
              <a:xfrm>
                <a:off x="1968480" y="1857240"/>
                <a:ext cx="251100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바람직한 행동을 증가시키는 방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30" name="직선 연결선 100"/>
            <p:cNvSpPr/>
            <p:nvPr/>
          </p:nvSpPr>
          <p:spPr>
            <a:xfrm>
              <a:off x="5786640" y="2142720"/>
              <a:ext cx="271620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1" name="그룹 52"/>
          <p:cNvGrpSpPr/>
          <p:nvPr/>
        </p:nvGrpSpPr>
        <p:grpSpPr>
          <a:xfrm>
            <a:off x="1012320" y="2576520"/>
            <a:ext cx="7725240" cy="999720"/>
            <a:chOff x="1012320" y="2576520"/>
            <a:chExt cx="7725240" cy="999720"/>
          </a:xfrm>
        </p:grpSpPr>
        <p:grpSp>
          <p:nvGrpSpPr>
            <p:cNvPr id="1432" name="그룹 142"/>
            <p:cNvGrpSpPr/>
            <p:nvPr/>
          </p:nvGrpSpPr>
          <p:grpSpPr>
            <a:xfrm>
              <a:off x="1012320" y="2576520"/>
              <a:ext cx="2606040" cy="505440"/>
              <a:chOff x="1012320" y="2576520"/>
              <a:chExt cx="2606040" cy="505440"/>
            </a:xfrm>
          </p:grpSpPr>
          <p:grpSp>
            <p:nvGrpSpPr>
              <p:cNvPr id="1433" name="그룹 97"/>
              <p:cNvGrpSpPr/>
              <p:nvPr/>
            </p:nvGrpSpPr>
            <p:grpSpPr>
              <a:xfrm>
                <a:off x="1012320" y="2634480"/>
                <a:ext cx="305640" cy="338760"/>
                <a:chOff x="1012320" y="2634480"/>
                <a:chExt cx="305640" cy="338760"/>
              </a:xfrm>
            </p:grpSpPr>
            <p:pic>
              <p:nvPicPr>
                <p:cNvPr id="1434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017720" y="2692800"/>
                  <a:ext cx="286560" cy="280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35" name="TextBox 146"/>
                <p:cNvSpPr/>
                <p:nvPr/>
              </p:nvSpPr>
              <p:spPr>
                <a:xfrm>
                  <a:off x="1012320" y="26344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36" name="직사각형 115"/>
              <p:cNvSpPr/>
              <p:nvPr/>
            </p:nvSpPr>
            <p:spPr>
              <a:xfrm>
                <a:off x="1243440" y="2576520"/>
                <a:ext cx="23749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토큰경제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token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econom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37" name="직선 연결선 109"/>
            <p:cNvSpPr/>
            <p:nvPr/>
          </p:nvSpPr>
          <p:spPr>
            <a:xfrm>
              <a:off x="4500360" y="286236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38" name="그룹 114"/>
            <p:cNvGrpSpPr/>
            <p:nvPr/>
          </p:nvGrpSpPr>
          <p:grpSpPr>
            <a:xfrm>
              <a:off x="1377720" y="2933640"/>
              <a:ext cx="7359840" cy="642600"/>
              <a:chOff x="1377720" y="2933640"/>
              <a:chExt cx="7359840" cy="642600"/>
            </a:xfrm>
          </p:grpSpPr>
          <p:sp>
            <p:nvSpPr>
              <p:cNvPr id="1439" name="직사각형 37"/>
              <p:cNvSpPr/>
              <p:nvPr/>
            </p:nvSpPr>
            <p:spPr>
              <a:xfrm>
                <a:off x="1564200" y="2933640"/>
                <a:ext cx="7173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토큰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용해서 바람직한 반응의 확률을 증가시키려는 기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40" name="타원 112"/>
              <p:cNvGrpSpPr/>
              <p:nvPr/>
            </p:nvGrpSpPr>
            <p:grpSpPr>
              <a:xfrm>
                <a:off x="1377720" y="3224880"/>
                <a:ext cx="223200" cy="231840"/>
                <a:chOff x="1377720" y="3224880"/>
                <a:chExt cx="223200" cy="231840"/>
              </a:xfrm>
            </p:grpSpPr>
            <p:pic>
              <p:nvPicPr>
                <p:cNvPr id="1441" name="타원 11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377720" y="3224880"/>
                  <a:ext cx="223200" cy="23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42" name=""/>
                <p:cNvSpPr/>
                <p:nvPr/>
              </p:nvSpPr>
              <p:spPr>
                <a:xfrm rot="10800000">
                  <a:off x="1458000" y="32788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443" name="그룹 52"/>
          <p:cNvGrpSpPr/>
          <p:nvPr/>
        </p:nvGrpSpPr>
        <p:grpSpPr>
          <a:xfrm>
            <a:off x="1017720" y="3786120"/>
            <a:ext cx="7719840" cy="2097000"/>
            <a:chOff x="1017720" y="3786120"/>
            <a:chExt cx="7719840" cy="2097000"/>
          </a:xfrm>
        </p:grpSpPr>
        <p:grpSp>
          <p:nvGrpSpPr>
            <p:cNvPr id="1444" name="그룹 142"/>
            <p:cNvGrpSpPr/>
            <p:nvPr/>
          </p:nvGrpSpPr>
          <p:grpSpPr>
            <a:xfrm>
              <a:off x="1017720" y="3786120"/>
              <a:ext cx="3192840" cy="505440"/>
              <a:chOff x="1017720" y="3786120"/>
              <a:chExt cx="3192840" cy="505440"/>
            </a:xfrm>
          </p:grpSpPr>
          <p:grpSp>
            <p:nvGrpSpPr>
              <p:cNvPr id="1445" name="그룹 97"/>
              <p:cNvGrpSpPr/>
              <p:nvPr/>
            </p:nvGrpSpPr>
            <p:grpSpPr>
              <a:xfrm>
                <a:off x="1017720" y="3844080"/>
                <a:ext cx="283680" cy="338760"/>
                <a:chOff x="1017720" y="3844080"/>
                <a:chExt cx="283680" cy="338760"/>
              </a:xfrm>
            </p:grpSpPr>
            <p:pic>
              <p:nvPicPr>
                <p:cNvPr id="1446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017720" y="3900240"/>
                  <a:ext cx="283680" cy="28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47" name="TextBox 146"/>
                <p:cNvSpPr/>
                <p:nvPr/>
              </p:nvSpPr>
              <p:spPr>
                <a:xfrm>
                  <a:off x="1018080" y="384408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48" name="직사각형 54"/>
              <p:cNvSpPr/>
              <p:nvPr/>
            </p:nvSpPr>
            <p:spPr>
              <a:xfrm>
                <a:off x="1225800" y="3786120"/>
                <a:ext cx="29847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행계약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performance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contrac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49" name="직선 연결선 48"/>
            <p:cNvSpPr/>
            <p:nvPr/>
          </p:nvSpPr>
          <p:spPr>
            <a:xfrm>
              <a:off x="4500360" y="407160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50" name="그룹 114"/>
            <p:cNvGrpSpPr/>
            <p:nvPr/>
          </p:nvGrpSpPr>
          <p:grpSpPr>
            <a:xfrm>
              <a:off x="1377720" y="4143240"/>
              <a:ext cx="7359840" cy="1739880"/>
              <a:chOff x="1377720" y="4143240"/>
              <a:chExt cx="7359840" cy="1739880"/>
            </a:xfrm>
          </p:grpSpPr>
          <p:sp>
            <p:nvSpPr>
              <p:cNvPr id="1451" name="직사각형 37"/>
              <p:cNvSpPr/>
              <p:nvPr/>
            </p:nvSpPr>
            <p:spPr>
              <a:xfrm>
                <a:off x="1564200" y="4143240"/>
                <a:ext cx="717336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정행동을 하면 다른 사람이 강화를 제공해야 한다는 것을 명시한 계약을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용해서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동을 수정하는 기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행계약을 할 때 목표행동은 구체적이어야 하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간적으로 근접해야 하며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다소 어렵지만 달성할 수 있어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52" name="타원 51"/>
              <p:cNvGrpSpPr/>
              <p:nvPr/>
            </p:nvGrpSpPr>
            <p:grpSpPr>
              <a:xfrm>
                <a:off x="1377720" y="4407120"/>
                <a:ext cx="223200" cy="231480"/>
                <a:chOff x="1377720" y="4407120"/>
                <a:chExt cx="223200" cy="231480"/>
              </a:xfrm>
            </p:grpSpPr>
            <p:pic>
              <p:nvPicPr>
                <p:cNvPr id="1453" name="타원 5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77720" y="440712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54" name=""/>
                <p:cNvSpPr/>
                <p:nvPr/>
              </p:nvSpPr>
              <p:spPr>
                <a:xfrm rot="10800000">
                  <a:off x="1458000" y="44650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55" name="타원 44"/>
              <p:cNvGrpSpPr/>
              <p:nvPr/>
            </p:nvGrpSpPr>
            <p:grpSpPr>
              <a:xfrm>
                <a:off x="1377720" y="5218200"/>
                <a:ext cx="223200" cy="231480"/>
                <a:chOff x="1377720" y="5218200"/>
                <a:chExt cx="223200" cy="231480"/>
              </a:xfrm>
            </p:grpSpPr>
            <p:pic>
              <p:nvPicPr>
                <p:cNvPr id="1456" name="타원 4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7720" y="521820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57" name=""/>
                <p:cNvSpPr/>
                <p:nvPr/>
              </p:nvSpPr>
              <p:spPr>
                <a:xfrm rot="10800000">
                  <a:off x="1458000" y="52776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58" name="슬라이드 번호 개체 틀 39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F5B56-B8C8-4E1A-A897-3C993BF5B70F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9" name="TextBox 40" descr=""/>
          <p:cNvPicPr/>
          <p:nvPr/>
        </p:nvPicPr>
        <p:blipFill>
          <a:blip r:embed="rId9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1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0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46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462" name="직사각형 23"/>
              <p:cNvSpPr/>
              <p:nvPr/>
            </p:nvSpPr>
            <p:spPr>
              <a:xfrm>
                <a:off x="1406880" y="1385640"/>
                <a:ext cx="334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수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behavior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ification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3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46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6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467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6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69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0" name="그룹 37"/>
          <p:cNvGrpSpPr/>
          <p:nvPr/>
        </p:nvGrpSpPr>
        <p:grpSpPr>
          <a:xfrm>
            <a:off x="357120" y="1857240"/>
            <a:ext cx="8286840" cy="4643640"/>
            <a:chOff x="357120" y="1857240"/>
            <a:chExt cx="8286840" cy="4643640"/>
          </a:xfrm>
        </p:grpSpPr>
        <p:grpSp>
          <p:nvGrpSpPr>
            <p:cNvPr id="1471" name="그룹 91"/>
            <p:cNvGrpSpPr/>
            <p:nvPr/>
          </p:nvGrpSpPr>
          <p:grpSpPr>
            <a:xfrm>
              <a:off x="357120" y="1857240"/>
              <a:ext cx="8286840" cy="4643640"/>
              <a:chOff x="357120" y="1857240"/>
              <a:chExt cx="8286840" cy="4643640"/>
            </a:xfrm>
          </p:grpSpPr>
          <p:pic>
            <p:nvPicPr>
              <p:cNvPr id="1472" name="Picture 5" descr="233"/>
              <p:cNvPicPr/>
              <p:nvPr/>
            </p:nvPicPr>
            <p:blipFill>
              <a:blip r:embed="rId2"/>
              <a:srcRect l="0" t="0" r="24313" b="0"/>
              <a:stretch/>
            </p:blipFill>
            <p:spPr>
              <a:xfrm>
                <a:off x="357120" y="2142720"/>
                <a:ext cx="8286840" cy="43581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473" name="그룹 34"/>
              <p:cNvGrpSpPr/>
              <p:nvPr/>
            </p:nvGrpSpPr>
            <p:grpSpPr>
              <a:xfrm>
                <a:off x="928440" y="1947240"/>
                <a:ext cx="349200" cy="381240"/>
                <a:chOff x="928440" y="1947240"/>
                <a:chExt cx="349200" cy="381240"/>
              </a:xfrm>
            </p:grpSpPr>
            <p:pic>
              <p:nvPicPr>
                <p:cNvPr id="1474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28440" y="1974240"/>
                  <a:ext cx="349200" cy="35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75" name="TextBox 36"/>
                <p:cNvSpPr/>
                <p:nvPr/>
              </p:nvSpPr>
              <p:spPr>
                <a:xfrm>
                  <a:off x="963720" y="1947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76" name="직사각형 103"/>
              <p:cNvSpPr/>
              <p:nvPr/>
            </p:nvSpPr>
            <p:spPr>
              <a:xfrm>
                <a:off x="2143800" y="1857240"/>
                <a:ext cx="30337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바람직하지 못한 행동을 감소시키는 방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77" name="직선 연결선 100"/>
            <p:cNvSpPr/>
            <p:nvPr/>
          </p:nvSpPr>
          <p:spPr>
            <a:xfrm>
              <a:off x="5786640" y="2142720"/>
              <a:ext cx="271620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8" name="그룹 52"/>
          <p:cNvGrpSpPr/>
          <p:nvPr/>
        </p:nvGrpSpPr>
        <p:grpSpPr>
          <a:xfrm>
            <a:off x="920160" y="2505240"/>
            <a:ext cx="7730280" cy="1274040"/>
            <a:chOff x="920160" y="2505240"/>
            <a:chExt cx="7730280" cy="1274040"/>
          </a:xfrm>
        </p:grpSpPr>
        <p:grpSp>
          <p:nvGrpSpPr>
            <p:cNvPr id="1479" name="그룹 142"/>
            <p:cNvGrpSpPr/>
            <p:nvPr/>
          </p:nvGrpSpPr>
          <p:grpSpPr>
            <a:xfrm>
              <a:off x="920160" y="2505240"/>
              <a:ext cx="1748880" cy="505440"/>
              <a:chOff x="920160" y="2505240"/>
              <a:chExt cx="1748880" cy="505440"/>
            </a:xfrm>
          </p:grpSpPr>
          <p:grpSp>
            <p:nvGrpSpPr>
              <p:cNvPr id="1480" name="그룹 97"/>
              <p:cNvGrpSpPr/>
              <p:nvPr/>
            </p:nvGrpSpPr>
            <p:grpSpPr>
              <a:xfrm>
                <a:off x="920160" y="2563560"/>
                <a:ext cx="295200" cy="338760"/>
                <a:chOff x="920160" y="2563560"/>
                <a:chExt cx="295200" cy="338760"/>
              </a:xfrm>
            </p:grpSpPr>
            <p:pic>
              <p:nvPicPr>
                <p:cNvPr id="1481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32400" y="2620440"/>
                  <a:ext cx="280440" cy="281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82" name="TextBox 146"/>
                <p:cNvSpPr/>
                <p:nvPr/>
              </p:nvSpPr>
              <p:spPr>
                <a:xfrm>
                  <a:off x="920160" y="2563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83" name="직사각형 115"/>
              <p:cNvSpPr/>
              <p:nvPr/>
            </p:nvSpPr>
            <p:spPr>
              <a:xfrm>
                <a:off x="1096920" y="2505240"/>
                <a:ext cx="15721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소거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extinction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84" name="직선 연결선 109"/>
            <p:cNvSpPr/>
            <p:nvPr/>
          </p:nvSpPr>
          <p:spPr>
            <a:xfrm>
              <a:off x="4413240" y="27907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85" name="그룹 114"/>
            <p:cNvGrpSpPr/>
            <p:nvPr/>
          </p:nvGrpSpPr>
          <p:grpSpPr>
            <a:xfrm>
              <a:off x="1290600" y="2862360"/>
              <a:ext cx="7359840" cy="916920"/>
              <a:chOff x="1290600" y="2862360"/>
              <a:chExt cx="7359840" cy="916920"/>
            </a:xfrm>
          </p:grpSpPr>
          <p:sp>
            <p:nvSpPr>
              <p:cNvPr id="1486" name="직사각형 37"/>
              <p:cNvSpPr/>
              <p:nvPr/>
            </p:nvSpPr>
            <p:spPr>
              <a:xfrm>
                <a:off x="1474920" y="2862360"/>
                <a:ext cx="71755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정 반응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할 때 강화를 주지 않아서 반응의 확률이나 강도를 감소시키는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방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87" name="타원 112"/>
              <p:cNvGrpSpPr/>
              <p:nvPr/>
            </p:nvGrpSpPr>
            <p:grpSpPr>
              <a:xfrm>
                <a:off x="1290600" y="3151440"/>
                <a:ext cx="223560" cy="231480"/>
                <a:chOff x="1290600" y="3151440"/>
                <a:chExt cx="223560" cy="231480"/>
              </a:xfrm>
            </p:grpSpPr>
            <p:pic>
              <p:nvPicPr>
                <p:cNvPr id="1488" name="타원 11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290600" y="31514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89" name=""/>
                <p:cNvSpPr/>
                <p:nvPr/>
              </p:nvSpPr>
              <p:spPr>
                <a:xfrm rot="10800000">
                  <a:off x="1369080" y="32072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490" name="그룹 52"/>
          <p:cNvGrpSpPr/>
          <p:nvPr/>
        </p:nvGrpSpPr>
        <p:grpSpPr>
          <a:xfrm>
            <a:off x="925200" y="3962520"/>
            <a:ext cx="7774200" cy="1000080"/>
            <a:chOff x="925200" y="3962520"/>
            <a:chExt cx="7774200" cy="1000080"/>
          </a:xfrm>
        </p:grpSpPr>
        <p:grpSp>
          <p:nvGrpSpPr>
            <p:cNvPr id="1491" name="그룹 142"/>
            <p:cNvGrpSpPr/>
            <p:nvPr/>
          </p:nvGrpSpPr>
          <p:grpSpPr>
            <a:xfrm>
              <a:off x="925200" y="3962520"/>
              <a:ext cx="3553920" cy="505440"/>
              <a:chOff x="925200" y="3962520"/>
              <a:chExt cx="3553920" cy="505440"/>
            </a:xfrm>
          </p:grpSpPr>
          <p:grpSp>
            <p:nvGrpSpPr>
              <p:cNvPr id="1492" name="그룹 97"/>
              <p:cNvGrpSpPr/>
              <p:nvPr/>
            </p:nvGrpSpPr>
            <p:grpSpPr>
              <a:xfrm>
                <a:off x="925200" y="4020840"/>
                <a:ext cx="305640" cy="339120"/>
                <a:chOff x="925200" y="4020840"/>
                <a:chExt cx="305640" cy="339120"/>
              </a:xfrm>
            </p:grpSpPr>
            <p:pic>
              <p:nvPicPr>
                <p:cNvPr id="1493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932760" y="4077360"/>
                  <a:ext cx="286560" cy="28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94" name="TextBox 146"/>
                <p:cNvSpPr/>
                <p:nvPr/>
              </p:nvSpPr>
              <p:spPr>
                <a:xfrm>
                  <a:off x="925200" y="402084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95" name="직사각형 54"/>
              <p:cNvSpPr/>
              <p:nvPr/>
            </p:nvSpPr>
            <p:spPr>
              <a:xfrm>
                <a:off x="1110600" y="3962520"/>
                <a:ext cx="33685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차별강화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differential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reinforcemen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96" name="직선 연결선 48"/>
            <p:cNvSpPr/>
            <p:nvPr/>
          </p:nvSpPr>
          <p:spPr>
            <a:xfrm>
              <a:off x="4643280" y="4248000"/>
              <a:ext cx="37004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97" name="그룹 114"/>
            <p:cNvGrpSpPr/>
            <p:nvPr/>
          </p:nvGrpSpPr>
          <p:grpSpPr>
            <a:xfrm>
              <a:off x="1290600" y="4320000"/>
              <a:ext cx="7408800" cy="642600"/>
              <a:chOff x="1290600" y="4320000"/>
              <a:chExt cx="7408800" cy="642600"/>
            </a:xfrm>
          </p:grpSpPr>
          <p:sp>
            <p:nvSpPr>
              <p:cNvPr id="1498" name="직사각형 37"/>
              <p:cNvSpPr/>
              <p:nvPr/>
            </p:nvSpPr>
            <p:spPr>
              <a:xfrm>
                <a:off x="1474920" y="4320000"/>
                <a:ext cx="72244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일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간 동안 바람직하지 않은 반응을 하지 않을 때 강화를 주는 기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99" name="타원 51"/>
              <p:cNvGrpSpPr/>
              <p:nvPr/>
            </p:nvGrpSpPr>
            <p:grpSpPr>
              <a:xfrm>
                <a:off x="1290600" y="4584240"/>
                <a:ext cx="223560" cy="231480"/>
                <a:chOff x="1290600" y="4584240"/>
                <a:chExt cx="223560" cy="231480"/>
              </a:xfrm>
            </p:grpSpPr>
            <p:pic>
              <p:nvPicPr>
                <p:cNvPr id="1500" name="타원 5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290600" y="45842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01" name=""/>
                <p:cNvSpPr/>
                <p:nvPr/>
              </p:nvSpPr>
              <p:spPr>
                <a:xfrm rot="10800000">
                  <a:off x="1369080" y="46425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502" name="그룹 52"/>
          <p:cNvGrpSpPr/>
          <p:nvPr/>
        </p:nvGrpSpPr>
        <p:grpSpPr>
          <a:xfrm>
            <a:off x="929880" y="5143680"/>
            <a:ext cx="7769520" cy="999720"/>
            <a:chOff x="929880" y="5143680"/>
            <a:chExt cx="7769520" cy="999720"/>
          </a:xfrm>
        </p:grpSpPr>
        <p:grpSp>
          <p:nvGrpSpPr>
            <p:cNvPr id="1503" name="그룹 142"/>
            <p:cNvGrpSpPr/>
            <p:nvPr/>
          </p:nvGrpSpPr>
          <p:grpSpPr>
            <a:xfrm>
              <a:off x="929880" y="5143680"/>
              <a:ext cx="1416960" cy="505440"/>
              <a:chOff x="929880" y="5143680"/>
              <a:chExt cx="1416960" cy="505440"/>
            </a:xfrm>
          </p:grpSpPr>
          <p:grpSp>
            <p:nvGrpSpPr>
              <p:cNvPr id="1504" name="그룹 97"/>
              <p:cNvGrpSpPr/>
              <p:nvPr/>
            </p:nvGrpSpPr>
            <p:grpSpPr>
              <a:xfrm>
                <a:off x="929880" y="5202000"/>
                <a:ext cx="284400" cy="338760"/>
                <a:chOff x="929880" y="5202000"/>
                <a:chExt cx="284400" cy="338760"/>
              </a:xfrm>
            </p:grpSpPr>
            <p:pic>
              <p:nvPicPr>
                <p:cNvPr id="1505" name="Picture 177" descr="bull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932400" y="5259960"/>
                  <a:ext cx="281880" cy="280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06" name="TextBox 146"/>
                <p:cNvSpPr/>
                <p:nvPr/>
              </p:nvSpPr>
              <p:spPr>
                <a:xfrm>
                  <a:off x="929880" y="520200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07" name="직사각형 49"/>
              <p:cNvSpPr/>
              <p:nvPr/>
            </p:nvSpPr>
            <p:spPr>
              <a:xfrm>
                <a:off x="1283760" y="5143680"/>
                <a:ext cx="106308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상반반응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08" name="직선 연결선 42"/>
            <p:cNvSpPr/>
            <p:nvPr/>
          </p:nvSpPr>
          <p:spPr>
            <a:xfrm>
              <a:off x="4643280" y="5429160"/>
              <a:ext cx="37004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09" name="그룹 114"/>
            <p:cNvGrpSpPr/>
            <p:nvPr/>
          </p:nvGrpSpPr>
          <p:grpSpPr>
            <a:xfrm>
              <a:off x="1290600" y="5500800"/>
              <a:ext cx="7408800" cy="642600"/>
              <a:chOff x="1290600" y="5500800"/>
              <a:chExt cx="7408800" cy="642600"/>
            </a:xfrm>
          </p:grpSpPr>
          <p:sp>
            <p:nvSpPr>
              <p:cNvPr id="1510" name="직사각형 37"/>
              <p:cNvSpPr/>
              <p:nvPr/>
            </p:nvSpPr>
            <p:spPr>
              <a:xfrm>
                <a:off x="1474920" y="5500800"/>
                <a:ext cx="72244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바람직하지 않은 반응과 정반대가 되는 반응을 강화하는 방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11" name="타원 46"/>
              <p:cNvGrpSpPr/>
              <p:nvPr/>
            </p:nvGrpSpPr>
            <p:grpSpPr>
              <a:xfrm>
                <a:off x="1290600" y="5766840"/>
                <a:ext cx="223560" cy="231480"/>
                <a:chOff x="1290600" y="5766840"/>
                <a:chExt cx="223560" cy="231480"/>
              </a:xfrm>
            </p:grpSpPr>
            <p:pic>
              <p:nvPicPr>
                <p:cNvPr id="1512" name="타원 46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290600" y="57668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13" name=""/>
                <p:cNvSpPr/>
                <p:nvPr/>
              </p:nvSpPr>
              <p:spPr>
                <a:xfrm rot="10800000">
                  <a:off x="1369080" y="58226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14" name="슬라이드 번호 개체 틀 50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3E82F-D7FA-455A-A684-1FDEB8FF2B78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5" name="TextBox 50" descr=""/>
          <p:cNvPicPr/>
          <p:nvPr/>
        </p:nvPicPr>
        <p:blipFill>
          <a:blip r:embed="rId10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1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6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51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518" name="직사각형 23"/>
              <p:cNvSpPr/>
              <p:nvPr/>
            </p:nvSpPr>
            <p:spPr>
              <a:xfrm>
                <a:off x="1406880" y="1385640"/>
                <a:ext cx="334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수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behavior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ification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52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2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523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2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25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6" name="그룹 37"/>
          <p:cNvGrpSpPr/>
          <p:nvPr/>
        </p:nvGrpSpPr>
        <p:grpSpPr>
          <a:xfrm>
            <a:off x="357120" y="1857240"/>
            <a:ext cx="8286840" cy="4643640"/>
            <a:chOff x="357120" y="1857240"/>
            <a:chExt cx="8286840" cy="4643640"/>
          </a:xfrm>
        </p:grpSpPr>
        <p:grpSp>
          <p:nvGrpSpPr>
            <p:cNvPr id="1527" name="그룹 91"/>
            <p:cNvGrpSpPr/>
            <p:nvPr/>
          </p:nvGrpSpPr>
          <p:grpSpPr>
            <a:xfrm>
              <a:off x="357120" y="1857240"/>
              <a:ext cx="8286840" cy="4643640"/>
              <a:chOff x="357120" y="1857240"/>
              <a:chExt cx="8286840" cy="4643640"/>
            </a:xfrm>
          </p:grpSpPr>
          <p:pic>
            <p:nvPicPr>
              <p:cNvPr id="1528" name="Picture 5" descr="233"/>
              <p:cNvPicPr/>
              <p:nvPr/>
            </p:nvPicPr>
            <p:blipFill>
              <a:blip r:embed="rId2"/>
              <a:srcRect l="0" t="0" r="24313" b="0"/>
              <a:stretch/>
            </p:blipFill>
            <p:spPr>
              <a:xfrm>
                <a:off x="357120" y="2142720"/>
                <a:ext cx="8286840" cy="43581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529" name="그룹 34"/>
              <p:cNvGrpSpPr/>
              <p:nvPr/>
            </p:nvGrpSpPr>
            <p:grpSpPr>
              <a:xfrm>
                <a:off x="928440" y="1947240"/>
                <a:ext cx="349200" cy="381240"/>
                <a:chOff x="928440" y="1947240"/>
                <a:chExt cx="349200" cy="381240"/>
              </a:xfrm>
            </p:grpSpPr>
            <p:pic>
              <p:nvPicPr>
                <p:cNvPr id="1530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28440" y="1974240"/>
                  <a:ext cx="349200" cy="35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31" name="TextBox 36"/>
                <p:cNvSpPr/>
                <p:nvPr/>
              </p:nvSpPr>
              <p:spPr>
                <a:xfrm>
                  <a:off x="963720" y="1947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2" name="직사각형 103"/>
              <p:cNvSpPr/>
              <p:nvPr/>
            </p:nvSpPr>
            <p:spPr>
              <a:xfrm>
                <a:off x="2143800" y="1857240"/>
                <a:ext cx="30337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바람직하지 못한 행동을 감소시키는 방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33" name="직선 연결선 100"/>
            <p:cNvSpPr/>
            <p:nvPr/>
          </p:nvSpPr>
          <p:spPr>
            <a:xfrm>
              <a:off x="5786640" y="2142720"/>
              <a:ext cx="271620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4" name="그룹 52"/>
          <p:cNvGrpSpPr/>
          <p:nvPr/>
        </p:nvGrpSpPr>
        <p:grpSpPr>
          <a:xfrm>
            <a:off x="924480" y="2505240"/>
            <a:ext cx="7725960" cy="999720"/>
            <a:chOff x="924480" y="2505240"/>
            <a:chExt cx="7725960" cy="999720"/>
          </a:xfrm>
        </p:grpSpPr>
        <p:grpSp>
          <p:nvGrpSpPr>
            <p:cNvPr id="1535" name="그룹 142"/>
            <p:cNvGrpSpPr/>
            <p:nvPr/>
          </p:nvGrpSpPr>
          <p:grpSpPr>
            <a:xfrm>
              <a:off x="924480" y="2505240"/>
              <a:ext cx="770040" cy="505440"/>
              <a:chOff x="924480" y="2505240"/>
              <a:chExt cx="770040" cy="505440"/>
            </a:xfrm>
          </p:grpSpPr>
          <p:grpSp>
            <p:nvGrpSpPr>
              <p:cNvPr id="1536" name="그룹 97"/>
              <p:cNvGrpSpPr/>
              <p:nvPr/>
            </p:nvGrpSpPr>
            <p:grpSpPr>
              <a:xfrm>
                <a:off x="924480" y="2563200"/>
                <a:ext cx="305640" cy="338040"/>
                <a:chOff x="924480" y="2563200"/>
                <a:chExt cx="305640" cy="338040"/>
              </a:xfrm>
            </p:grpSpPr>
            <p:pic>
              <p:nvPicPr>
                <p:cNvPr id="1537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32760" y="2620080"/>
                  <a:ext cx="286560" cy="281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38" name="TextBox 146"/>
                <p:cNvSpPr/>
                <p:nvPr/>
              </p:nvSpPr>
              <p:spPr>
                <a:xfrm>
                  <a:off x="924480" y="256320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d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9" name="직사각형 115"/>
              <p:cNvSpPr/>
              <p:nvPr/>
            </p:nvSpPr>
            <p:spPr>
              <a:xfrm>
                <a:off x="1180080" y="2505240"/>
                <a:ext cx="5144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꾸중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40" name="직선 연결선 109"/>
            <p:cNvSpPr/>
            <p:nvPr/>
          </p:nvSpPr>
          <p:spPr>
            <a:xfrm>
              <a:off x="4413240" y="27907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41" name="그룹 114"/>
            <p:cNvGrpSpPr/>
            <p:nvPr/>
          </p:nvGrpSpPr>
          <p:grpSpPr>
            <a:xfrm>
              <a:off x="1290600" y="2862360"/>
              <a:ext cx="7359840" cy="642600"/>
              <a:chOff x="1290600" y="2862360"/>
              <a:chExt cx="7359840" cy="642600"/>
            </a:xfrm>
          </p:grpSpPr>
          <p:sp>
            <p:nvSpPr>
              <p:cNvPr id="1542" name="직사각형 37"/>
              <p:cNvSpPr/>
              <p:nvPr/>
            </p:nvSpPr>
            <p:spPr>
              <a:xfrm>
                <a:off x="1474920" y="2862360"/>
                <a:ext cx="71755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처벌의 일종인 꾸중은 바람직하지 못한 행동을 억압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43" name="타원 112"/>
              <p:cNvGrpSpPr/>
              <p:nvPr/>
            </p:nvGrpSpPr>
            <p:grpSpPr>
              <a:xfrm>
                <a:off x="1290600" y="3151440"/>
                <a:ext cx="223560" cy="231480"/>
                <a:chOff x="1290600" y="3151440"/>
                <a:chExt cx="223560" cy="231480"/>
              </a:xfrm>
            </p:grpSpPr>
            <p:pic>
              <p:nvPicPr>
                <p:cNvPr id="1544" name="타원 11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290600" y="31514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45" name=""/>
                <p:cNvSpPr/>
                <p:nvPr/>
              </p:nvSpPr>
              <p:spPr>
                <a:xfrm rot="10800000">
                  <a:off x="1369080" y="32068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546" name="그룹 52"/>
          <p:cNvGrpSpPr/>
          <p:nvPr/>
        </p:nvGrpSpPr>
        <p:grpSpPr>
          <a:xfrm>
            <a:off x="920160" y="3657600"/>
            <a:ext cx="7779240" cy="999720"/>
            <a:chOff x="920160" y="3657600"/>
            <a:chExt cx="7779240" cy="999720"/>
          </a:xfrm>
        </p:grpSpPr>
        <p:grpSp>
          <p:nvGrpSpPr>
            <p:cNvPr id="1547" name="그룹 142"/>
            <p:cNvGrpSpPr/>
            <p:nvPr/>
          </p:nvGrpSpPr>
          <p:grpSpPr>
            <a:xfrm>
              <a:off x="920160" y="3657600"/>
              <a:ext cx="1630800" cy="505440"/>
              <a:chOff x="920160" y="3657600"/>
              <a:chExt cx="1630800" cy="505440"/>
            </a:xfrm>
          </p:grpSpPr>
          <p:grpSp>
            <p:nvGrpSpPr>
              <p:cNvPr id="1548" name="그룹 97"/>
              <p:cNvGrpSpPr/>
              <p:nvPr/>
            </p:nvGrpSpPr>
            <p:grpSpPr>
              <a:xfrm>
                <a:off x="920160" y="3715560"/>
                <a:ext cx="295200" cy="338040"/>
                <a:chOff x="920160" y="3715560"/>
                <a:chExt cx="295200" cy="338040"/>
              </a:xfrm>
            </p:grpSpPr>
            <p:pic>
              <p:nvPicPr>
                <p:cNvPr id="1549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932400" y="3772080"/>
                  <a:ext cx="280440" cy="281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50" name="TextBox 146"/>
                <p:cNvSpPr/>
                <p:nvPr/>
              </p:nvSpPr>
              <p:spPr>
                <a:xfrm>
                  <a:off x="920160" y="3715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e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51" name="직사각형 54"/>
              <p:cNvSpPr/>
              <p:nvPr/>
            </p:nvSpPr>
            <p:spPr>
              <a:xfrm>
                <a:off x="1096200" y="3657600"/>
                <a:ext cx="14547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포만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satiation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52" name="직선 연결선 48"/>
            <p:cNvSpPr/>
            <p:nvPr/>
          </p:nvSpPr>
          <p:spPr>
            <a:xfrm>
              <a:off x="4643280" y="3943440"/>
              <a:ext cx="37004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53" name="그룹 114"/>
            <p:cNvGrpSpPr/>
            <p:nvPr/>
          </p:nvGrpSpPr>
          <p:grpSpPr>
            <a:xfrm>
              <a:off x="1290600" y="4014720"/>
              <a:ext cx="7408800" cy="642600"/>
              <a:chOff x="1290600" y="4014720"/>
              <a:chExt cx="7408800" cy="642600"/>
            </a:xfrm>
          </p:grpSpPr>
          <p:sp>
            <p:nvSpPr>
              <p:cNvPr id="1554" name="직사각형 37"/>
              <p:cNvSpPr/>
              <p:nvPr/>
            </p:nvSpPr>
            <p:spPr>
              <a:xfrm>
                <a:off x="1474920" y="4014720"/>
                <a:ext cx="72244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문제행동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칠 때까지 반복하도록 하여 문제행동을 감소시키는 방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55" name="타원 51"/>
              <p:cNvGrpSpPr/>
              <p:nvPr/>
            </p:nvGrpSpPr>
            <p:grpSpPr>
              <a:xfrm>
                <a:off x="1290600" y="4279320"/>
                <a:ext cx="223560" cy="231840"/>
                <a:chOff x="1290600" y="4279320"/>
                <a:chExt cx="223560" cy="231840"/>
              </a:xfrm>
            </p:grpSpPr>
            <p:pic>
              <p:nvPicPr>
                <p:cNvPr id="1556" name="타원 5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290600" y="4279320"/>
                  <a:ext cx="223560" cy="23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57" name=""/>
                <p:cNvSpPr/>
                <p:nvPr/>
              </p:nvSpPr>
              <p:spPr>
                <a:xfrm rot="10800000">
                  <a:off x="1369080" y="43369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558" name="그룹 52"/>
          <p:cNvGrpSpPr/>
          <p:nvPr/>
        </p:nvGrpSpPr>
        <p:grpSpPr>
          <a:xfrm>
            <a:off x="936720" y="4809960"/>
            <a:ext cx="7762680" cy="1279800"/>
            <a:chOff x="936720" y="4809960"/>
            <a:chExt cx="7762680" cy="1279800"/>
          </a:xfrm>
        </p:grpSpPr>
        <p:grpSp>
          <p:nvGrpSpPr>
            <p:cNvPr id="1559" name="그룹 142"/>
            <p:cNvGrpSpPr/>
            <p:nvPr/>
          </p:nvGrpSpPr>
          <p:grpSpPr>
            <a:xfrm>
              <a:off x="936720" y="4809960"/>
              <a:ext cx="1608120" cy="505440"/>
              <a:chOff x="936720" y="4809960"/>
              <a:chExt cx="1608120" cy="505440"/>
            </a:xfrm>
          </p:grpSpPr>
          <p:grpSp>
            <p:nvGrpSpPr>
              <p:cNvPr id="1560" name="그룹 97"/>
              <p:cNvGrpSpPr/>
              <p:nvPr/>
            </p:nvGrpSpPr>
            <p:grpSpPr>
              <a:xfrm>
                <a:off x="936720" y="4880880"/>
                <a:ext cx="274320" cy="337320"/>
                <a:chOff x="936720" y="4880880"/>
                <a:chExt cx="274320" cy="337320"/>
              </a:xfrm>
            </p:grpSpPr>
            <p:pic>
              <p:nvPicPr>
                <p:cNvPr id="1561" name="Picture 177" descr="bull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936720" y="4925160"/>
                  <a:ext cx="27432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62" name="TextBox 146"/>
                <p:cNvSpPr/>
                <p:nvPr/>
              </p:nvSpPr>
              <p:spPr>
                <a:xfrm>
                  <a:off x="950040" y="4880880"/>
                  <a:ext cx="2509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f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63" name="직사각형 49"/>
              <p:cNvSpPr/>
              <p:nvPr/>
            </p:nvSpPr>
            <p:spPr>
              <a:xfrm>
                <a:off x="1099440" y="4809960"/>
                <a:ext cx="14454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격리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time-ou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64" name="직선 연결선 42"/>
            <p:cNvSpPr/>
            <p:nvPr/>
          </p:nvSpPr>
          <p:spPr>
            <a:xfrm>
              <a:off x="4643280" y="5095800"/>
              <a:ext cx="37004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65" name="그룹 114"/>
            <p:cNvGrpSpPr/>
            <p:nvPr/>
          </p:nvGrpSpPr>
          <p:grpSpPr>
            <a:xfrm>
              <a:off x="1290600" y="5310360"/>
              <a:ext cx="7408800" cy="779400"/>
              <a:chOff x="1290600" y="5310360"/>
              <a:chExt cx="7408800" cy="779400"/>
            </a:xfrm>
          </p:grpSpPr>
          <p:sp>
            <p:nvSpPr>
              <p:cNvPr id="1566" name="직사각형 37"/>
              <p:cNvSpPr/>
              <p:nvPr/>
            </p:nvSpPr>
            <p:spPr>
              <a:xfrm>
                <a:off x="1474920" y="5310360"/>
                <a:ext cx="7224480" cy="77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ts val="26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적 강화를 받을 수 있는 기회를 박탈하거나 강화를 받을 수 있는 장면에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ts val="26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추방하는 방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67" name="타원 46"/>
              <p:cNvGrpSpPr/>
              <p:nvPr/>
            </p:nvGrpSpPr>
            <p:grpSpPr>
              <a:xfrm>
                <a:off x="1290600" y="5431320"/>
                <a:ext cx="223560" cy="231480"/>
                <a:chOff x="1290600" y="5431320"/>
                <a:chExt cx="223560" cy="231480"/>
              </a:xfrm>
            </p:grpSpPr>
            <p:pic>
              <p:nvPicPr>
                <p:cNvPr id="1568" name="타원 46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290600" y="543132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69" name=""/>
                <p:cNvSpPr/>
                <p:nvPr/>
              </p:nvSpPr>
              <p:spPr>
                <a:xfrm rot="10800000">
                  <a:off x="1369080" y="54889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0" name="슬라이드 번호 개체 틀 50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B4C50-2228-4B5F-8463-6E2031352756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1" name="TextBox 50" descr=""/>
          <p:cNvPicPr/>
          <p:nvPr/>
        </p:nvPicPr>
        <p:blipFill>
          <a:blip r:embed="rId10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1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슬라이드 번호 개체 틀 4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Arial"/>
              </a:rPr>
              <a:t>6-</a:t>
            </a:r>
            <a:fld id="{E6113EF6-9076-4706-9111-2278FE18539F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3" name="Group 20"/>
          <p:cNvGrpSpPr/>
          <p:nvPr/>
        </p:nvGrpSpPr>
        <p:grpSpPr>
          <a:xfrm>
            <a:off x="601560" y="3714840"/>
            <a:ext cx="8111880" cy="801360"/>
            <a:chOff x="601560" y="3714840"/>
            <a:chExt cx="8111880" cy="801360"/>
          </a:xfrm>
        </p:grpSpPr>
        <p:sp>
          <p:nvSpPr>
            <p:cNvPr id="1574" name="Freeform 21"/>
            <p:cNvSpPr/>
            <p:nvPr/>
          </p:nvSpPr>
          <p:spPr>
            <a:xfrm>
              <a:off x="867240" y="4176360"/>
              <a:ext cx="7580160" cy="3398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5" name="Rectangle 22"/>
            <p:cNvSpPr/>
            <p:nvPr/>
          </p:nvSpPr>
          <p:spPr>
            <a:xfrm>
              <a:off x="601560" y="3714840"/>
              <a:ext cx="8111880" cy="703080"/>
            </a:xfrm>
            <a:prstGeom prst="rect">
              <a:avLst/>
            </a:prstGeom>
            <a:gradFill rotWithShape="0">
              <a:gsLst>
                <a:gs pos="0">
                  <a:srgbClr val="b1efd0"/>
                </a:gs>
                <a:gs pos="100000">
                  <a:srgbClr val="77e3a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휴먼모음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들의 노력과 능력의 향상에 대해 강화하라</a:t>
              </a: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6" name="Group 23"/>
          <p:cNvGrpSpPr/>
          <p:nvPr/>
        </p:nvGrpSpPr>
        <p:grpSpPr>
          <a:xfrm>
            <a:off x="614520" y="2714760"/>
            <a:ext cx="8113320" cy="776880"/>
            <a:chOff x="614520" y="2714760"/>
            <a:chExt cx="8113320" cy="776880"/>
          </a:xfrm>
        </p:grpSpPr>
        <p:sp>
          <p:nvSpPr>
            <p:cNvPr id="1577" name="Freeform 24"/>
            <p:cNvSpPr/>
            <p:nvPr/>
          </p:nvSpPr>
          <p:spPr>
            <a:xfrm>
              <a:off x="880200" y="3162240"/>
              <a:ext cx="7581600" cy="32940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8" name="Rectangle 25"/>
            <p:cNvSpPr/>
            <p:nvPr/>
          </p:nvSpPr>
          <p:spPr>
            <a:xfrm>
              <a:off x="614520" y="2714760"/>
              <a:ext cx="8113320" cy="681840"/>
            </a:xfrm>
            <a:prstGeom prst="rect">
              <a:avLst/>
            </a:prstGeom>
            <a:gradFill rotWithShape="0">
              <a:gsLst>
                <a:gs pos="0">
                  <a:srgbClr val="f6e1bd"/>
                </a:gs>
                <a:gs pos="100000">
                  <a:srgbClr val="eab7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기대 행동을 이끌어 내기 위한 환경적 선행자극을 만들어라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9" name="Group 26"/>
          <p:cNvGrpSpPr/>
          <p:nvPr/>
        </p:nvGrpSpPr>
        <p:grpSpPr>
          <a:xfrm>
            <a:off x="627120" y="1571760"/>
            <a:ext cx="8086320" cy="986400"/>
            <a:chOff x="627120" y="1571760"/>
            <a:chExt cx="8086320" cy="986400"/>
          </a:xfrm>
        </p:grpSpPr>
        <p:sp>
          <p:nvSpPr>
            <p:cNvPr id="1580" name="Freeform 27"/>
            <p:cNvSpPr/>
            <p:nvPr/>
          </p:nvSpPr>
          <p:spPr>
            <a:xfrm>
              <a:off x="891720" y="2139840"/>
              <a:ext cx="7556400" cy="4183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1" name="Rectangle 28"/>
            <p:cNvSpPr/>
            <p:nvPr/>
          </p:nvSpPr>
          <p:spPr>
            <a:xfrm>
              <a:off x="627120" y="1571760"/>
              <a:ext cx="8086320" cy="865440"/>
            </a:xfrm>
            <a:prstGeom prst="rect">
              <a:avLst/>
            </a:prstGeom>
            <a:gradFill rotWithShape="0">
              <a:gsLst>
                <a:gs pos="0">
                  <a:srgbClr val="f7f4dd"/>
                </a:gs>
                <a:gs pos="100000">
                  <a:srgbClr val="dacb5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들을 존경하고 예의 바르게 대하며 교실과 학교에 대해 긍정적인 감정을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가지도록 만들어라</a:t>
              </a: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2" name="Group 29"/>
          <p:cNvGrpSpPr/>
          <p:nvPr/>
        </p:nvGrpSpPr>
        <p:grpSpPr>
          <a:xfrm>
            <a:off x="590400" y="4757760"/>
            <a:ext cx="8124480" cy="813960"/>
            <a:chOff x="590400" y="4757760"/>
            <a:chExt cx="8124480" cy="813960"/>
          </a:xfrm>
        </p:grpSpPr>
        <p:sp>
          <p:nvSpPr>
            <p:cNvPr id="1583" name="Freeform 30"/>
            <p:cNvSpPr/>
            <p:nvPr/>
          </p:nvSpPr>
          <p:spPr>
            <a:xfrm>
              <a:off x="856440" y="5226480"/>
              <a:ext cx="7592040" cy="3452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4" name="Rectangle 31"/>
            <p:cNvSpPr/>
            <p:nvPr/>
          </p:nvSpPr>
          <p:spPr>
            <a:xfrm>
              <a:off x="590400" y="4757760"/>
              <a:ext cx="8124480" cy="713880"/>
            </a:xfrm>
            <a:prstGeom prst="rect">
              <a:avLst/>
            </a:prstGeom>
            <a:gradFill rotWithShape="0">
              <a:gsLst>
                <a:gs pos="0">
                  <a:srgbClr val="cdd6fe"/>
                </a:gs>
                <a:gs pos="100000">
                  <a:srgbClr val="9eb0f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휴먼모음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수용할 수 있는 행동에 대한 정확한 기준을 마련하라</a:t>
              </a: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5" name="Group 32"/>
          <p:cNvGrpSpPr/>
          <p:nvPr/>
        </p:nvGrpSpPr>
        <p:grpSpPr>
          <a:xfrm>
            <a:off x="582480" y="5734080"/>
            <a:ext cx="8086320" cy="980640"/>
            <a:chOff x="582480" y="5734080"/>
            <a:chExt cx="8086320" cy="980640"/>
          </a:xfrm>
        </p:grpSpPr>
        <p:sp>
          <p:nvSpPr>
            <p:cNvPr id="1586" name="Freeform 33"/>
            <p:cNvSpPr/>
            <p:nvPr/>
          </p:nvSpPr>
          <p:spPr>
            <a:xfrm>
              <a:off x="847080" y="6298920"/>
              <a:ext cx="7556400" cy="41580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7" name="Rectangle 34"/>
            <p:cNvSpPr/>
            <p:nvPr/>
          </p:nvSpPr>
          <p:spPr>
            <a:xfrm>
              <a:off x="582480" y="5734080"/>
              <a:ext cx="8086320" cy="860040"/>
            </a:xfrm>
            <a:prstGeom prst="rect">
              <a:avLst/>
            </a:prstGeom>
            <a:gradFill rotWithShape="0">
              <a:gsLst>
                <a:gs pos="0">
                  <a:srgbClr val="ffe9ff"/>
                </a:gs>
                <a:gs pos="100000">
                  <a:srgbClr val="ff99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바람직한 행동기준에 부합하는 행동을 했을 경우 나타날 긍정적인 결과를 강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하고 강화인이 효과적이지 못할 경우 처벌을 사용하라</a:t>
              </a: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88" name="TextBox 21" descr=""/>
          <p:cNvPicPr/>
          <p:nvPr/>
        </p:nvPicPr>
        <p:blipFill>
          <a:blip r:embed="rId1"/>
          <a:stretch/>
        </p:blipFill>
        <p:spPr>
          <a:xfrm>
            <a:off x="5151600" y="506520"/>
            <a:ext cx="410832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1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9" name="TextBox 9" descr=""/>
          <p:cNvPicPr/>
          <p:nvPr/>
        </p:nvPicPr>
        <p:blipFill>
          <a:blip r:embed="rId1"/>
          <a:stretch/>
        </p:blipFill>
        <p:spPr>
          <a:xfrm>
            <a:off x="5005440" y="506520"/>
            <a:ext cx="37735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590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1591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1592" name="직사각형 14"/>
              <p:cNvSpPr/>
              <p:nvPr/>
            </p:nvSpPr>
            <p:spPr>
              <a:xfrm>
                <a:off x="1051920" y="1386000"/>
                <a:ext cx="3162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부정적 측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3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9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59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9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597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9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99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0" name="그룹 43"/>
          <p:cNvGrpSpPr/>
          <p:nvPr/>
        </p:nvGrpSpPr>
        <p:grpSpPr>
          <a:xfrm>
            <a:off x="571680" y="1876320"/>
            <a:ext cx="8072280" cy="2266920"/>
            <a:chOff x="571680" y="1876320"/>
            <a:chExt cx="8072280" cy="2266920"/>
          </a:xfrm>
        </p:grpSpPr>
        <p:pic>
          <p:nvPicPr>
            <p:cNvPr id="1601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21243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602" name="직사각형 19"/>
            <p:cNvSpPr/>
            <p:nvPr/>
          </p:nvSpPr>
          <p:spPr>
            <a:xfrm>
              <a:off x="928800" y="1991880"/>
              <a:ext cx="7669080" cy="21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수지침으로 활용함에 있어 비효과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휴먼모음T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고등정신기능을 설명하지 못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휴먼모음T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강화인이 내재적 동기에 미치는 영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내재적 동기를 낯출 수 있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휴먼모음T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과 교수에 대한 철학적 입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 그 자체에 대한 즐거움을 추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3" name="그룹 35"/>
          <p:cNvGrpSpPr/>
          <p:nvPr/>
        </p:nvGrpSpPr>
        <p:grpSpPr>
          <a:xfrm>
            <a:off x="714240" y="4456080"/>
            <a:ext cx="8429760" cy="401760"/>
            <a:chOff x="714240" y="4456080"/>
            <a:chExt cx="8429760" cy="401760"/>
          </a:xfrm>
        </p:grpSpPr>
        <p:grpSp>
          <p:nvGrpSpPr>
            <p:cNvPr id="1604" name="그룹 48"/>
            <p:cNvGrpSpPr/>
            <p:nvPr/>
          </p:nvGrpSpPr>
          <p:grpSpPr>
            <a:xfrm>
              <a:off x="714240" y="4456080"/>
              <a:ext cx="8429760" cy="401760"/>
              <a:chOff x="714240" y="4456080"/>
              <a:chExt cx="8429760" cy="401760"/>
            </a:xfrm>
          </p:grpSpPr>
          <p:sp>
            <p:nvSpPr>
              <p:cNvPr id="1605" name="직사각형 14"/>
              <p:cNvSpPr/>
              <p:nvPr/>
            </p:nvSpPr>
            <p:spPr>
              <a:xfrm>
                <a:off x="1123200" y="4456080"/>
                <a:ext cx="3162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긍정적 측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6" name="직선 연결선 15"/>
              <p:cNvSpPr/>
              <p:nvPr/>
            </p:nvSpPr>
            <p:spPr>
              <a:xfrm>
                <a:off x="714240" y="485640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07" name="그룹 49"/>
            <p:cNvGrpSpPr/>
            <p:nvPr/>
          </p:nvGrpSpPr>
          <p:grpSpPr>
            <a:xfrm>
              <a:off x="742680" y="4465440"/>
              <a:ext cx="328320" cy="319320"/>
              <a:chOff x="742680" y="4465440"/>
              <a:chExt cx="328320" cy="319320"/>
            </a:xfrm>
          </p:grpSpPr>
          <p:sp>
            <p:nvSpPr>
              <p:cNvPr id="1608" name="AutoShape 4"/>
              <p:cNvSpPr/>
              <p:nvPr/>
            </p:nvSpPr>
            <p:spPr>
              <a:xfrm>
                <a:off x="742680" y="446544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09" name="Freeform 5"/>
              <p:cNvGrpSpPr/>
              <p:nvPr/>
            </p:nvGrpSpPr>
            <p:grpSpPr>
              <a:xfrm>
                <a:off x="755280" y="4480200"/>
                <a:ext cx="176760" cy="171000"/>
                <a:chOff x="755280" y="4480200"/>
                <a:chExt cx="176760" cy="171000"/>
              </a:xfrm>
            </p:grpSpPr>
            <p:pic>
              <p:nvPicPr>
                <p:cNvPr id="1610" name="Freeform 5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755280" y="4480200"/>
                  <a:ext cx="17676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11" name=""/>
                <p:cNvSpPr/>
                <p:nvPr/>
              </p:nvSpPr>
              <p:spPr>
                <a:xfrm>
                  <a:off x="762840" y="448560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12" name="TextBox 88"/>
            <p:cNvSpPr/>
            <p:nvPr/>
          </p:nvSpPr>
          <p:spPr>
            <a:xfrm>
              <a:off x="741600" y="446076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3" name="그룹 43"/>
          <p:cNvGrpSpPr/>
          <p:nvPr/>
        </p:nvGrpSpPr>
        <p:grpSpPr>
          <a:xfrm>
            <a:off x="642960" y="4929120"/>
            <a:ext cx="8072280" cy="1214640"/>
            <a:chOff x="642960" y="4929120"/>
            <a:chExt cx="8072280" cy="1214640"/>
          </a:xfrm>
        </p:grpSpPr>
        <p:pic>
          <p:nvPicPr>
            <p:cNvPr id="1614" name="Picture 5" descr="233"/>
            <p:cNvPicPr/>
            <p:nvPr/>
          </p:nvPicPr>
          <p:blipFill>
            <a:blip r:embed="rId5"/>
            <a:srcRect l="2544" t="0" r="24313" b="0"/>
            <a:stretch/>
          </p:blipFill>
          <p:spPr>
            <a:xfrm>
              <a:off x="642960" y="4929120"/>
              <a:ext cx="8072280" cy="12146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615" name="직사각형 35"/>
            <p:cNvSpPr/>
            <p:nvPr/>
          </p:nvSpPr>
          <p:spPr>
            <a:xfrm>
              <a:off x="1000080" y="5045040"/>
              <a:ext cx="7669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의집중을 증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휴먼모음T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적절한 행동을 강화함으로써 비행을 줄일 수 있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1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6" name="TextBox 9" descr=""/>
          <p:cNvPicPr/>
          <p:nvPr/>
        </p:nvPicPr>
        <p:blipFill>
          <a:blip r:embed="rId1"/>
          <a:stretch/>
        </p:blipFill>
        <p:spPr>
          <a:xfrm>
            <a:off x="5894280" y="506520"/>
            <a:ext cx="2884680" cy="590400"/>
          </a:xfrm>
          <a:prstGeom prst="rect">
            <a:avLst/>
          </a:prstGeom>
          <a:ln w="0">
            <a:noFill/>
          </a:ln>
        </p:spPr>
      </p:pic>
      <p:grpSp>
        <p:nvGrpSpPr>
          <p:cNvPr id="787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788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789" name="직사각형 14"/>
              <p:cNvSpPr/>
              <p:nvPr/>
            </p:nvSpPr>
            <p:spPr>
              <a:xfrm>
                <a:off x="1051920" y="1386000"/>
                <a:ext cx="3162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학습의 의미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9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3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9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5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6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7" name="그룹 43"/>
          <p:cNvGrpSpPr/>
          <p:nvPr/>
        </p:nvGrpSpPr>
        <p:grpSpPr>
          <a:xfrm>
            <a:off x="571680" y="1876320"/>
            <a:ext cx="8072280" cy="4735800"/>
            <a:chOff x="571680" y="1876320"/>
            <a:chExt cx="8072280" cy="4735800"/>
          </a:xfrm>
        </p:grpSpPr>
        <p:pic>
          <p:nvPicPr>
            <p:cNvPr id="798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6962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799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800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1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2" name="직사각형 19"/>
            <p:cNvSpPr/>
            <p:nvPr/>
          </p:nvSpPr>
          <p:spPr>
            <a:xfrm>
              <a:off x="928800" y="1991880"/>
              <a:ext cx="7669080" cy="462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경험이나 연습에 의한 행동 혹은 행동잠재력의 비교적 지속적인 변화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변화내용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동의 변화의 변화는 물론 지식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고방식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신념의 변화를 포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경험이나 연습에 의한 후천적인 변화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도적 학습과 우연적 학습을 포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속기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을 통한 변화는 상당기간 지속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변화의 방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긍정적 변화와 부정적 변화를 포함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단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육적인 의미에서는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긍정적인 변화만 포함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동 잠재력의 변화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과 수행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동 잠재력을 직접 관찰할 수 있는 행동을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나타내는 것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은 구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6" name="TextBox 12" descr=""/>
          <p:cNvPicPr/>
          <p:nvPr/>
        </p:nvPicPr>
        <p:blipFill>
          <a:blip r:embed="rId1"/>
          <a:stretch/>
        </p:blipFill>
        <p:spPr>
          <a:xfrm>
            <a:off x="6254640" y="506520"/>
            <a:ext cx="30290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617" name="그룹 14"/>
          <p:cNvGrpSpPr/>
          <p:nvPr/>
        </p:nvGrpSpPr>
        <p:grpSpPr>
          <a:xfrm>
            <a:off x="1027800" y="3137760"/>
            <a:ext cx="7044480" cy="407880"/>
            <a:chOff x="1027800" y="3137760"/>
            <a:chExt cx="7044480" cy="407880"/>
          </a:xfrm>
        </p:grpSpPr>
        <p:sp>
          <p:nvSpPr>
            <p:cNvPr id="1618" name="Rectangle 69"/>
            <p:cNvSpPr/>
            <p:nvPr/>
          </p:nvSpPr>
          <p:spPr>
            <a:xfrm>
              <a:off x="1388880" y="3143160"/>
              <a:ext cx="668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대부분의 학습은 모델에 대한 관찰과 모방을 통해 이루어진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9" name="그룹 231"/>
            <p:cNvGrpSpPr/>
            <p:nvPr/>
          </p:nvGrpSpPr>
          <p:grpSpPr>
            <a:xfrm>
              <a:off x="1027800" y="3137760"/>
              <a:ext cx="6187320" cy="407880"/>
              <a:chOff x="1027800" y="3137760"/>
              <a:chExt cx="6187320" cy="407880"/>
            </a:xfrm>
          </p:grpSpPr>
          <p:sp>
            <p:nvSpPr>
              <p:cNvPr id="1620" name="Line 68"/>
              <p:cNvSpPr/>
              <p:nvPr/>
            </p:nvSpPr>
            <p:spPr>
              <a:xfrm>
                <a:off x="1328760" y="3464640"/>
                <a:ext cx="5886360" cy="3600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21" name="Group 74"/>
              <p:cNvGrpSpPr/>
              <p:nvPr/>
            </p:nvGrpSpPr>
            <p:grpSpPr>
              <a:xfrm>
                <a:off x="1027800" y="3137760"/>
                <a:ext cx="399240" cy="407880"/>
                <a:chOff x="1027800" y="3137760"/>
                <a:chExt cx="399240" cy="407880"/>
              </a:xfrm>
            </p:grpSpPr>
            <p:pic>
              <p:nvPicPr>
                <p:cNvPr id="1622" name="Picture 75" descr="circuler_1"/>
                <p:cNvPicPr/>
                <p:nvPr/>
              </p:nvPicPr>
              <p:blipFill>
                <a:blip r:embed="rId2"/>
                <a:stretch/>
              </p:blipFill>
              <p:spPr>
                <a:xfrm rot="4975200">
                  <a:off x="1086840" y="3202560"/>
                  <a:ext cx="277560" cy="272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623" name="Oval 76"/>
                <p:cNvGrpSpPr/>
                <p:nvPr/>
              </p:nvGrpSpPr>
              <p:grpSpPr>
                <a:xfrm>
                  <a:off x="1086120" y="3193560"/>
                  <a:ext cx="280800" cy="286560"/>
                  <a:chOff x="1086120" y="3193560"/>
                  <a:chExt cx="280800" cy="286560"/>
                </a:xfrm>
              </p:grpSpPr>
              <p:pic>
                <p:nvPicPr>
                  <p:cNvPr id="1624" name="Oval 7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6120" y="3193560"/>
                    <a:ext cx="280800" cy="2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25" name=""/>
                  <p:cNvSpPr/>
                  <p:nvPr/>
                </p:nvSpPr>
                <p:spPr>
                  <a:xfrm rot="4976400">
                    <a:off x="1128240" y="3240360"/>
                    <a:ext cx="194760" cy="193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26" name="Group 77"/>
                <p:cNvGrpSpPr/>
                <p:nvPr/>
              </p:nvGrpSpPr>
              <p:grpSpPr>
                <a:xfrm>
                  <a:off x="1085760" y="3266640"/>
                  <a:ext cx="109080" cy="236880"/>
                  <a:chOff x="1085760" y="3266640"/>
                  <a:chExt cx="109080" cy="236880"/>
                </a:xfrm>
              </p:grpSpPr>
              <p:grpSp>
                <p:nvGrpSpPr>
                  <p:cNvPr id="1627" name="Group 78"/>
                  <p:cNvGrpSpPr/>
                  <p:nvPr/>
                </p:nvGrpSpPr>
                <p:grpSpPr>
                  <a:xfrm>
                    <a:off x="1090800" y="3311640"/>
                    <a:ext cx="104040" cy="191880"/>
                    <a:chOff x="1090800" y="3311640"/>
                    <a:chExt cx="104040" cy="191880"/>
                  </a:xfrm>
                </p:grpSpPr>
                <p:sp>
                  <p:nvSpPr>
                    <p:cNvPr id="1628" name="AutoShape 79"/>
                    <p:cNvSpPr/>
                    <p:nvPr/>
                  </p:nvSpPr>
                  <p:spPr>
                    <a:xfrm flipH="1" flipV="1" rot="8941800">
                      <a:off x="1124280" y="336204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29" name="AutoShape 80"/>
                    <p:cNvSpPr/>
                    <p:nvPr/>
                  </p:nvSpPr>
                  <p:spPr>
                    <a:xfrm flipH="1" flipV="1" rot="9757200">
                      <a:off x="1113840" y="334224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0" name="AutoShape 81"/>
                    <p:cNvSpPr/>
                    <p:nvPr/>
                  </p:nvSpPr>
                  <p:spPr>
                    <a:xfrm flipH="1" flipV="1" rot="10053000">
                      <a:off x="1110240" y="332820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1" name="AutoShape 82"/>
                    <p:cNvSpPr/>
                    <p:nvPr/>
                  </p:nvSpPr>
                  <p:spPr>
                    <a:xfrm flipH="1" flipV="1" rot="10585200">
                      <a:off x="1106640" y="3312360"/>
                      <a:ext cx="3636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32" name="Group 83"/>
                  <p:cNvGrpSpPr/>
                  <p:nvPr/>
                </p:nvGrpSpPr>
                <p:grpSpPr>
                  <a:xfrm>
                    <a:off x="1085760" y="3266640"/>
                    <a:ext cx="80640" cy="198720"/>
                    <a:chOff x="1085760" y="3266640"/>
                    <a:chExt cx="80640" cy="198720"/>
                  </a:xfrm>
                </p:grpSpPr>
                <p:sp>
                  <p:nvSpPr>
                    <p:cNvPr id="1633" name="AutoShape 84"/>
                    <p:cNvSpPr/>
                    <p:nvPr/>
                  </p:nvSpPr>
                  <p:spPr>
                    <a:xfrm flipH="1" flipV="1" rot="10294800">
                      <a:off x="1105560" y="332172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4" name="AutoShape 85"/>
                    <p:cNvSpPr/>
                    <p:nvPr/>
                  </p:nvSpPr>
                  <p:spPr>
                    <a:xfrm flipH="1" flipV="1" rot="11110200">
                      <a:off x="1103040" y="329796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5" name="AutoShape 86"/>
                    <p:cNvSpPr/>
                    <p:nvPr/>
                  </p:nvSpPr>
                  <p:spPr>
                    <a:xfrm flipH="1" flipV="1" rot="11406000">
                      <a:off x="1104120" y="328500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6" name="AutoShape 87"/>
                    <p:cNvSpPr/>
                    <p:nvPr/>
                  </p:nvSpPr>
                  <p:spPr>
                    <a:xfrm flipH="1" flipV="1" rot="11938200">
                      <a:off x="1107360" y="326880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637" name="Arc 88"/>
                <p:cNvSpPr/>
                <p:nvPr/>
              </p:nvSpPr>
              <p:spPr>
                <a:xfrm flipH="1" rot="1129200">
                  <a:off x="1071360" y="3179160"/>
                  <a:ext cx="311040" cy="32472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638" name="Picture 89" descr="light_shadow1"/>
                <p:cNvPicPr/>
                <p:nvPr/>
              </p:nvPicPr>
              <p:blipFill>
                <a:blip r:embed="rId4"/>
                <a:srcRect l="0" t="23760" r="0" b="0"/>
                <a:stretch/>
              </p:blipFill>
              <p:spPr>
                <a:xfrm rot="2405400">
                  <a:off x="1162800" y="3216960"/>
                  <a:ext cx="20520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grpSp>
        <p:nvGrpSpPr>
          <p:cNvPr id="1639" name="그룹 35"/>
          <p:cNvGrpSpPr/>
          <p:nvPr/>
        </p:nvGrpSpPr>
        <p:grpSpPr>
          <a:xfrm>
            <a:off x="1027440" y="4867200"/>
            <a:ext cx="5901840" cy="409680"/>
            <a:chOff x="1027440" y="4867200"/>
            <a:chExt cx="5901840" cy="409680"/>
          </a:xfrm>
        </p:grpSpPr>
        <p:sp>
          <p:nvSpPr>
            <p:cNvPr id="1640" name="Rectangle 71"/>
            <p:cNvSpPr/>
            <p:nvPr/>
          </p:nvSpPr>
          <p:spPr>
            <a:xfrm>
              <a:off x="1382760" y="4867200"/>
              <a:ext cx="554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동이 변화되지 않아도 학습은 이루어진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41" name="그룹 233"/>
            <p:cNvGrpSpPr/>
            <p:nvPr/>
          </p:nvGrpSpPr>
          <p:grpSpPr>
            <a:xfrm>
              <a:off x="1027440" y="4870800"/>
              <a:ext cx="4535280" cy="406080"/>
              <a:chOff x="1027440" y="4870800"/>
              <a:chExt cx="4535280" cy="406080"/>
            </a:xfrm>
          </p:grpSpPr>
          <p:grpSp>
            <p:nvGrpSpPr>
              <p:cNvPr id="1642" name="Group 115"/>
              <p:cNvGrpSpPr/>
              <p:nvPr/>
            </p:nvGrpSpPr>
            <p:grpSpPr>
              <a:xfrm>
                <a:off x="1027440" y="4870800"/>
                <a:ext cx="398880" cy="406080"/>
                <a:chOff x="1027440" y="4870800"/>
                <a:chExt cx="398880" cy="406080"/>
              </a:xfrm>
            </p:grpSpPr>
            <p:pic>
              <p:nvPicPr>
                <p:cNvPr id="1643" name="Picture 116" descr="circuler_1"/>
                <p:cNvPicPr/>
                <p:nvPr/>
              </p:nvPicPr>
              <p:blipFill>
                <a:blip r:embed="rId5"/>
                <a:stretch/>
              </p:blipFill>
              <p:spPr>
                <a:xfrm rot="4977000">
                  <a:off x="1087560" y="4934880"/>
                  <a:ext cx="275760" cy="272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644" name="Oval 117"/>
                <p:cNvGrpSpPr/>
                <p:nvPr/>
              </p:nvGrpSpPr>
              <p:grpSpPr>
                <a:xfrm>
                  <a:off x="1085760" y="4925160"/>
                  <a:ext cx="280800" cy="286560"/>
                  <a:chOff x="1085760" y="4925160"/>
                  <a:chExt cx="280800" cy="286560"/>
                </a:xfrm>
              </p:grpSpPr>
              <p:pic>
                <p:nvPicPr>
                  <p:cNvPr id="1645" name="Oval 11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85760" y="4925160"/>
                    <a:ext cx="280800" cy="2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46" name=""/>
                  <p:cNvSpPr/>
                  <p:nvPr/>
                </p:nvSpPr>
                <p:spPr>
                  <a:xfrm rot="4976400">
                    <a:off x="1128600" y="4973400"/>
                    <a:ext cx="193680" cy="193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47" name="Group 118"/>
                <p:cNvGrpSpPr/>
                <p:nvPr/>
              </p:nvGrpSpPr>
              <p:grpSpPr>
                <a:xfrm>
                  <a:off x="1086120" y="5000040"/>
                  <a:ext cx="108360" cy="235800"/>
                  <a:chOff x="1086120" y="5000040"/>
                  <a:chExt cx="108360" cy="235800"/>
                </a:xfrm>
              </p:grpSpPr>
              <p:grpSp>
                <p:nvGrpSpPr>
                  <p:cNvPr id="1648" name="Group 119"/>
                  <p:cNvGrpSpPr/>
                  <p:nvPr/>
                </p:nvGrpSpPr>
                <p:grpSpPr>
                  <a:xfrm>
                    <a:off x="1091160" y="5044680"/>
                    <a:ext cx="103320" cy="191160"/>
                    <a:chOff x="1091160" y="5044680"/>
                    <a:chExt cx="103320" cy="191160"/>
                  </a:xfrm>
                </p:grpSpPr>
                <p:sp>
                  <p:nvSpPr>
                    <p:cNvPr id="1649" name="AutoShape 120"/>
                    <p:cNvSpPr/>
                    <p:nvPr/>
                  </p:nvSpPr>
                  <p:spPr>
                    <a:xfrm flipH="1" flipV="1" rot="8941800">
                      <a:off x="1123920" y="5095440"/>
                      <a:ext cx="36360" cy="14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0" name="AutoShape 121"/>
                    <p:cNvSpPr/>
                    <p:nvPr/>
                  </p:nvSpPr>
                  <p:spPr>
                    <a:xfrm flipH="1" flipV="1" rot="9757200">
                      <a:off x="1113480" y="5074560"/>
                      <a:ext cx="36360" cy="14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1" name="AutoShape 122"/>
                    <p:cNvSpPr/>
                    <p:nvPr/>
                  </p:nvSpPr>
                  <p:spPr>
                    <a:xfrm flipH="1" flipV="1" rot="10053000">
                      <a:off x="1110600" y="506160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2" name="AutoShape 123"/>
                    <p:cNvSpPr/>
                    <p:nvPr/>
                  </p:nvSpPr>
                  <p:spPr>
                    <a:xfrm flipH="1" flipV="1" rot="10585200">
                      <a:off x="1106640" y="504504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53" name="Group 124"/>
                  <p:cNvGrpSpPr/>
                  <p:nvPr/>
                </p:nvGrpSpPr>
                <p:grpSpPr>
                  <a:xfrm>
                    <a:off x="1086120" y="5000040"/>
                    <a:ext cx="80280" cy="197640"/>
                    <a:chOff x="1086120" y="5000040"/>
                    <a:chExt cx="80280" cy="197640"/>
                  </a:xfrm>
                </p:grpSpPr>
                <p:sp>
                  <p:nvSpPr>
                    <p:cNvPr id="1654" name="AutoShape 125"/>
                    <p:cNvSpPr/>
                    <p:nvPr/>
                  </p:nvSpPr>
                  <p:spPr>
                    <a:xfrm flipH="1" flipV="1" rot="10294800">
                      <a:off x="1105200" y="5054760"/>
                      <a:ext cx="36360" cy="140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5" name="AutoShape 126"/>
                    <p:cNvSpPr/>
                    <p:nvPr/>
                  </p:nvSpPr>
                  <p:spPr>
                    <a:xfrm flipH="1" flipV="1" rot="11110200">
                      <a:off x="1103040" y="503100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6" name="AutoShape 127"/>
                    <p:cNvSpPr/>
                    <p:nvPr/>
                  </p:nvSpPr>
                  <p:spPr>
                    <a:xfrm flipH="1" flipV="1" rot="11406000">
                      <a:off x="1104120" y="5018400"/>
                      <a:ext cx="36720" cy="14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7" name="AutoShape 128"/>
                    <p:cNvSpPr/>
                    <p:nvPr/>
                  </p:nvSpPr>
                  <p:spPr>
                    <a:xfrm flipH="1" flipV="1" rot="11938200">
                      <a:off x="1107360" y="5002200"/>
                      <a:ext cx="3672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658" name="Arc 129"/>
                <p:cNvSpPr/>
                <p:nvPr/>
              </p:nvSpPr>
              <p:spPr>
                <a:xfrm flipH="1" rot="1129200">
                  <a:off x="1071000" y="4912200"/>
                  <a:ext cx="311040" cy="32292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659" name="Picture 130" descr="light_shadow1"/>
                <p:cNvPicPr/>
                <p:nvPr/>
              </p:nvPicPr>
              <p:blipFill>
                <a:blip r:embed="rId7"/>
                <a:srcRect l="0" t="23760" r="0" b="0"/>
                <a:stretch/>
              </p:blipFill>
              <p:spPr>
                <a:xfrm rot="2407800">
                  <a:off x="1163160" y="4948920"/>
                  <a:ext cx="203760" cy="1332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660" name="Line 163"/>
              <p:cNvSpPr/>
              <p:nvPr/>
            </p:nvSpPr>
            <p:spPr>
              <a:xfrm>
                <a:off x="1306440" y="5200920"/>
                <a:ext cx="425628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61" name="그룹 55"/>
          <p:cNvGrpSpPr/>
          <p:nvPr/>
        </p:nvGrpSpPr>
        <p:grpSpPr>
          <a:xfrm>
            <a:off x="1027800" y="3959280"/>
            <a:ext cx="6759000" cy="411120"/>
            <a:chOff x="1027800" y="3959280"/>
            <a:chExt cx="6759000" cy="411120"/>
          </a:xfrm>
        </p:grpSpPr>
        <p:sp>
          <p:nvSpPr>
            <p:cNvPr id="1662" name="Rectangle 70"/>
            <p:cNvSpPr/>
            <p:nvPr/>
          </p:nvSpPr>
          <p:spPr>
            <a:xfrm>
              <a:off x="1371600" y="3959280"/>
              <a:ext cx="641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긍정적 결과가 기대되는 모방행동은 나타날 확률이 높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63" name="그룹 232"/>
            <p:cNvGrpSpPr/>
            <p:nvPr/>
          </p:nvGrpSpPr>
          <p:grpSpPr>
            <a:xfrm>
              <a:off x="1027800" y="3963240"/>
              <a:ext cx="5629320" cy="407160"/>
              <a:chOff x="1027800" y="3963240"/>
              <a:chExt cx="5629320" cy="407160"/>
            </a:xfrm>
          </p:grpSpPr>
          <p:grpSp>
            <p:nvGrpSpPr>
              <p:cNvPr id="1664" name="Group 99"/>
              <p:cNvGrpSpPr/>
              <p:nvPr/>
            </p:nvGrpSpPr>
            <p:grpSpPr>
              <a:xfrm>
                <a:off x="1027800" y="3963240"/>
                <a:ext cx="398880" cy="407160"/>
                <a:chOff x="1027800" y="3963240"/>
                <a:chExt cx="398880" cy="407160"/>
              </a:xfrm>
            </p:grpSpPr>
            <p:pic>
              <p:nvPicPr>
                <p:cNvPr id="1665" name="Picture 100" descr="circuler_1"/>
                <p:cNvPicPr/>
                <p:nvPr/>
              </p:nvPicPr>
              <p:blipFill>
                <a:blip r:embed="rId8"/>
                <a:stretch/>
              </p:blipFill>
              <p:spPr>
                <a:xfrm rot="4978800">
                  <a:off x="1086840" y="4027320"/>
                  <a:ext cx="276840" cy="27288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666" name="Oval 101"/>
                <p:cNvGrpSpPr/>
                <p:nvPr/>
              </p:nvGrpSpPr>
              <p:grpSpPr>
                <a:xfrm>
                  <a:off x="1085760" y="4016160"/>
                  <a:ext cx="280800" cy="286200"/>
                  <a:chOff x="1085760" y="4016160"/>
                  <a:chExt cx="280800" cy="286200"/>
                </a:xfrm>
              </p:grpSpPr>
              <p:pic>
                <p:nvPicPr>
                  <p:cNvPr id="1667" name="Oval 101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085760" y="4016160"/>
                    <a:ext cx="280800" cy="2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68" name=""/>
                  <p:cNvSpPr/>
                  <p:nvPr/>
                </p:nvSpPr>
                <p:spPr>
                  <a:xfrm rot="4976400">
                    <a:off x="1127880" y="4065480"/>
                    <a:ext cx="194400" cy="193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69" name="Group 102"/>
                <p:cNvGrpSpPr/>
                <p:nvPr/>
              </p:nvGrpSpPr>
              <p:grpSpPr>
                <a:xfrm>
                  <a:off x="1085760" y="4092120"/>
                  <a:ext cx="109080" cy="236520"/>
                  <a:chOff x="1085760" y="4092120"/>
                  <a:chExt cx="109080" cy="236520"/>
                </a:xfrm>
              </p:grpSpPr>
              <p:grpSp>
                <p:nvGrpSpPr>
                  <p:cNvPr id="1670" name="Group 103"/>
                  <p:cNvGrpSpPr/>
                  <p:nvPr/>
                </p:nvGrpSpPr>
                <p:grpSpPr>
                  <a:xfrm>
                    <a:off x="1091160" y="4137120"/>
                    <a:ext cx="103680" cy="191520"/>
                    <a:chOff x="1091160" y="4137120"/>
                    <a:chExt cx="103680" cy="191520"/>
                  </a:xfrm>
                </p:grpSpPr>
                <p:sp>
                  <p:nvSpPr>
                    <p:cNvPr id="1671" name="AutoShape 104"/>
                    <p:cNvSpPr/>
                    <p:nvPr/>
                  </p:nvSpPr>
                  <p:spPr>
                    <a:xfrm flipH="1" flipV="1" rot="8941800">
                      <a:off x="1124640" y="418788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2" name="AutoShape 105"/>
                    <p:cNvSpPr/>
                    <p:nvPr/>
                  </p:nvSpPr>
                  <p:spPr>
                    <a:xfrm flipH="1" flipV="1" rot="9757200">
                      <a:off x="1114200" y="416736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3" name="AutoShape 106"/>
                    <p:cNvSpPr/>
                    <p:nvPr/>
                  </p:nvSpPr>
                  <p:spPr>
                    <a:xfrm flipH="1" flipV="1" rot="10053000">
                      <a:off x="1110600" y="41536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4" name="AutoShape 107"/>
                    <p:cNvSpPr/>
                    <p:nvPr/>
                  </p:nvSpPr>
                  <p:spPr>
                    <a:xfrm flipH="1" flipV="1" rot="10585200">
                      <a:off x="1107000" y="41374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75" name="Group 108"/>
                  <p:cNvGrpSpPr/>
                  <p:nvPr/>
                </p:nvGrpSpPr>
                <p:grpSpPr>
                  <a:xfrm>
                    <a:off x="1085760" y="4092120"/>
                    <a:ext cx="80640" cy="198000"/>
                    <a:chOff x="1085760" y="4092120"/>
                    <a:chExt cx="80640" cy="198000"/>
                  </a:xfrm>
                </p:grpSpPr>
                <p:sp>
                  <p:nvSpPr>
                    <p:cNvPr id="1676" name="AutoShape 109"/>
                    <p:cNvSpPr/>
                    <p:nvPr/>
                  </p:nvSpPr>
                  <p:spPr>
                    <a:xfrm flipH="1" flipV="1" rot="10294800">
                      <a:off x="1105200" y="414648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7" name="AutoShape 110"/>
                    <p:cNvSpPr/>
                    <p:nvPr/>
                  </p:nvSpPr>
                  <p:spPr>
                    <a:xfrm flipH="1" flipV="1" rot="11110200">
                      <a:off x="1102320" y="412380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8" name="AutoShape 111"/>
                    <p:cNvSpPr/>
                    <p:nvPr/>
                  </p:nvSpPr>
                  <p:spPr>
                    <a:xfrm flipH="1" flipV="1" rot="11406000">
                      <a:off x="1104120" y="411012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9" name="AutoShape 112"/>
                    <p:cNvSpPr/>
                    <p:nvPr/>
                  </p:nvSpPr>
                  <p:spPr>
                    <a:xfrm flipH="1" flipV="1" rot="11938200">
                      <a:off x="1107360" y="409392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680" name="Arc 113"/>
                <p:cNvSpPr/>
                <p:nvPr/>
              </p:nvSpPr>
              <p:spPr>
                <a:xfrm flipH="1" rot="1129200">
                  <a:off x="1071720" y="4004640"/>
                  <a:ext cx="311040" cy="32400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681" name="Picture 114" descr="light_shadow1"/>
                <p:cNvPicPr/>
                <p:nvPr/>
              </p:nvPicPr>
              <p:blipFill>
                <a:blip r:embed="rId10"/>
                <a:srcRect l="0" t="23760" r="0" b="0"/>
                <a:stretch/>
              </p:blipFill>
              <p:spPr>
                <a:xfrm rot="2404800">
                  <a:off x="1163160" y="404172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682" name="Line 164"/>
              <p:cNvSpPr/>
              <p:nvPr/>
            </p:nvSpPr>
            <p:spPr>
              <a:xfrm>
                <a:off x="1305000" y="4300560"/>
                <a:ext cx="5352120" cy="1044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83" name="그룹 75"/>
          <p:cNvGrpSpPr/>
          <p:nvPr/>
        </p:nvGrpSpPr>
        <p:grpSpPr>
          <a:xfrm>
            <a:off x="1041840" y="5709240"/>
            <a:ext cx="5173200" cy="407160"/>
            <a:chOff x="1041840" y="5709240"/>
            <a:chExt cx="5173200" cy="407160"/>
          </a:xfrm>
        </p:grpSpPr>
        <p:sp>
          <p:nvSpPr>
            <p:cNvPr id="1684" name="Rectangle 73"/>
            <p:cNvSpPr/>
            <p:nvPr/>
          </p:nvSpPr>
          <p:spPr>
            <a:xfrm>
              <a:off x="1385640" y="5715000"/>
              <a:ext cx="4829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과정은 학습에 중요한 역할을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5" name="그룹 235"/>
            <p:cNvGrpSpPr/>
            <p:nvPr/>
          </p:nvGrpSpPr>
          <p:grpSpPr>
            <a:xfrm>
              <a:off x="1041840" y="5709240"/>
              <a:ext cx="4539960" cy="407160"/>
              <a:chOff x="1041840" y="5709240"/>
              <a:chExt cx="4539960" cy="407160"/>
            </a:xfrm>
          </p:grpSpPr>
          <p:grpSp>
            <p:nvGrpSpPr>
              <p:cNvPr id="1686" name="Group 147"/>
              <p:cNvGrpSpPr/>
              <p:nvPr/>
            </p:nvGrpSpPr>
            <p:grpSpPr>
              <a:xfrm>
                <a:off x="1041840" y="5709240"/>
                <a:ext cx="398880" cy="407160"/>
                <a:chOff x="1041840" y="5709240"/>
                <a:chExt cx="398880" cy="407160"/>
              </a:xfrm>
            </p:grpSpPr>
            <p:pic>
              <p:nvPicPr>
                <p:cNvPr id="1687" name="Picture 148" descr="circuler_1"/>
                <p:cNvPicPr/>
                <p:nvPr/>
              </p:nvPicPr>
              <p:blipFill>
                <a:blip r:embed="rId11"/>
                <a:stretch/>
              </p:blipFill>
              <p:spPr>
                <a:xfrm rot="4978800">
                  <a:off x="1100880" y="5773320"/>
                  <a:ext cx="276840" cy="27288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688" name="Oval 149"/>
                <p:cNvGrpSpPr/>
                <p:nvPr/>
              </p:nvGrpSpPr>
              <p:grpSpPr>
                <a:xfrm>
                  <a:off x="1099080" y="5766480"/>
                  <a:ext cx="285480" cy="286200"/>
                  <a:chOff x="1099080" y="5766480"/>
                  <a:chExt cx="285480" cy="286200"/>
                </a:xfrm>
              </p:grpSpPr>
              <p:pic>
                <p:nvPicPr>
                  <p:cNvPr id="1689" name="Oval 14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099080" y="5766480"/>
                    <a:ext cx="285480" cy="2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90" name=""/>
                  <p:cNvSpPr/>
                  <p:nvPr/>
                </p:nvSpPr>
                <p:spPr>
                  <a:xfrm rot="4976400">
                    <a:off x="1143000" y="5812200"/>
                    <a:ext cx="194400" cy="19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91" name="Group 150"/>
                <p:cNvGrpSpPr/>
                <p:nvPr/>
              </p:nvGrpSpPr>
              <p:grpSpPr>
                <a:xfrm>
                  <a:off x="1099800" y="5838120"/>
                  <a:ext cx="109080" cy="236520"/>
                  <a:chOff x="1099800" y="5838120"/>
                  <a:chExt cx="109080" cy="236520"/>
                </a:xfrm>
              </p:grpSpPr>
              <p:grpSp>
                <p:nvGrpSpPr>
                  <p:cNvPr id="1692" name="Group 151"/>
                  <p:cNvGrpSpPr/>
                  <p:nvPr/>
                </p:nvGrpSpPr>
                <p:grpSpPr>
                  <a:xfrm>
                    <a:off x="1105200" y="5883120"/>
                    <a:ext cx="103680" cy="191520"/>
                    <a:chOff x="1105200" y="5883120"/>
                    <a:chExt cx="103680" cy="191520"/>
                  </a:xfrm>
                </p:grpSpPr>
                <p:sp>
                  <p:nvSpPr>
                    <p:cNvPr id="1693" name="AutoShape 152"/>
                    <p:cNvSpPr/>
                    <p:nvPr/>
                  </p:nvSpPr>
                  <p:spPr>
                    <a:xfrm flipH="1" flipV="1" rot="8941800">
                      <a:off x="1138680" y="593388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4" name="AutoShape 153"/>
                    <p:cNvSpPr/>
                    <p:nvPr/>
                  </p:nvSpPr>
                  <p:spPr>
                    <a:xfrm flipH="1" flipV="1" rot="9757200">
                      <a:off x="1128240" y="591336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5" name="AutoShape 154"/>
                    <p:cNvSpPr/>
                    <p:nvPr/>
                  </p:nvSpPr>
                  <p:spPr>
                    <a:xfrm flipH="1" flipV="1" rot="10053000">
                      <a:off x="1124640" y="58996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6" name="AutoShape 155"/>
                    <p:cNvSpPr/>
                    <p:nvPr/>
                  </p:nvSpPr>
                  <p:spPr>
                    <a:xfrm flipH="1" flipV="1" rot="10585200">
                      <a:off x="1121040" y="58834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97" name="Group 156"/>
                  <p:cNvGrpSpPr/>
                  <p:nvPr/>
                </p:nvGrpSpPr>
                <p:grpSpPr>
                  <a:xfrm>
                    <a:off x="1099800" y="5838120"/>
                    <a:ext cx="80640" cy="198000"/>
                    <a:chOff x="1099800" y="5838120"/>
                    <a:chExt cx="80640" cy="198000"/>
                  </a:xfrm>
                </p:grpSpPr>
                <p:sp>
                  <p:nvSpPr>
                    <p:cNvPr id="1698" name="AutoShape 157"/>
                    <p:cNvSpPr/>
                    <p:nvPr/>
                  </p:nvSpPr>
                  <p:spPr>
                    <a:xfrm flipH="1" flipV="1" rot="10294800">
                      <a:off x="1119240" y="589248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9" name="AutoShape 158"/>
                    <p:cNvSpPr/>
                    <p:nvPr/>
                  </p:nvSpPr>
                  <p:spPr>
                    <a:xfrm flipH="1" flipV="1" rot="11110200">
                      <a:off x="1116360" y="586980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0" name="AutoShape 159"/>
                    <p:cNvSpPr/>
                    <p:nvPr/>
                  </p:nvSpPr>
                  <p:spPr>
                    <a:xfrm flipH="1" flipV="1" rot="11406000">
                      <a:off x="1118160" y="585612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1" name="AutoShape 160"/>
                    <p:cNvSpPr/>
                    <p:nvPr/>
                  </p:nvSpPr>
                  <p:spPr>
                    <a:xfrm flipH="1" flipV="1" rot="11938200">
                      <a:off x="1121400" y="583992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702" name="Arc 161"/>
                <p:cNvSpPr/>
                <p:nvPr/>
              </p:nvSpPr>
              <p:spPr>
                <a:xfrm flipH="1" rot="1129200">
                  <a:off x="1085760" y="5750640"/>
                  <a:ext cx="311040" cy="32400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703" name="Picture 162" descr="light_shadow1"/>
                <p:cNvPicPr/>
                <p:nvPr/>
              </p:nvPicPr>
              <p:blipFill>
                <a:blip r:embed="rId13"/>
                <a:srcRect l="0" t="23760" r="0" b="0"/>
                <a:stretch/>
              </p:blipFill>
              <p:spPr>
                <a:xfrm rot="2404800">
                  <a:off x="1177200" y="578772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704" name="Line 166"/>
              <p:cNvSpPr/>
              <p:nvPr/>
            </p:nvSpPr>
            <p:spPr>
              <a:xfrm>
                <a:off x="1325160" y="6051240"/>
                <a:ext cx="425664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705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70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707" name="직사각형 134"/>
              <p:cNvSpPr/>
              <p:nvPr/>
            </p:nvSpPr>
            <p:spPr>
              <a:xfrm>
                <a:off x="1519560" y="1385640"/>
                <a:ext cx="2491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모델링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관찰학습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기본견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0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71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1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712" name="Freeform 5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1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714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5" name="그룹 123"/>
          <p:cNvGrpSpPr/>
          <p:nvPr/>
        </p:nvGrpSpPr>
        <p:grpSpPr>
          <a:xfrm>
            <a:off x="428760" y="1928880"/>
            <a:ext cx="8715240" cy="700200"/>
            <a:chOff x="428760" y="1928880"/>
            <a:chExt cx="8715240" cy="700200"/>
          </a:xfrm>
        </p:grpSpPr>
        <p:pic>
          <p:nvPicPr>
            <p:cNvPr id="1716" name="Picture 5" descr="233"/>
            <p:cNvPicPr/>
            <p:nvPr/>
          </p:nvPicPr>
          <p:blipFill>
            <a:blip r:embed="rId15"/>
            <a:srcRect l="2544" t="0" r="24313" b="0"/>
            <a:stretch/>
          </p:blipFill>
          <p:spPr>
            <a:xfrm>
              <a:off x="428760" y="1985760"/>
              <a:ext cx="8501040" cy="6433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717" name="직사각형 271"/>
            <p:cNvSpPr/>
            <p:nvPr/>
          </p:nvSpPr>
          <p:spPr>
            <a:xfrm>
              <a:off x="714240" y="1928880"/>
              <a:ext cx="8429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델링은 모델에 대한 관찰을 통해 일어나는 행동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·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·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의적 변화를 말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18" name="타원 272"/>
            <p:cNvGrpSpPr/>
            <p:nvPr/>
          </p:nvGrpSpPr>
          <p:grpSpPr>
            <a:xfrm>
              <a:off x="694800" y="2219040"/>
              <a:ext cx="225360" cy="231480"/>
              <a:chOff x="694800" y="2219040"/>
              <a:chExt cx="225360" cy="231480"/>
            </a:xfrm>
          </p:grpSpPr>
          <p:pic>
            <p:nvPicPr>
              <p:cNvPr id="1719" name="타원 272" descr=""/>
              <p:cNvPicPr/>
              <p:nvPr/>
            </p:nvPicPr>
            <p:blipFill>
              <a:blip r:embed="rId16"/>
              <a:stretch/>
            </p:blipFill>
            <p:spPr>
              <a:xfrm>
                <a:off x="694800" y="2219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20" name=""/>
              <p:cNvSpPr/>
              <p:nvPr/>
            </p:nvSpPr>
            <p:spPr>
              <a:xfrm rot="10800000">
                <a:off x="773280" y="22734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1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1" name="TextBox 12" descr=""/>
          <p:cNvPicPr/>
          <p:nvPr/>
        </p:nvPicPr>
        <p:blipFill>
          <a:blip r:embed="rId1"/>
          <a:stretch/>
        </p:blipFill>
        <p:spPr>
          <a:xfrm>
            <a:off x="6254640" y="506520"/>
            <a:ext cx="30290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722" name="그룹 35"/>
          <p:cNvGrpSpPr/>
          <p:nvPr/>
        </p:nvGrpSpPr>
        <p:grpSpPr>
          <a:xfrm>
            <a:off x="642960" y="1143000"/>
            <a:ext cx="8429760" cy="449280"/>
            <a:chOff x="642960" y="1143000"/>
            <a:chExt cx="8429760" cy="449280"/>
          </a:xfrm>
        </p:grpSpPr>
        <p:grpSp>
          <p:nvGrpSpPr>
            <p:cNvPr id="1723" name="그룹 48"/>
            <p:cNvGrpSpPr/>
            <p:nvPr/>
          </p:nvGrpSpPr>
          <p:grpSpPr>
            <a:xfrm>
              <a:off x="642960" y="1190520"/>
              <a:ext cx="8429760" cy="401760"/>
              <a:chOff x="642960" y="1190520"/>
              <a:chExt cx="8429760" cy="401760"/>
            </a:xfrm>
          </p:grpSpPr>
          <p:sp>
            <p:nvSpPr>
              <p:cNvPr id="1724" name="직사각형 55"/>
              <p:cNvSpPr/>
              <p:nvPr/>
            </p:nvSpPr>
            <p:spPr>
              <a:xfrm>
                <a:off x="1419120" y="119052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관찰학습의 효과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5" name="직선 연결선 18"/>
              <p:cNvSpPr/>
              <p:nvPr/>
            </p:nvSpPr>
            <p:spPr>
              <a:xfrm>
                <a:off x="642960" y="159084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26" name="그룹 49"/>
            <p:cNvGrpSpPr/>
            <p:nvPr/>
          </p:nvGrpSpPr>
          <p:grpSpPr>
            <a:xfrm>
              <a:off x="671400" y="1199880"/>
              <a:ext cx="328320" cy="319320"/>
              <a:chOff x="671400" y="1199880"/>
              <a:chExt cx="328320" cy="319320"/>
            </a:xfrm>
          </p:grpSpPr>
          <p:sp>
            <p:nvSpPr>
              <p:cNvPr id="1727" name="AutoShape 4"/>
              <p:cNvSpPr/>
              <p:nvPr/>
            </p:nvSpPr>
            <p:spPr>
              <a:xfrm>
                <a:off x="671400" y="119988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28" name="Freeform 5"/>
              <p:cNvGrpSpPr/>
              <p:nvPr/>
            </p:nvGrpSpPr>
            <p:grpSpPr>
              <a:xfrm>
                <a:off x="688680" y="1212840"/>
                <a:ext cx="170640" cy="171000"/>
                <a:chOff x="688680" y="1212840"/>
                <a:chExt cx="170640" cy="171000"/>
              </a:xfrm>
            </p:grpSpPr>
            <p:pic>
              <p:nvPicPr>
                <p:cNvPr id="172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21284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30" name=""/>
                <p:cNvSpPr/>
                <p:nvPr/>
              </p:nvSpPr>
              <p:spPr>
                <a:xfrm>
                  <a:off x="691920" y="122040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731" name="TextBox 88"/>
            <p:cNvSpPr/>
            <p:nvPr/>
          </p:nvSpPr>
          <p:spPr>
            <a:xfrm>
              <a:off x="678240" y="1143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2" name="그룹 26"/>
          <p:cNvGrpSpPr/>
          <p:nvPr/>
        </p:nvGrpSpPr>
        <p:grpSpPr>
          <a:xfrm>
            <a:off x="214200" y="1785960"/>
            <a:ext cx="8572680" cy="1357200"/>
            <a:chOff x="214200" y="1785960"/>
            <a:chExt cx="8572680" cy="1357200"/>
          </a:xfrm>
        </p:grpSpPr>
        <p:grpSp>
          <p:nvGrpSpPr>
            <p:cNvPr id="1733" name="그룹 91"/>
            <p:cNvGrpSpPr/>
            <p:nvPr/>
          </p:nvGrpSpPr>
          <p:grpSpPr>
            <a:xfrm>
              <a:off x="214200" y="1785960"/>
              <a:ext cx="8501400" cy="1357200"/>
              <a:chOff x="214200" y="1785960"/>
              <a:chExt cx="8501400" cy="1357200"/>
            </a:xfrm>
          </p:grpSpPr>
          <p:pic>
            <p:nvPicPr>
              <p:cNvPr id="1734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14200" y="2071440"/>
                <a:ext cx="8501400" cy="10717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735" name="그룹 34"/>
              <p:cNvGrpSpPr/>
              <p:nvPr/>
            </p:nvGrpSpPr>
            <p:grpSpPr>
              <a:xfrm>
                <a:off x="785520" y="1875960"/>
                <a:ext cx="349200" cy="381240"/>
                <a:chOff x="785520" y="1875960"/>
                <a:chExt cx="349200" cy="381240"/>
              </a:xfrm>
            </p:grpSpPr>
            <p:pic>
              <p:nvPicPr>
                <p:cNvPr id="1736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785520" y="1901520"/>
                  <a:ext cx="349200" cy="355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37" name="TextBox 36"/>
                <p:cNvSpPr/>
                <p:nvPr/>
              </p:nvSpPr>
              <p:spPr>
                <a:xfrm>
                  <a:off x="821520" y="187596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8" name="직사각형 63"/>
              <p:cNvSpPr/>
              <p:nvPr/>
            </p:nvSpPr>
            <p:spPr>
              <a:xfrm>
                <a:off x="1546560" y="1785960"/>
                <a:ext cx="407880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관찰학습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효과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observational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learning effec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9" name="타원 57"/>
            <p:cNvGrpSpPr/>
            <p:nvPr/>
          </p:nvGrpSpPr>
          <p:grpSpPr>
            <a:xfrm>
              <a:off x="932400" y="2499480"/>
              <a:ext cx="225360" cy="231480"/>
              <a:chOff x="932400" y="2499480"/>
              <a:chExt cx="225360" cy="231480"/>
            </a:xfrm>
          </p:grpSpPr>
          <p:pic>
            <p:nvPicPr>
              <p:cNvPr id="1740" name="타원 57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400" y="24994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41" name=""/>
              <p:cNvSpPr/>
              <p:nvPr/>
            </p:nvSpPr>
            <p:spPr>
              <a:xfrm rot="10800000">
                <a:off x="1014120" y="2557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42" name="직사각형 58"/>
            <p:cNvSpPr/>
            <p:nvPr/>
          </p:nvSpPr>
          <p:spPr>
            <a:xfrm>
              <a:off x="1142640" y="2336760"/>
              <a:ext cx="764424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델의 행동을 관찰하는 과정을 통해 새로운 행동이나 기능을 학습하는 현상을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말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파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재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기화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3" name="직선 연결선 60"/>
            <p:cNvSpPr/>
            <p:nvPr/>
          </p:nvSpPr>
          <p:spPr>
            <a:xfrm>
              <a:off x="6643800" y="2071440"/>
              <a:ext cx="171612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4" name="그룹 26"/>
          <p:cNvGrpSpPr/>
          <p:nvPr/>
        </p:nvGrpSpPr>
        <p:grpSpPr>
          <a:xfrm>
            <a:off x="214200" y="3206880"/>
            <a:ext cx="8572680" cy="1005480"/>
            <a:chOff x="214200" y="3206880"/>
            <a:chExt cx="8572680" cy="1005480"/>
          </a:xfrm>
        </p:grpSpPr>
        <p:grpSp>
          <p:nvGrpSpPr>
            <p:cNvPr id="1745" name="그룹 91"/>
            <p:cNvGrpSpPr/>
            <p:nvPr/>
          </p:nvGrpSpPr>
          <p:grpSpPr>
            <a:xfrm>
              <a:off x="214200" y="3206880"/>
              <a:ext cx="8501400" cy="1000440"/>
              <a:chOff x="214200" y="3206880"/>
              <a:chExt cx="8501400" cy="1000440"/>
            </a:xfrm>
          </p:grpSpPr>
          <p:pic>
            <p:nvPicPr>
              <p:cNvPr id="1746" name="Picture 5" descr="233"/>
              <p:cNvPicPr/>
              <p:nvPr/>
            </p:nvPicPr>
            <p:blipFill>
              <a:blip r:embed="rId6"/>
              <a:srcRect l="0" t="0" r="24313" b="0"/>
              <a:stretch/>
            </p:blipFill>
            <p:spPr>
              <a:xfrm>
                <a:off x="214200" y="3492720"/>
                <a:ext cx="8501400" cy="71460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747" name="그룹 34"/>
              <p:cNvGrpSpPr/>
              <p:nvPr/>
            </p:nvGrpSpPr>
            <p:grpSpPr>
              <a:xfrm>
                <a:off x="785520" y="3296880"/>
                <a:ext cx="349200" cy="381600"/>
                <a:chOff x="785520" y="3296880"/>
                <a:chExt cx="349200" cy="381600"/>
              </a:xfrm>
            </p:grpSpPr>
            <p:pic>
              <p:nvPicPr>
                <p:cNvPr id="1748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785520" y="3321720"/>
                  <a:ext cx="349200" cy="35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49" name="TextBox 36"/>
                <p:cNvSpPr/>
                <p:nvPr/>
              </p:nvSpPr>
              <p:spPr>
                <a:xfrm>
                  <a:off x="821520" y="329688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0" name="직사각형 75"/>
              <p:cNvSpPr/>
              <p:nvPr/>
            </p:nvSpPr>
            <p:spPr>
              <a:xfrm>
                <a:off x="1372320" y="3206880"/>
                <a:ext cx="254448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금지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효과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inhibitory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effec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1" name="타원 69"/>
            <p:cNvGrpSpPr/>
            <p:nvPr/>
          </p:nvGrpSpPr>
          <p:grpSpPr>
            <a:xfrm>
              <a:off x="932400" y="3877200"/>
              <a:ext cx="225360" cy="231480"/>
              <a:chOff x="932400" y="3877200"/>
              <a:chExt cx="225360" cy="231480"/>
            </a:xfrm>
          </p:grpSpPr>
          <p:pic>
            <p:nvPicPr>
              <p:cNvPr id="1752" name="타원 69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400" y="3877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53" name=""/>
              <p:cNvSpPr/>
              <p:nvPr/>
            </p:nvSpPr>
            <p:spPr>
              <a:xfrm rot="10800000">
                <a:off x="1014120" y="39355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54" name="직사각형 70"/>
            <p:cNvSpPr/>
            <p:nvPr/>
          </p:nvSpPr>
          <p:spPr>
            <a:xfrm>
              <a:off x="1142640" y="3706920"/>
              <a:ext cx="7644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처벌받는 모습을 관찰한 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대치 처벌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그 행동을 금지하거나 억제하는 것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5" name="직선 연결선 72"/>
            <p:cNvSpPr/>
            <p:nvPr/>
          </p:nvSpPr>
          <p:spPr>
            <a:xfrm>
              <a:off x="6643800" y="3492720"/>
              <a:ext cx="171612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6" name="그룹 26"/>
          <p:cNvGrpSpPr/>
          <p:nvPr/>
        </p:nvGrpSpPr>
        <p:grpSpPr>
          <a:xfrm>
            <a:off x="214200" y="4357800"/>
            <a:ext cx="8572680" cy="1285920"/>
            <a:chOff x="214200" y="4357800"/>
            <a:chExt cx="8572680" cy="1285920"/>
          </a:xfrm>
        </p:grpSpPr>
        <p:grpSp>
          <p:nvGrpSpPr>
            <p:cNvPr id="1757" name="그룹 91"/>
            <p:cNvGrpSpPr/>
            <p:nvPr/>
          </p:nvGrpSpPr>
          <p:grpSpPr>
            <a:xfrm>
              <a:off x="214200" y="4357800"/>
              <a:ext cx="8501400" cy="1285920"/>
              <a:chOff x="214200" y="4357800"/>
              <a:chExt cx="8501400" cy="1285920"/>
            </a:xfrm>
          </p:grpSpPr>
          <p:pic>
            <p:nvPicPr>
              <p:cNvPr id="1758" name="Picture 5" descr="233"/>
              <p:cNvPicPr/>
              <p:nvPr/>
            </p:nvPicPr>
            <p:blipFill>
              <a:blip r:embed="rId9"/>
              <a:srcRect l="0" t="0" r="24313" b="0"/>
              <a:stretch/>
            </p:blipFill>
            <p:spPr>
              <a:xfrm>
                <a:off x="214200" y="4643280"/>
                <a:ext cx="8501400" cy="10004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759" name="그룹 34"/>
              <p:cNvGrpSpPr/>
              <p:nvPr/>
            </p:nvGrpSpPr>
            <p:grpSpPr>
              <a:xfrm>
                <a:off x="785520" y="4447800"/>
                <a:ext cx="349200" cy="381240"/>
                <a:chOff x="785520" y="4447800"/>
                <a:chExt cx="349200" cy="381240"/>
              </a:xfrm>
            </p:grpSpPr>
            <p:pic>
              <p:nvPicPr>
                <p:cNvPr id="1760" name="Picture 177" descr="bull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785520" y="4474080"/>
                  <a:ext cx="349200" cy="354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61" name="TextBox 36"/>
                <p:cNvSpPr/>
                <p:nvPr/>
              </p:nvSpPr>
              <p:spPr>
                <a:xfrm>
                  <a:off x="821520" y="444780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62" name="직사각형 41"/>
              <p:cNvSpPr/>
              <p:nvPr/>
            </p:nvSpPr>
            <p:spPr>
              <a:xfrm>
                <a:off x="1434600" y="4357800"/>
                <a:ext cx="297108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탈제지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효과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disinhibitory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effec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3" name="타원 36"/>
            <p:cNvGrpSpPr/>
            <p:nvPr/>
          </p:nvGrpSpPr>
          <p:grpSpPr>
            <a:xfrm>
              <a:off x="932400" y="4956120"/>
              <a:ext cx="225360" cy="231480"/>
              <a:chOff x="932400" y="4956120"/>
              <a:chExt cx="225360" cy="231480"/>
            </a:xfrm>
          </p:grpSpPr>
          <p:pic>
            <p:nvPicPr>
              <p:cNvPr id="1764" name="타원 36" descr=""/>
              <p:cNvPicPr/>
              <p:nvPr/>
            </p:nvPicPr>
            <p:blipFill>
              <a:blip r:embed="rId11"/>
              <a:stretch/>
            </p:blipFill>
            <p:spPr>
              <a:xfrm>
                <a:off x="932400" y="49561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65" name=""/>
              <p:cNvSpPr/>
              <p:nvPr/>
            </p:nvSpPr>
            <p:spPr>
              <a:xfrm rot="10800000">
                <a:off x="1014120" y="5014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66" name="직사각형 37"/>
            <p:cNvSpPr/>
            <p:nvPr/>
          </p:nvSpPr>
          <p:spPr>
            <a:xfrm>
              <a:off x="1142640" y="4857840"/>
              <a:ext cx="7644240" cy="43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26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금지된 행동을 한 모델이 보상을 받거나 처벌받지 않는 것을 관찰한 후 평소 억제하던 그 행동을 수행하는 것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7" name="직선 연결선 38"/>
            <p:cNvSpPr/>
            <p:nvPr/>
          </p:nvSpPr>
          <p:spPr>
            <a:xfrm>
              <a:off x="6643800" y="4643280"/>
              <a:ext cx="171612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8" name="그룹 26"/>
          <p:cNvGrpSpPr/>
          <p:nvPr/>
        </p:nvGrpSpPr>
        <p:grpSpPr>
          <a:xfrm>
            <a:off x="214200" y="5715000"/>
            <a:ext cx="8572680" cy="1000080"/>
            <a:chOff x="214200" y="5715000"/>
            <a:chExt cx="8572680" cy="1000080"/>
          </a:xfrm>
        </p:grpSpPr>
        <p:grpSp>
          <p:nvGrpSpPr>
            <p:cNvPr id="1769" name="그룹 91"/>
            <p:cNvGrpSpPr/>
            <p:nvPr/>
          </p:nvGrpSpPr>
          <p:grpSpPr>
            <a:xfrm>
              <a:off x="214200" y="5715000"/>
              <a:ext cx="8501400" cy="1000080"/>
              <a:chOff x="214200" y="5715000"/>
              <a:chExt cx="8501400" cy="1000080"/>
            </a:xfrm>
          </p:grpSpPr>
          <p:pic>
            <p:nvPicPr>
              <p:cNvPr id="1770" name="Picture 5" descr="233"/>
              <p:cNvPicPr/>
              <p:nvPr/>
            </p:nvPicPr>
            <p:blipFill>
              <a:blip r:embed="rId12"/>
              <a:srcRect l="0" t="0" r="24313" b="0"/>
              <a:stretch/>
            </p:blipFill>
            <p:spPr>
              <a:xfrm>
                <a:off x="214200" y="5937120"/>
                <a:ext cx="8501400" cy="7779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771" name="그룹 34"/>
              <p:cNvGrpSpPr/>
              <p:nvPr/>
            </p:nvGrpSpPr>
            <p:grpSpPr>
              <a:xfrm>
                <a:off x="785520" y="5784840"/>
                <a:ext cx="349200" cy="337320"/>
                <a:chOff x="785520" y="5784840"/>
                <a:chExt cx="349200" cy="337320"/>
              </a:xfrm>
            </p:grpSpPr>
            <p:pic>
              <p:nvPicPr>
                <p:cNvPr id="1772" name="Picture 177" descr="bull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785520" y="5802480"/>
                  <a:ext cx="349200" cy="2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3" name="TextBox 36"/>
                <p:cNvSpPr/>
                <p:nvPr/>
              </p:nvSpPr>
              <p:spPr>
                <a:xfrm>
                  <a:off x="821520" y="57848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4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74" name="직사각형 51"/>
              <p:cNvSpPr/>
              <p:nvPr/>
            </p:nvSpPr>
            <p:spPr>
              <a:xfrm>
                <a:off x="1390680" y="5715000"/>
                <a:ext cx="122616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기존 행동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촉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75" name="타원 46"/>
            <p:cNvGrpSpPr/>
            <p:nvPr/>
          </p:nvGrpSpPr>
          <p:grpSpPr>
            <a:xfrm>
              <a:off x="932400" y="6315480"/>
              <a:ext cx="225360" cy="207000"/>
              <a:chOff x="932400" y="6315480"/>
              <a:chExt cx="225360" cy="207000"/>
            </a:xfrm>
          </p:grpSpPr>
          <p:pic>
            <p:nvPicPr>
              <p:cNvPr id="1776" name="타원 46" descr=""/>
              <p:cNvPicPr/>
              <p:nvPr/>
            </p:nvPicPr>
            <p:blipFill>
              <a:blip r:embed="rId14"/>
              <a:stretch/>
            </p:blipFill>
            <p:spPr>
              <a:xfrm>
                <a:off x="932400" y="6315480"/>
                <a:ext cx="22536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77" name=""/>
              <p:cNvSpPr/>
              <p:nvPr/>
            </p:nvSpPr>
            <p:spPr>
              <a:xfrm rot="10800000">
                <a:off x="1014120" y="6368760"/>
                <a:ext cx="69120" cy="53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78" name="직사각형 47"/>
            <p:cNvSpPr/>
            <p:nvPr/>
          </p:nvSpPr>
          <p:spPr>
            <a:xfrm>
              <a:off x="1142640" y="6143400"/>
              <a:ext cx="7644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델의 행동은 관찰자가 이미 학습한 행동을 촉진하는 기능을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9" name="직선 연결선 48"/>
            <p:cNvSpPr/>
            <p:nvPr/>
          </p:nvSpPr>
          <p:spPr>
            <a:xfrm>
              <a:off x="6643800" y="5937120"/>
              <a:ext cx="171612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1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80" name="그룹 45"/>
          <p:cNvGrpSpPr/>
          <p:nvPr/>
        </p:nvGrpSpPr>
        <p:grpSpPr>
          <a:xfrm>
            <a:off x="4941720" y="3022560"/>
            <a:ext cx="2273400" cy="2367000"/>
            <a:chOff x="4941720" y="3022560"/>
            <a:chExt cx="2273400" cy="2367000"/>
          </a:xfrm>
        </p:grpSpPr>
        <p:sp>
          <p:nvSpPr>
            <p:cNvPr id="1781" name="AutoShape 5"/>
            <p:cNvSpPr/>
            <p:nvPr/>
          </p:nvSpPr>
          <p:spPr>
            <a:xfrm>
              <a:off x="4941720" y="3022560"/>
              <a:ext cx="2273400" cy="2367000"/>
            </a:xfrm>
            <a:custGeom>
              <a:avLst/>
              <a:gdLst>
                <a:gd name="textAreaLeft" fmla="*/ 0 w 2273400"/>
                <a:gd name="textAreaRight" fmla="*/ 2273760 w 2273400"/>
                <a:gd name="textAreaTop" fmla="*/ 0 h 2367000"/>
                <a:gd name="textAreaBottom" fmla="*/ 2367360 h 2367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441" y="0"/>
                  </a:lnTo>
                  <a:lnTo>
                    <a:pt x="21600" y="10800"/>
                  </a:lnTo>
                  <a:lnTo>
                    <a:pt x="17441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6f6f6"/>
                </a:gs>
                <a:gs pos="100000">
                  <a:srgbClr val="c0c0c0"/>
                </a:gs>
              </a:gsLst>
              <a:lin ang="2700000"/>
            </a:gradFill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2" name="TextBox 37"/>
            <p:cNvSpPr/>
            <p:nvPr/>
          </p:nvSpPr>
          <p:spPr>
            <a:xfrm>
              <a:off x="5572080" y="3429000"/>
              <a:ext cx="1553400" cy="164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기화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연습한 행동을 표출하려는 동기를 형성하는 단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3" name="그룹 44"/>
          <p:cNvGrpSpPr/>
          <p:nvPr/>
        </p:nvGrpSpPr>
        <p:grpSpPr>
          <a:xfrm>
            <a:off x="3313080" y="3036960"/>
            <a:ext cx="2435400" cy="2367000"/>
            <a:chOff x="3313080" y="3036960"/>
            <a:chExt cx="2435400" cy="2367000"/>
          </a:xfrm>
        </p:grpSpPr>
        <p:sp>
          <p:nvSpPr>
            <p:cNvPr id="1784" name="AutoShape 6"/>
            <p:cNvSpPr/>
            <p:nvPr/>
          </p:nvSpPr>
          <p:spPr>
            <a:xfrm>
              <a:off x="3313080" y="3036960"/>
              <a:ext cx="2435400" cy="2367000"/>
            </a:xfrm>
            <a:custGeom>
              <a:avLst/>
              <a:gdLst>
                <a:gd name="textAreaLeft" fmla="*/ 0 w 2435400"/>
                <a:gd name="textAreaRight" fmla="*/ 2435760 w 2435400"/>
                <a:gd name="textAreaTop" fmla="*/ 0 h 2367000"/>
                <a:gd name="textAreaBottom" fmla="*/ 2367360 h 2367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47" y="0"/>
                  </a:lnTo>
                  <a:lnTo>
                    <a:pt x="21600" y="10800"/>
                  </a:lnTo>
                  <a:lnTo>
                    <a:pt x="17347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4a63a"/>
                </a:gs>
              </a:gsLst>
              <a:lin ang="18900000"/>
            </a:gradFill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5" name="TextBox 36"/>
            <p:cNvSpPr/>
            <p:nvPr/>
          </p:nvSpPr>
          <p:spPr>
            <a:xfrm>
              <a:off x="4214880" y="3433680"/>
              <a:ext cx="1394280" cy="161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재생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방된 행동을 동작으로 실행하는 단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6" name="그룹 43"/>
          <p:cNvGrpSpPr/>
          <p:nvPr/>
        </p:nvGrpSpPr>
        <p:grpSpPr>
          <a:xfrm>
            <a:off x="2000160" y="3022560"/>
            <a:ext cx="2273400" cy="2367000"/>
            <a:chOff x="2000160" y="3022560"/>
            <a:chExt cx="2273400" cy="2367000"/>
          </a:xfrm>
        </p:grpSpPr>
        <p:sp>
          <p:nvSpPr>
            <p:cNvPr id="1787" name="AutoShape 5"/>
            <p:cNvSpPr/>
            <p:nvPr/>
          </p:nvSpPr>
          <p:spPr>
            <a:xfrm>
              <a:off x="2000160" y="3022560"/>
              <a:ext cx="2273400" cy="2367000"/>
            </a:xfrm>
            <a:custGeom>
              <a:avLst/>
              <a:gdLst>
                <a:gd name="textAreaLeft" fmla="*/ 0 w 2273400"/>
                <a:gd name="textAreaRight" fmla="*/ 2273760 w 2273400"/>
                <a:gd name="textAreaTop" fmla="*/ 0 h 2367000"/>
                <a:gd name="textAreaBottom" fmla="*/ 2367360 h 2367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441" y="0"/>
                  </a:lnTo>
                  <a:lnTo>
                    <a:pt x="21600" y="10800"/>
                  </a:lnTo>
                  <a:lnTo>
                    <a:pt x="17441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6f6f6"/>
                </a:gs>
                <a:gs pos="100000">
                  <a:srgbClr val="c0c0c0"/>
                </a:gs>
              </a:gsLst>
              <a:lin ang="2700000"/>
            </a:gradFill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8" name="TextBox 35"/>
            <p:cNvSpPr/>
            <p:nvPr/>
          </p:nvSpPr>
          <p:spPr>
            <a:xfrm>
              <a:off x="2643120" y="3433680"/>
              <a:ext cx="1487880" cy="140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파지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델의 행동을 기억하는 단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9" name="그룹 42"/>
          <p:cNvGrpSpPr/>
          <p:nvPr/>
        </p:nvGrpSpPr>
        <p:grpSpPr>
          <a:xfrm>
            <a:off x="371520" y="3036960"/>
            <a:ext cx="2435040" cy="2367000"/>
            <a:chOff x="371520" y="3036960"/>
            <a:chExt cx="2435040" cy="2367000"/>
          </a:xfrm>
        </p:grpSpPr>
        <p:sp>
          <p:nvSpPr>
            <p:cNvPr id="1790" name="AutoShape 6"/>
            <p:cNvSpPr/>
            <p:nvPr/>
          </p:nvSpPr>
          <p:spPr>
            <a:xfrm>
              <a:off x="371520" y="3036960"/>
              <a:ext cx="2435040" cy="2367000"/>
            </a:xfrm>
            <a:custGeom>
              <a:avLst/>
              <a:gdLst>
                <a:gd name="textAreaLeft" fmla="*/ 0 w 2435040"/>
                <a:gd name="textAreaRight" fmla="*/ 2435400 w 2435040"/>
                <a:gd name="textAreaTop" fmla="*/ 0 h 2367000"/>
                <a:gd name="textAreaBottom" fmla="*/ 2367360 h 2367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47" y="0"/>
                  </a:lnTo>
                  <a:lnTo>
                    <a:pt x="21600" y="10800"/>
                  </a:lnTo>
                  <a:lnTo>
                    <a:pt x="17347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4a63a"/>
                </a:gs>
              </a:gsLst>
              <a:lin ang="18900000"/>
            </a:gradFill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1" name="TextBox 34"/>
            <p:cNvSpPr/>
            <p:nvPr/>
          </p:nvSpPr>
          <p:spPr>
            <a:xfrm>
              <a:off x="1142640" y="3433680"/>
              <a:ext cx="1571760" cy="140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의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델의 행동에 주의를 기울이는 단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92" name="TextBox 12" descr=""/>
          <p:cNvPicPr/>
          <p:nvPr/>
        </p:nvPicPr>
        <p:blipFill>
          <a:blip r:embed="rId1"/>
          <a:stretch/>
        </p:blipFill>
        <p:spPr>
          <a:xfrm>
            <a:off x="6254640" y="506520"/>
            <a:ext cx="3029040" cy="590400"/>
          </a:xfrm>
          <a:prstGeom prst="rect">
            <a:avLst/>
          </a:prstGeom>
          <a:ln w="0">
            <a:noFill/>
          </a:ln>
        </p:spPr>
      </p:pic>
      <p:sp>
        <p:nvSpPr>
          <p:cNvPr id="1793" name="Freeform 7"/>
          <p:cNvSpPr/>
          <p:nvPr/>
        </p:nvSpPr>
        <p:spPr>
          <a:xfrm>
            <a:off x="658800" y="2643120"/>
            <a:ext cx="6199200" cy="424080"/>
          </a:xfrm>
          <a:prstGeom prst="pie">
            <a:avLst/>
          </a:prstGeom>
          <a:gradFill rotWithShape="0">
            <a:gsLst>
              <a:gs pos="0">
                <a:srgbClr val="75c638"/>
              </a:gs>
              <a:gs pos="100000">
                <a:srgbClr val="365c1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4" name="AutoShape 8"/>
          <p:cNvSpPr/>
          <p:nvPr/>
        </p:nvSpPr>
        <p:spPr>
          <a:xfrm>
            <a:off x="376200" y="2644920"/>
            <a:ext cx="838080" cy="2788920"/>
          </a:xfrm>
          <a:custGeom>
            <a:avLst/>
            <a:gdLst>
              <a:gd name="textAreaLeft" fmla="*/ 0 w 838080"/>
              <a:gd name="textAreaRight" fmla="*/ 838440 w 838080"/>
              <a:gd name="textAreaTop" fmla="*/ 0 h 2788920"/>
              <a:gd name="textAreaBottom" fmla="*/ 2789280 h 278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9437" y="0"/>
                </a:lnTo>
                <a:lnTo>
                  <a:pt x="21600" y="10800"/>
                </a:lnTo>
                <a:lnTo>
                  <a:pt x="9437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3564c3"/>
              </a:gs>
              <a:gs pos="100000">
                <a:srgbClr val="254688"/>
              </a:gs>
            </a:gsLst>
            <a:lin ang="2700000"/>
          </a:gradFill>
          <a:ln w="0">
            <a:noFill/>
          </a:ln>
          <a:effectLst>
            <a:outerShdw dist="52300" dir="4563564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5" name="Rectangle 10"/>
          <p:cNvSpPr/>
          <p:nvPr/>
        </p:nvSpPr>
        <p:spPr>
          <a:xfrm>
            <a:off x="2293920" y="2670120"/>
            <a:ext cx="303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모델링의 과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6" name="직선 연결선 32"/>
          <p:cNvSpPr/>
          <p:nvPr/>
        </p:nvSpPr>
        <p:spPr>
          <a:xfrm>
            <a:off x="385920" y="5405400"/>
            <a:ext cx="6400800" cy="28440"/>
          </a:xfrm>
          <a:prstGeom prst="line">
            <a:avLst/>
          </a:prstGeom>
          <a:ln w="316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7" name="TextBox 38"/>
          <p:cNvSpPr/>
          <p:nvPr/>
        </p:nvSpPr>
        <p:spPr>
          <a:xfrm>
            <a:off x="482760" y="3395520"/>
            <a:ext cx="333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8" name="모서리가 둥근 직사각형 47"/>
          <p:cNvGrpSpPr/>
          <p:nvPr/>
        </p:nvGrpSpPr>
        <p:grpSpPr>
          <a:xfrm>
            <a:off x="7070760" y="3840120"/>
            <a:ext cx="1871640" cy="1049400"/>
            <a:chOff x="7070760" y="3840120"/>
            <a:chExt cx="1871640" cy="1049400"/>
          </a:xfrm>
        </p:grpSpPr>
        <p:pic>
          <p:nvPicPr>
            <p:cNvPr id="1799" name="모서리가 둥근 직사각형 47" descr=""/>
            <p:cNvPicPr/>
            <p:nvPr/>
          </p:nvPicPr>
          <p:blipFill>
            <a:blip r:embed="rId2"/>
            <a:stretch/>
          </p:blipFill>
          <p:spPr>
            <a:xfrm>
              <a:off x="7070760" y="3840120"/>
              <a:ext cx="1871640" cy="104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0" name=""/>
            <p:cNvSpPr/>
            <p:nvPr/>
          </p:nvSpPr>
          <p:spPr>
            <a:xfrm>
              <a:off x="7464600" y="3892680"/>
              <a:ext cx="1430280" cy="64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동작수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1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80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803" name="직사각형 31"/>
              <p:cNvSpPr/>
              <p:nvPr/>
            </p:nvSpPr>
            <p:spPr>
              <a:xfrm>
                <a:off x="1369440" y="1385640"/>
                <a:ext cx="1160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모델링의 과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4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0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80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808" name="Freeform 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0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810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500"/>
                                        <p:tgtEl>
                                          <p:spTgt spid="1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1" name="TextBox 12" descr=""/>
          <p:cNvPicPr/>
          <p:nvPr/>
        </p:nvPicPr>
        <p:blipFill>
          <a:blip r:embed="rId1"/>
          <a:stretch/>
        </p:blipFill>
        <p:spPr>
          <a:xfrm>
            <a:off x="6254640" y="506520"/>
            <a:ext cx="3029040" cy="59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12" name=""/>
          <p:cNvGraphicFramePr/>
          <p:nvPr/>
        </p:nvGraphicFramePr>
        <p:xfrm>
          <a:off x="357120" y="3787920"/>
          <a:ext cx="8501040" cy="2641320"/>
        </p:xfrm>
        <a:graphic>
          <a:graphicData uri="http://schemas.openxmlformats.org/drawingml/2006/table">
            <a:tbl>
              <a:tblPr/>
              <a:tblGrid>
                <a:gridCol w="1951200"/>
                <a:gridCol w="6549840"/>
              </a:tblGrid>
              <a:tr h="370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단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4652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과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4652d"/>
                    </a:solidFill>
                  </a:tcPr>
                </a:tc>
              </a:tr>
              <a:tr h="577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인지적 모델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사는 과제를 수행하면서 큰 소리로 어떤 행동을 해야 하는가를 아동에게 말해준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외현적 외적지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생은 교사의 지도를 받는 상태에서 큰 소리로 말하면서 과제를 수행한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외현적 자기지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생은 자신에게 큰 소리로 말하면서 과제를 수행한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외현적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자기지도의 축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생은 속삭이면서 과제를 수행한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내재적 자기지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생은 내적언어를 사용하면서 과제를 수행한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  <p:grpSp>
        <p:nvGrpSpPr>
          <p:cNvPr id="1813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81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815" name="직사각형 13"/>
              <p:cNvSpPr/>
              <p:nvPr/>
            </p:nvSpPr>
            <p:spPr>
              <a:xfrm>
                <a:off x="1555560" y="1385640"/>
                <a:ext cx="455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적 행동수정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cognitive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behavior modification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1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81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1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82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822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3" name="그룹 123"/>
          <p:cNvGrpSpPr/>
          <p:nvPr/>
        </p:nvGrpSpPr>
        <p:grpSpPr>
          <a:xfrm>
            <a:off x="428760" y="1903320"/>
            <a:ext cx="8715240" cy="954360"/>
            <a:chOff x="428760" y="1903320"/>
            <a:chExt cx="8715240" cy="954360"/>
          </a:xfrm>
        </p:grpSpPr>
        <p:pic>
          <p:nvPicPr>
            <p:cNvPr id="1824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428760" y="1985760"/>
              <a:ext cx="8501040" cy="8719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825" name="직사각형 17"/>
            <p:cNvSpPr/>
            <p:nvPr/>
          </p:nvSpPr>
          <p:spPr>
            <a:xfrm>
              <a:off x="714240" y="1903320"/>
              <a:ext cx="842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내재적 사고과정을 조작하여 외현적 행동을 수정하려는 기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론과 행동주의 원리를 통합적으로 적용하여 자기조절 능력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향상시키려고 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26" name="타원 18"/>
            <p:cNvGrpSpPr/>
            <p:nvPr/>
          </p:nvGrpSpPr>
          <p:grpSpPr>
            <a:xfrm>
              <a:off x="694800" y="2072520"/>
              <a:ext cx="225360" cy="231480"/>
              <a:chOff x="694800" y="2072520"/>
              <a:chExt cx="225360" cy="231480"/>
            </a:xfrm>
          </p:grpSpPr>
          <p:pic>
            <p:nvPicPr>
              <p:cNvPr id="1827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694800" y="20725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28" name=""/>
              <p:cNvSpPr/>
              <p:nvPr/>
            </p:nvSpPr>
            <p:spPr>
              <a:xfrm rot="10800000">
                <a:off x="773280" y="21308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29" name="타원 19"/>
          <p:cNvGrpSpPr/>
          <p:nvPr/>
        </p:nvGrpSpPr>
        <p:grpSpPr>
          <a:xfrm>
            <a:off x="695160" y="2498760"/>
            <a:ext cx="225720" cy="237960"/>
            <a:chOff x="695160" y="2498760"/>
            <a:chExt cx="225720" cy="237960"/>
          </a:xfrm>
        </p:grpSpPr>
        <p:pic>
          <p:nvPicPr>
            <p:cNvPr id="1830" name="타원 19" descr=""/>
            <p:cNvPicPr/>
            <p:nvPr/>
          </p:nvPicPr>
          <p:blipFill>
            <a:blip r:embed="rId5"/>
            <a:stretch/>
          </p:blipFill>
          <p:spPr>
            <a:xfrm>
              <a:off x="695160" y="2498760"/>
              <a:ext cx="225720" cy="23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1" name=""/>
            <p:cNvSpPr/>
            <p:nvPr/>
          </p:nvSpPr>
          <p:spPr>
            <a:xfrm rot="10800000">
              <a:off x="773280" y="2558520"/>
              <a:ext cx="69840" cy="7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2" name="그룹 91"/>
          <p:cNvGrpSpPr/>
          <p:nvPr/>
        </p:nvGrpSpPr>
        <p:grpSpPr>
          <a:xfrm>
            <a:off x="752040" y="3289320"/>
            <a:ext cx="7534800" cy="459000"/>
            <a:chOff x="752040" y="3289320"/>
            <a:chExt cx="7534800" cy="459000"/>
          </a:xfrm>
        </p:grpSpPr>
        <p:grpSp>
          <p:nvGrpSpPr>
            <p:cNvPr id="1833" name="그룹 34"/>
            <p:cNvGrpSpPr/>
            <p:nvPr/>
          </p:nvGrpSpPr>
          <p:grpSpPr>
            <a:xfrm>
              <a:off x="752040" y="3342960"/>
              <a:ext cx="362160" cy="358920"/>
              <a:chOff x="752040" y="3342960"/>
              <a:chExt cx="362160" cy="358920"/>
            </a:xfrm>
          </p:grpSpPr>
          <p:pic>
            <p:nvPicPr>
              <p:cNvPr id="1834" name="Picture 177" descr="bull"/>
              <p:cNvPicPr/>
              <p:nvPr/>
            </p:nvPicPr>
            <p:blipFill>
              <a:blip r:embed="rId6"/>
              <a:stretch/>
            </p:blipFill>
            <p:spPr>
              <a:xfrm>
                <a:off x="780480" y="3382560"/>
                <a:ext cx="323280" cy="319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35" name="TextBox 36"/>
              <p:cNvSpPr/>
              <p:nvPr/>
            </p:nvSpPr>
            <p:spPr>
              <a:xfrm>
                <a:off x="752040" y="3342960"/>
                <a:ext cx="362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★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36" name="직사각형 25"/>
            <p:cNvSpPr/>
            <p:nvPr/>
          </p:nvSpPr>
          <p:spPr>
            <a:xfrm>
              <a:off x="1588680" y="3289320"/>
              <a:ext cx="32180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Meichenbaum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의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언어적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자기교수 프로그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7" name="직선 연결선 27"/>
            <p:cNvSpPr/>
            <p:nvPr/>
          </p:nvSpPr>
          <p:spPr>
            <a:xfrm flipV="1">
              <a:off x="5642280" y="3516480"/>
              <a:ext cx="2644560" cy="1080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00"/>
                                        <p:tgtEl>
                                          <p:spTgt spid="1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8" name="TextBox 12" descr=""/>
          <p:cNvPicPr/>
          <p:nvPr/>
        </p:nvPicPr>
        <p:blipFill>
          <a:blip r:embed="rId1"/>
          <a:stretch/>
        </p:blipFill>
        <p:spPr>
          <a:xfrm>
            <a:off x="6254640" y="506520"/>
            <a:ext cx="30290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839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84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841" name="직사각형 26"/>
              <p:cNvSpPr/>
              <p:nvPr/>
            </p:nvSpPr>
            <p:spPr>
              <a:xfrm>
                <a:off x="1295280" y="1385640"/>
                <a:ext cx="2409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자기조절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self-regulation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4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84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4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846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4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848" name="TextBox 88"/>
            <p:cNvSpPr/>
            <p:nvPr/>
          </p:nvSpPr>
          <p:spPr>
            <a:xfrm>
              <a:off x="67860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9" name="그룹 30"/>
          <p:cNvGrpSpPr/>
          <p:nvPr/>
        </p:nvGrpSpPr>
        <p:grpSpPr>
          <a:xfrm>
            <a:off x="285840" y="2000160"/>
            <a:ext cx="8501040" cy="1785960"/>
            <a:chOff x="285840" y="2000160"/>
            <a:chExt cx="8501040" cy="1785960"/>
          </a:xfrm>
        </p:grpSpPr>
        <p:grpSp>
          <p:nvGrpSpPr>
            <p:cNvPr id="1850" name="그룹 24"/>
            <p:cNvGrpSpPr/>
            <p:nvPr/>
          </p:nvGrpSpPr>
          <p:grpSpPr>
            <a:xfrm>
              <a:off x="285840" y="2000160"/>
              <a:ext cx="8501040" cy="1785960"/>
              <a:chOff x="285840" y="2000160"/>
              <a:chExt cx="8501040" cy="1785960"/>
            </a:xfrm>
          </p:grpSpPr>
          <p:grpSp>
            <p:nvGrpSpPr>
              <p:cNvPr id="1851" name="그룹 91"/>
              <p:cNvGrpSpPr/>
              <p:nvPr/>
            </p:nvGrpSpPr>
            <p:grpSpPr>
              <a:xfrm>
                <a:off x="285840" y="2000160"/>
                <a:ext cx="8286840" cy="1785960"/>
                <a:chOff x="285840" y="2000160"/>
                <a:chExt cx="8286840" cy="1785960"/>
              </a:xfrm>
            </p:grpSpPr>
            <p:pic>
              <p:nvPicPr>
                <p:cNvPr id="1852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85640"/>
                  <a:ext cx="8286840" cy="15004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grpSp>
              <p:nvGrpSpPr>
                <p:cNvPr id="1853" name="그룹 34"/>
                <p:cNvGrpSpPr/>
                <p:nvPr/>
              </p:nvGrpSpPr>
              <p:grpSpPr>
                <a:xfrm>
                  <a:off x="857160" y="2090160"/>
                  <a:ext cx="349200" cy="381240"/>
                  <a:chOff x="857160" y="2090160"/>
                  <a:chExt cx="349200" cy="381240"/>
                </a:xfrm>
              </p:grpSpPr>
              <p:pic>
                <p:nvPicPr>
                  <p:cNvPr id="1854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57160" y="2114640"/>
                    <a:ext cx="349200" cy="35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855" name="TextBox 36"/>
                  <p:cNvSpPr/>
                  <p:nvPr/>
                </p:nvSpPr>
                <p:spPr>
                  <a:xfrm>
                    <a:off x="891360" y="209016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856" name="직사각형 38"/>
                <p:cNvSpPr/>
                <p:nvPr/>
              </p:nvSpPr>
              <p:spPr>
                <a:xfrm>
                  <a:off x="1217520" y="200016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57" name="직사각형 34"/>
              <p:cNvSpPr/>
              <p:nvPr/>
            </p:nvSpPr>
            <p:spPr>
              <a:xfrm>
                <a:off x="1143000" y="2571480"/>
                <a:ext cx="764388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습자가 목표를 달성하기 위해 사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감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동을 체계적으로 관리하고 통제하는 것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8" name="직선 연결선 35"/>
              <p:cNvSpPr/>
              <p:nvPr/>
            </p:nvSpPr>
            <p:spPr>
              <a:xfrm>
                <a:off x="4428360" y="2285640"/>
                <a:ext cx="400212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9" name="오른쪽 화살표 32"/>
            <p:cNvGrpSpPr/>
            <p:nvPr/>
          </p:nvGrpSpPr>
          <p:grpSpPr>
            <a:xfrm>
              <a:off x="883800" y="2664000"/>
              <a:ext cx="359640" cy="316800"/>
              <a:chOff x="883800" y="2664000"/>
              <a:chExt cx="359640" cy="316800"/>
            </a:xfrm>
          </p:grpSpPr>
          <p:pic>
            <p:nvPicPr>
              <p:cNvPr id="1860" name="오른쪽 화살표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883800" y="2664000"/>
                <a:ext cx="359640" cy="316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61" name=""/>
              <p:cNvSpPr/>
              <p:nvPr/>
            </p:nvSpPr>
            <p:spPr>
              <a:xfrm>
                <a:off x="928440" y="2754720"/>
                <a:ext cx="174240" cy="7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62" name="그룹 24"/>
          <p:cNvGrpSpPr/>
          <p:nvPr/>
        </p:nvGrpSpPr>
        <p:grpSpPr>
          <a:xfrm>
            <a:off x="285840" y="4357800"/>
            <a:ext cx="8286840" cy="1714320"/>
            <a:chOff x="285840" y="4357800"/>
            <a:chExt cx="8286840" cy="1714320"/>
          </a:xfrm>
        </p:grpSpPr>
        <p:grpSp>
          <p:nvGrpSpPr>
            <p:cNvPr id="1863" name="그룹 91"/>
            <p:cNvGrpSpPr/>
            <p:nvPr/>
          </p:nvGrpSpPr>
          <p:grpSpPr>
            <a:xfrm>
              <a:off x="285840" y="4357800"/>
              <a:ext cx="8286840" cy="1714320"/>
              <a:chOff x="285840" y="4357800"/>
              <a:chExt cx="8286840" cy="1714320"/>
            </a:xfrm>
          </p:grpSpPr>
          <p:pic>
            <p:nvPicPr>
              <p:cNvPr id="1864" name="Picture 5" descr="233"/>
              <p:cNvPicPr/>
              <p:nvPr/>
            </p:nvPicPr>
            <p:blipFill>
              <a:blip r:embed="rId6"/>
              <a:srcRect l="0" t="0" r="24313" b="0"/>
              <a:stretch/>
            </p:blipFill>
            <p:spPr>
              <a:xfrm>
                <a:off x="285840" y="4643280"/>
                <a:ext cx="8286840" cy="14288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865" name="그룹 34"/>
              <p:cNvGrpSpPr/>
              <p:nvPr/>
            </p:nvGrpSpPr>
            <p:grpSpPr>
              <a:xfrm>
                <a:off x="857160" y="4447800"/>
                <a:ext cx="349200" cy="381240"/>
                <a:chOff x="857160" y="4447800"/>
                <a:chExt cx="349200" cy="381240"/>
              </a:xfrm>
            </p:grpSpPr>
            <p:pic>
              <p:nvPicPr>
                <p:cNvPr id="1866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57160" y="4474080"/>
                  <a:ext cx="349200" cy="354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67" name="TextBox 36"/>
                <p:cNvSpPr/>
                <p:nvPr/>
              </p:nvSpPr>
              <p:spPr>
                <a:xfrm>
                  <a:off x="891360" y="444780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68" name="직사각형 50"/>
              <p:cNvSpPr/>
              <p:nvPr/>
            </p:nvSpPr>
            <p:spPr>
              <a:xfrm>
                <a:off x="1651680" y="4357800"/>
                <a:ext cx="161784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자기조절학습의 요소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69" name="직사각형 46"/>
            <p:cNvSpPr/>
            <p:nvPr/>
          </p:nvSpPr>
          <p:spPr>
            <a:xfrm>
              <a:off x="1143000" y="4857840"/>
              <a:ext cx="71438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목표설정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계획수립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기부여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의통제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전략활용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점검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강화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평가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성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0" name="직선 연결선 47"/>
            <p:cNvSpPr/>
            <p:nvPr/>
          </p:nvSpPr>
          <p:spPr>
            <a:xfrm>
              <a:off x="4428720" y="4643280"/>
              <a:ext cx="400212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1" name="타원 55"/>
          <p:cNvGrpSpPr/>
          <p:nvPr/>
        </p:nvGrpSpPr>
        <p:grpSpPr>
          <a:xfrm>
            <a:off x="933480" y="5029200"/>
            <a:ext cx="225360" cy="231840"/>
            <a:chOff x="933480" y="5029200"/>
            <a:chExt cx="225360" cy="231840"/>
          </a:xfrm>
        </p:grpSpPr>
        <p:pic>
          <p:nvPicPr>
            <p:cNvPr id="1872" name="타원 55" descr=""/>
            <p:cNvPicPr/>
            <p:nvPr/>
          </p:nvPicPr>
          <p:blipFill>
            <a:blip r:embed="rId8"/>
            <a:stretch/>
          </p:blipFill>
          <p:spPr>
            <a:xfrm>
              <a:off x="933480" y="502920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3" name=""/>
            <p:cNvSpPr/>
            <p:nvPr/>
          </p:nvSpPr>
          <p:spPr>
            <a:xfrm rot="10800000">
              <a:off x="1014480" y="50864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" dur="500"/>
                                        <p:tgtEl>
                                          <p:spTgt spid="1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3" name="TextBox 12" descr=""/>
          <p:cNvPicPr/>
          <p:nvPr/>
        </p:nvPicPr>
        <p:blipFill>
          <a:blip r:embed="rId1"/>
          <a:stretch/>
        </p:blipFill>
        <p:spPr>
          <a:xfrm>
            <a:off x="5546880" y="506520"/>
            <a:ext cx="3530520" cy="590400"/>
          </a:xfrm>
          <a:prstGeom prst="rect">
            <a:avLst/>
          </a:prstGeom>
          <a:ln w="0">
            <a:noFill/>
          </a:ln>
        </p:spPr>
      </p:pic>
      <p:grpSp>
        <p:nvGrpSpPr>
          <p:cNvPr id="80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80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06" name="직사각형 13"/>
              <p:cNvSpPr/>
              <p:nvPr/>
            </p:nvSpPr>
            <p:spPr>
              <a:xfrm>
                <a:off x="1404000" y="1385640"/>
                <a:ext cx="2914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주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behaviorism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태동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0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1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1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13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4" name="그룹 91"/>
          <p:cNvGrpSpPr/>
          <p:nvPr/>
        </p:nvGrpSpPr>
        <p:grpSpPr>
          <a:xfrm>
            <a:off x="285840" y="1928880"/>
            <a:ext cx="9001080" cy="1071360"/>
            <a:chOff x="285840" y="1928880"/>
            <a:chExt cx="9001080" cy="1071360"/>
          </a:xfrm>
        </p:grpSpPr>
        <p:pic>
          <p:nvPicPr>
            <p:cNvPr id="815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214360"/>
              <a:ext cx="8501040" cy="7858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16" name="그룹 34"/>
            <p:cNvGrpSpPr/>
            <p:nvPr/>
          </p:nvGrpSpPr>
          <p:grpSpPr>
            <a:xfrm>
              <a:off x="857160" y="2019240"/>
              <a:ext cx="349200" cy="380520"/>
              <a:chOff x="857160" y="2019240"/>
              <a:chExt cx="349200" cy="380520"/>
            </a:xfrm>
          </p:grpSpPr>
          <p:pic>
            <p:nvPicPr>
              <p:cNvPr id="817" name="Picture 177" descr="bull"/>
              <p:cNvPicPr/>
              <p:nvPr/>
            </p:nvPicPr>
            <p:blipFill>
              <a:blip r:embed="rId4"/>
              <a:stretch/>
            </p:blipFill>
            <p:spPr>
              <a:xfrm>
                <a:off x="857160" y="2041560"/>
                <a:ext cx="349200" cy="358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8" name="TextBox 36"/>
              <p:cNvSpPr/>
              <p:nvPr/>
            </p:nvSpPr>
            <p:spPr>
              <a:xfrm>
                <a:off x="891360" y="201924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9" name="직사각형 34"/>
            <p:cNvSpPr/>
            <p:nvPr/>
          </p:nvSpPr>
          <p:spPr>
            <a:xfrm>
              <a:off x="1217520" y="1928880"/>
              <a:ext cx="4856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의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직사각형 35"/>
            <p:cNvSpPr/>
            <p:nvPr/>
          </p:nvSpPr>
          <p:spPr>
            <a:xfrm>
              <a:off x="1500120" y="2390760"/>
              <a:ext cx="778680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관찰할 수 있는 구체적인 행동을 연구대상으로 하는 심리학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1" name="오른쪽 화살표 38"/>
          <p:cNvGrpSpPr/>
          <p:nvPr/>
        </p:nvGrpSpPr>
        <p:grpSpPr>
          <a:xfrm>
            <a:off x="1030320" y="2523960"/>
            <a:ext cx="426960" cy="365400"/>
            <a:chOff x="1030320" y="2523960"/>
            <a:chExt cx="426960" cy="365400"/>
          </a:xfrm>
        </p:grpSpPr>
        <p:pic>
          <p:nvPicPr>
            <p:cNvPr id="822" name="오른쪽 화살표 38" descr=""/>
            <p:cNvPicPr/>
            <p:nvPr/>
          </p:nvPicPr>
          <p:blipFill>
            <a:blip r:embed="rId5"/>
            <a:stretch/>
          </p:blipFill>
          <p:spPr>
            <a:xfrm>
              <a:off x="1030320" y="2523960"/>
              <a:ext cx="426960" cy="36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3" name=""/>
            <p:cNvSpPr/>
            <p:nvPr/>
          </p:nvSpPr>
          <p:spPr>
            <a:xfrm>
              <a:off x="1071720" y="2625840"/>
              <a:ext cx="231480" cy="1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4" name="그룹 91"/>
          <p:cNvGrpSpPr/>
          <p:nvPr/>
        </p:nvGrpSpPr>
        <p:grpSpPr>
          <a:xfrm>
            <a:off x="285840" y="3214800"/>
            <a:ext cx="8715240" cy="3214440"/>
            <a:chOff x="285840" y="3214800"/>
            <a:chExt cx="8715240" cy="3214440"/>
          </a:xfrm>
        </p:grpSpPr>
        <p:pic>
          <p:nvPicPr>
            <p:cNvPr id="825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3500280"/>
              <a:ext cx="8501040" cy="29289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26" name="그룹 34"/>
            <p:cNvGrpSpPr/>
            <p:nvPr/>
          </p:nvGrpSpPr>
          <p:grpSpPr>
            <a:xfrm>
              <a:off x="857160" y="3305160"/>
              <a:ext cx="349200" cy="380520"/>
              <a:chOff x="857160" y="3305160"/>
              <a:chExt cx="349200" cy="380520"/>
            </a:xfrm>
          </p:grpSpPr>
          <p:pic>
            <p:nvPicPr>
              <p:cNvPr id="827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857160" y="3327840"/>
                <a:ext cx="349200" cy="357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8" name="TextBox 36"/>
              <p:cNvSpPr/>
              <p:nvPr/>
            </p:nvSpPr>
            <p:spPr>
              <a:xfrm>
                <a:off x="891360" y="330516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9" name="직사각형 42"/>
            <p:cNvSpPr/>
            <p:nvPr/>
          </p:nvSpPr>
          <p:spPr>
            <a:xfrm>
              <a:off x="1217520" y="3214800"/>
              <a:ext cx="4856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특징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직사각형 43"/>
            <p:cNvSpPr/>
            <p:nvPr/>
          </p:nvSpPr>
          <p:spPr>
            <a:xfrm>
              <a:off x="1214280" y="3655800"/>
              <a:ext cx="7786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심리학을 관찰할 수 있는 자극과 반응의 관계를 탐구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극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반응이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극과 반응의 중간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black box’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존재한다고 가정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S </a:t>
              </a:r>
              <a:r>
                <a:rPr b="0" lang="en-US" sz="1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■ </a:t>
              </a:r>
              <a:r>
                <a:rPr b="0" lang="ko-KR" sz="1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R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1" name="타원 46"/>
          <p:cNvGrpSpPr/>
          <p:nvPr/>
        </p:nvGrpSpPr>
        <p:grpSpPr>
          <a:xfrm>
            <a:off x="1006560" y="3840120"/>
            <a:ext cx="225360" cy="231840"/>
            <a:chOff x="1006560" y="3840120"/>
            <a:chExt cx="225360" cy="231840"/>
          </a:xfrm>
        </p:grpSpPr>
        <p:pic>
          <p:nvPicPr>
            <p:cNvPr id="832" name="타원 46" descr=""/>
            <p:cNvPicPr/>
            <p:nvPr/>
          </p:nvPicPr>
          <p:blipFill>
            <a:blip r:embed="rId8"/>
            <a:stretch/>
          </p:blipFill>
          <p:spPr>
            <a:xfrm>
              <a:off x="1006560" y="384012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3" name=""/>
            <p:cNvSpPr/>
            <p:nvPr/>
          </p:nvSpPr>
          <p:spPr>
            <a:xfrm rot="10800000">
              <a:off x="1085760" y="38973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4" name="타원 47"/>
          <p:cNvGrpSpPr/>
          <p:nvPr/>
        </p:nvGrpSpPr>
        <p:grpSpPr>
          <a:xfrm>
            <a:off x="1006560" y="4456080"/>
            <a:ext cx="225360" cy="231840"/>
            <a:chOff x="1006560" y="4456080"/>
            <a:chExt cx="225360" cy="231840"/>
          </a:xfrm>
        </p:grpSpPr>
        <p:pic>
          <p:nvPicPr>
            <p:cNvPr id="835" name="타원 47" descr=""/>
            <p:cNvPicPr/>
            <p:nvPr/>
          </p:nvPicPr>
          <p:blipFill>
            <a:blip r:embed="rId9"/>
            <a:stretch/>
          </p:blipFill>
          <p:spPr>
            <a:xfrm>
              <a:off x="1006560" y="445608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6" name=""/>
            <p:cNvSpPr/>
            <p:nvPr/>
          </p:nvSpPr>
          <p:spPr>
            <a:xfrm rot="10800000">
              <a:off x="1085760" y="45147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7" name="타원 48"/>
          <p:cNvGrpSpPr/>
          <p:nvPr/>
        </p:nvGrpSpPr>
        <p:grpSpPr>
          <a:xfrm>
            <a:off x="1006560" y="4956120"/>
            <a:ext cx="225360" cy="231840"/>
            <a:chOff x="1006560" y="4956120"/>
            <a:chExt cx="225360" cy="231840"/>
          </a:xfrm>
        </p:grpSpPr>
        <p:pic>
          <p:nvPicPr>
            <p:cNvPr id="838" name="타원 48" descr=""/>
            <p:cNvPicPr/>
            <p:nvPr/>
          </p:nvPicPr>
          <p:blipFill>
            <a:blip r:embed="rId10"/>
            <a:stretch/>
          </p:blipFill>
          <p:spPr>
            <a:xfrm>
              <a:off x="1006560" y="495612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9" name=""/>
            <p:cNvSpPr/>
            <p:nvPr/>
          </p:nvSpPr>
          <p:spPr>
            <a:xfrm rot="10800000">
              <a:off x="1085760" y="501480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0" name="슬라이드 번호 개체 틀 29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FA51D-90EA-4E44-9E8C-DB62B3A0D0BF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직사각형 29"/>
          <p:cNvSpPr/>
          <p:nvPr/>
        </p:nvSpPr>
        <p:spPr>
          <a:xfrm>
            <a:off x="1214280" y="4572000"/>
            <a:ext cx="7786800" cy="16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을 경험이나 연습을 통해서 일어난 행동의 지속적인 변화로 간주한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조건화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정행동을 변화시키기 위한 조건을 부여한다는 의미로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행동을 변화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혹은 수정하기 위한 구체적인 절차를 말한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조건이 형성되었다는 말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정 조건에 반응이 결합되어 학습이 이루어 졌다고 해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2" name="TextBox 12" descr=""/>
          <p:cNvPicPr/>
          <p:nvPr/>
        </p:nvPicPr>
        <p:blipFill>
          <a:blip r:embed="rId1"/>
          <a:stretch/>
        </p:blipFill>
        <p:spPr>
          <a:xfrm>
            <a:off x="3560760" y="506520"/>
            <a:ext cx="5722920" cy="590400"/>
          </a:xfrm>
          <a:prstGeom prst="rect">
            <a:avLst/>
          </a:prstGeom>
          <a:ln w="0">
            <a:noFill/>
          </a:ln>
        </p:spPr>
      </p:pic>
      <p:grpSp>
        <p:nvGrpSpPr>
          <p:cNvPr id="843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84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45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고전적 조건형성의 절차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4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4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5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52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3" name="그룹 27"/>
          <p:cNvGrpSpPr/>
          <p:nvPr/>
        </p:nvGrpSpPr>
        <p:grpSpPr>
          <a:xfrm>
            <a:off x="285840" y="1928880"/>
            <a:ext cx="8501040" cy="1571400"/>
            <a:chOff x="285840" y="1928880"/>
            <a:chExt cx="8501040" cy="1571400"/>
          </a:xfrm>
        </p:grpSpPr>
        <p:grpSp>
          <p:nvGrpSpPr>
            <p:cNvPr id="854" name="그룹 91"/>
            <p:cNvGrpSpPr/>
            <p:nvPr/>
          </p:nvGrpSpPr>
          <p:grpSpPr>
            <a:xfrm>
              <a:off x="285840" y="1928880"/>
              <a:ext cx="8501040" cy="1571400"/>
              <a:chOff x="285840" y="1928880"/>
              <a:chExt cx="8501040" cy="1571400"/>
            </a:xfrm>
          </p:grpSpPr>
          <p:pic>
            <p:nvPicPr>
              <p:cNvPr id="855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14360"/>
                <a:ext cx="8501040" cy="12859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856" name="그룹 34"/>
              <p:cNvGrpSpPr/>
              <p:nvPr/>
            </p:nvGrpSpPr>
            <p:grpSpPr>
              <a:xfrm>
                <a:off x="838080" y="2019240"/>
                <a:ext cx="374760" cy="380880"/>
                <a:chOff x="838080" y="2019240"/>
                <a:chExt cx="374760" cy="380880"/>
              </a:xfrm>
            </p:grpSpPr>
            <p:pic>
              <p:nvPicPr>
                <p:cNvPr id="857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53200" y="2047320"/>
                  <a:ext cx="359640" cy="352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8" name="TextBox 36"/>
                <p:cNvSpPr/>
                <p:nvPr/>
              </p:nvSpPr>
              <p:spPr>
                <a:xfrm>
                  <a:off x="838080" y="2019240"/>
                  <a:ext cx="3621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★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9" name="직사각형 17"/>
              <p:cNvSpPr/>
              <p:nvPr/>
            </p:nvSpPr>
            <p:spPr>
              <a:xfrm>
                <a:off x="1606320" y="1928880"/>
                <a:ext cx="35179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고전적 조건형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classical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conditioning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" name="직사각형 18"/>
              <p:cNvSpPr/>
              <p:nvPr/>
            </p:nvSpPr>
            <p:spPr>
              <a:xfrm>
                <a:off x="1214280" y="2462040"/>
                <a:ext cx="72151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중립자극이 무조건 자극의 기능을 획득하는 절차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동조건형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Pavlov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가 개를 대상으로 한 실험에서 확립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직선 연결선 19"/>
              <p:cNvSpPr/>
              <p:nvPr/>
            </p:nvSpPr>
            <p:spPr>
              <a:xfrm>
                <a:off x="5857920" y="2212920"/>
                <a:ext cx="25016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2" name="타원 25"/>
            <p:cNvGrpSpPr/>
            <p:nvPr/>
          </p:nvGrpSpPr>
          <p:grpSpPr>
            <a:xfrm>
              <a:off x="1005840" y="2645640"/>
              <a:ext cx="225360" cy="231480"/>
              <a:chOff x="1005840" y="2645640"/>
              <a:chExt cx="225360" cy="231480"/>
            </a:xfrm>
          </p:grpSpPr>
          <p:pic>
            <p:nvPicPr>
              <p:cNvPr id="863" name="타원 25" descr=""/>
              <p:cNvPicPr/>
              <p:nvPr/>
            </p:nvPicPr>
            <p:blipFill>
              <a:blip r:embed="rId5"/>
              <a:stretch/>
            </p:blipFill>
            <p:spPr>
              <a:xfrm>
                <a:off x="1005840" y="2645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4" name=""/>
              <p:cNvSpPr/>
              <p:nvPr/>
            </p:nvSpPr>
            <p:spPr>
              <a:xfrm rot="10800000">
                <a:off x="1085760" y="27021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5" name="타원 26"/>
            <p:cNvGrpSpPr/>
            <p:nvPr/>
          </p:nvGrpSpPr>
          <p:grpSpPr>
            <a:xfrm>
              <a:off x="1005840" y="3072240"/>
              <a:ext cx="225360" cy="231480"/>
              <a:chOff x="1005840" y="3072240"/>
              <a:chExt cx="225360" cy="231480"/>
            </a:xfrm>
          </p:grpSpPr>
          <p:pic>
            <p:nvPicPr>
              <p:cNvPr id="866" name="타원 26" descr=""/>
              <p:cNvPicPr/>
              <p:nvPr/>
            </p:nvPicPr>
            <p:blipFill>
              <a:blip r:embed="rId6"/>
              <a:stretch/>
            </p:blipFill>
            <p:spPr>
              <a:xfrm>
                <a:off x="1005840" y="30722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7" name=""/>
              <p:cNvSpPr/>
              <p:nvPr/>
            </p:nvSpPr>
            <p:spPr>
              <a:xfrm rot="10800000">
                <a:off x="1085760" y="31309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aphicFrame>
        <p:nvGraphicFramePr>
          <p:cNvPr id="868" name=""/>
          <p:cNvGraphicFramePr/>
          <p:nvPr/>
        </p:nvGraphicFramePr>
        <p:xfrm>
          <a:off x="714240" y="3786120"/>
          <a:ext cx="8001000" cy="2643120"/>
        </p:xfrm>
        <a:graphic>
          <a:graphicData uri="http://schemas.openxmlformats.org/drawingml/2006/table">
            <a:tbl>
              <a:tblPr/>
              <a:tblGrid>
                <a:gridCol w="2667240"/>
                <a:gridCol w="2666880"/>
                <a:gridCol w="26668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조건형성 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56b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조건형성 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56b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조건형성 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56ba5"/>
                    </a:solidFill>
                  </a:tcPr>
                </a:tc>
              </a:tr>
              <a:tr h="22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  <p:sp>
        <p:nvSpPr>
          <p:cNvPr id="869" name="AutoShape 93"/>
          <p:cNvSpPr/>
          <p:nvPr/>
        </p:nvSpPr>
        <p:spPr>
          <a:xfrm>
            <a:off x="10001160" y="6467400"/>
            <a:ext cx="181620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0" name="그룹 248"/>
          <p:cNvGrpSpPr/>
          <p:nvPr/>
        </p:nvGrpSpPr>
        <p:grpSpPr>
          <a:xfrm>
            <a:off x="1000080" y="4286160"/>
            <a:ext cx="2224440" cy="2092320"/>
            <a:chOff x="1000080" y="4286160"/>
            <a:chExt cx="2224440" cy="2092320"/>
          </a:xfrm>
        </p:grpSpPr>
        <p:grpSp>
          <p:nvGrpSpPr>
            <p:cNvPr id="871" name="그룹 94"/>
            <p:cNvGrpSpPr/>
            <p:nvPr/>
          </p:nvGrpSpPr>
          <p:grpSpPr>
            <a:xfrm>
              <a:off x="1000080" y="5501160"/>
              <a:ext cx="905040" cy="365040"/>
              <a:chOff x="1000080" y="5501160"/>
              <a:chExt cx="905040" cy="365040"/>
            </a:xfrm>
          </p:grpSpPr>
          <p:sp>
            <p:nvSpPr>
              <p:cNvPr id="872" name="Freeform 18"/>
              <p:cNvSpPr/>
              <p:nvPr/>
            </p:nvSpPr>
            <p:spPr>
              <a:xfrm>
                <a:off x="1170000" y="5540040"/>
                <a:ext cx="136080" cy="281880"/>
              </a:xfrm>
              <a:prstGeom prst="pie">
                <a:avLst/>
              </a:prstGeom>
              <a:solidFill>
                <a:srgbClr val="c6c4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Freeform 54"/>
              <p:cNvSpPr/>
              <p:nvPr/>
            </p:nvSpPr>
            <p:spPr>
              <a:xfrm>
                <a:off x="1000080" y="5556240"/>
                <a:ext cx="905040" cy="309960"/>
              </a:xfrm>
              <a:prstGeom prst="pie">
                <a:avLst/>
              </a:prstGeom>
              <a:solidFill>
                <a:srgbClr val="f2f1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4" name="Freeform 55"/>
              <p:cNvSpPr/>
              <p:nvPr/>
            </p:nvSpPr>
            <p:spPr>
              <a:xfrm>
                <a:off x="1000080" y="5531400"/>
                <a:ext cx="905040" cy="309960"/>
              </a:xfrm>
              <a:prstGeom prst="pie">
                <a:avLst/>
              </a:prstGeom>
              <a:solidFill>
                <a:srgbClr val="d0cf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5" name="Freeform 56"/>
              <p:cNvSpPr/>
              <p:nvPr/>
            </p:nvSpPr>
            <p:spPr>
              <a:xfrm>
                <a:off x="1125360" y="5588280"/>
                <a:ext cx="614160" cy="219240"/>
              </a:xfrm>
              <a:prstGeom prst="pie">
                <a:avLst/>
              </a:prstGeom>
              <a:solidFill>
                <a:srgbClr val="a8ab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" name="Freeform 69"/>
              <p:cNvSpPr/>
              <p:nvPr/>
            </p:nvSpPr>
            <p:spPr>
              <a:xfrm>
                <a:off x="1150560" y="5537880"/>
                <a:ext cx="540360" cy="255240"/>
              </a:xfrm>
              <a:prstGeom prst="pie">
                <a:avLst/>
              </a:prstGeom>
              <a:solidFill>
                <a:srgbClr val="b851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Freeform 70"/>
              <p:cNvSpPr/>
              <p:nvPr/>
            </p:nvSpPr>
            <p:spPr>
              <a:xfrm>
                <a:off x="1157040" y="5508000"/>
                <a:ext cx="524880" cy="242640"/>
              </a:xfrm>
              <a:prstGeom prst="pie">
                <a:avLst/>
              </a:prstGeom>
              <a:solidFill>
                <a:srgbClr val="e57d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8" name="Freeform 71"/>
              <p:cNvSpPr/>
              <p:nvPr/>
            </p:nvSpPr>
            <p:spPr>
              <a:xfrm>
                <a:off x="1158120" y="5501160"/>
                <a:ext cx="529560" cy="2397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9" name="Freeform 72"/>
              <p:cNvSpPr/>
              <p:nvPr/>
            </p:nvSpPr>
            <p:spPr>
              <a:xfrm>
                <a:off x="1395720" y="5747400"/>
                <a:ext cx="407520" cy="871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0" name="그룹 113"/>
            <p:cNvGrpSpPr/>
            <p:nvPr/>
          </p:nvGrpSpPr>
          <p:grpSpPr>
            <a:xfrm>
              <a:off x="1214280" y="4286160"/>
              <a:ext cx="429480" cy="500040"/>
              <a:chOff x="1214280" y="4286160"/>
              <a:chExt cx="429480" cy="500040"/>
            </a:xfrm>
          </p:grpSpPr>
          <p:sp>
            <p:nvSpPr>
              <p:cNvPr id="881" name="Freeform 80"/>
              <p:cNvSpPr/>
              <p:nvPr/>
            </p:nvSpPr>
            <p:spPr>
              <a:xfrm>
                <a:off x="1260720" y="4331160"/>
                <a:ext cx="383040" cy="417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2" name="Freeform 81"/>
              <p:cNvSpPr/>
              <p:nvPr/>
            </p:nvSpPr>
            <p:spPr>
              <a:xfrm>
                <a:off x="1300680" y="4361040"/>
                <a:ext cx="272880" cy="35316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3" name="Freeform 82"/>
              <p:cNvSpPr/>
              <p:nvPr/>
            </p:nvSpPr>
            <p:spPr>
              <a:xfrm>
                <a:off x="1481400" y="4382280"/>
                <a:ext cx="131760" cy="3326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4" name="Freeform 83"/>
              <p:cNvSpPr/>
              <p:nvPr/>
            </p:nvSpPr>
            <p:spPr>
              <a:xfrm>
                <a:off x="1214280" y="4561200"/>
                <a:ext cx="391680" cy="225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5" name="Freeform 84"/>
              <p:cNvSpPr/>
              <p:nvPr/>
            </p:nvSpPr>
            <p:spPr>
              <a:xfrm>
                <a:off x="1520640" y="4286160"/>
                <a:ext cx="90720" cy="90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6" name="Freeform 85"/>
              <p:cNvSpPr/>
              <p:nvPr/>
            </p:nvSpPr>
            <p:spPr>
              <a:xfrm>
                <a:off x="1543320" y="4308480"/>
                <a:ext cx="45000" cy="4500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7" name="Freeform 86"/>
              <p:cNvSpPr/>
              <p:nvPr/>
            </p:nvSpPr>
            <p:spPr>
              <a:xfrm>
                <a:off x="1264320" y="4612320"/>
                <a:ext cx="281160" cy="14472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8" name="Freeform 87"/>
              <p:cNvSpPr/>
              <p:nvPr/>
            </p:nvSpPr>
            <p:spPr>
              <a:xfrm>
                <a:off x="1421640" y="4656600"/>
                <a:ext cx="90000" cy="77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9" name="Freeform 88"/>
              <p:cNvSpPr/>
              <p:nvPr/>
            </p:nvSpPr>
            <p:spPr>
              <a:xfrm>
                <a:off x="1442160" y="4666320"/>
                <a:ext cx="51480" cy="464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0" name="Freeform 89"/>
              <p:cNvSpPr/>
              <p:nvPr/>
            </p:nvSpPr>
            <p:spPr>
              <a:xfrm>
                <a:off x="1349640" y="4382280"/>
                <a:ext cx="166680" cy="1832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1" name="Freeform 90"/>
              <p:cNvSpPr/>
              <p:nvPr/>
            </p:nvSpPr>
            <p:spPr>
              <a:xfrm>
                <a:off x="1235880" y="4581000"/>
                <a:ext cx="293400" cy="914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2" name="Freeform 91"/>
              <p:cNvSpPr/>
              <p:nvPr/>
            </p:nvSpPr>
            <p:spPr>
              <a:xfrm>
                <a:off x="1552320" y="4310640"/>
                <a:ext cx="18000" cy="1800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93" name="그룹 146"/>
            <p:cNvGrpSpPr/>
            <p:nvPr/>
          </p:nvGrpSpPr>
          <p:grpSpPr>
            <a:xfrm>
              <a:off x="2643480" y="4357440"/>
              <a:ext cx="478800" cy="395280"/>
              <a:chOff x="2643480" y="4357440"/>
              <a:chExt cx="478800" cy="395280"/>
            </a:xfrm>
          </p:grpSpPr>
          <p:sp>
            <p:nvSpPr>
              <p:cNvPr id="894" name="Freeform 95"/>
              <p:cNvSpPr/>
              <p:nvPr/>
            </p:nvSpPr>
            <p:spPr>
              <a:xfrm>
                <a:off x="2665080" y="4363920"/>
                <a:ext cx="435600" cy="365400"/>
              </a:xfrm>
              <a:prstGeom prst="pie">
                <a:avLst/>
              </a:prstGeom>
              <a:solidFill>
                <a:srgbClr val="c2b3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5" name="Freeform 96"/>
              <p:cNvSpPr/>
              <p:nvPr/>
            </p:nvSpPr>
            <p:spPr>
              <a:xfrm>
                <a:off x="2658240" y="4357440"/>
                <a:ext cx="448920" cy="378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6" name="Freeform 97"/>
              <p:cNvSpPr/>
              <p:nvPr/>
            </p:nvSpPr>
            <p:spPr>
              <a:xfrm>
                <a:off x="2785320" y="4581000"/>
                <a:ext cx="195120" cy="165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7" name="Freeform 98"/>
              <p:cNvSpPr/>
              <p:nvPr/>
            </p:nvSpPr>
            <p:spPr>
              <a:xfrm>
                <a:off x="2865240" y="4669560"/>
                <a:ext cx="36720" cy="61560"/>
              </a:xfrm>
              <a:prstGeom prst="pie">
                <a:avLst/>
              </a:prstGeom>
              <a:solidFill>
                <a:srgbClr val="f9c8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8" name="Freeform 99"/>
              <p:cNvSpPr/>
              <p:nvPr/>
            </p:nvSpPr>
            <p:spPr>
              <a:xfrm>
                <a:off x="2778480" y="4574160"/>
                <a:ext cx="208440" cy="178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9" name="Freeform 100"/>
              <p:cNvSpPr/>
              <p:nvPr/>
            </p:nvSpPr>
            <p:spPr>
              <a:xfrm>
                <a:off x="2828520" y="4651200"/>
                <a:ext cx="108360" cy="50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Freeform 101"/>
              <p:cNvSpPr/>
              <p:nvPr/>
            </p:nvSpPr>
            <p:spPr>
              <a:xfrm>
                <a:off x="2786760" y="4482360"/>
                <a:ext cx="482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Freeform 102"/>
              <p:cNvSpPr/>
              <p:nvPr/>
            </p:nvSpPr>
            <p:spPr>
              <a:xfrm>
                <a:off x="2928960" y="4482360"/>
                <a:ext cx="500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2" name="Freeform 103"/>
              <p:cNvSpPr/>
              <p:nvPr/>
            </p:nvSpPr>
            <p:spPr>
              <a:xfrm>
                <a:off x="2841840" y="4607640"/>
                <a:ext cx="79920" cy="482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3" name="Freeform 104"/>
              <p:cNvSpPr/>
              <p:nvPr/>
            </p:nvSpPr>
            <p:spPr>
              <a:xfrm>
                <a:off x="2835360" y="4601160"/>
                <a:ext cx="93240" cy="59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Freeform 105"/>
              <p:cNvSpPr/>
              <p:nvPr/>
            </p:nvSpPr>
            <p:spPr>
              <a:xfrm>
                <a:off x="2649960" y="439416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5" name="Freeform 106"/>
              <p:cNvSpPr/>
              <p:nvPr/>
            </p:nvSpPr>
            <p:spPr>
              <a:xfrm>
                <a:off x="2643480" y="438732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6" name="Freeform 107"/>
              <p:cNvSpPr/>
              <p:nvPr/>
            </p:nvSpPr>
            <p:spPr>
              <a:xfrm>
                <a:off x="2733480" y="4387320"/>
                <a:ext cx="349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7" name="Freeform 108"/>
              <p:cNvSpPr/>
              <p:nvPr/>
            </p:nvSpPr>
            <p:spPr>
              <a:xfrm>
                <a:off x="3003840" y="439416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8" name="Freeform 109"/>
              <p:cNvSpPr/>
              <p:nvPr/>
            </p:nvSpPr>
            <p:spPr>
              <a:xfrm>
                <a:off x="2997360" y="438732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9" name="Freeform 110"/>
              <p:cNvSpPr/>
              <p:nvPr/>
            </p:nvSpPr>
            <p:spPr>
              <a:xfrm>
                <a:off x="2997360" y="4387320"/>
                <a:ext cx="331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0" name="그룹 147"/>
            <p:cNvGrpSpPr/>
            <p:nvPr/>
          </p:nvGrpSpPr>
          <p:grpSpPr>
            <a:xfrm>
              <a:off x="2593440" y="5429520"/>
              <a:ext cx="478800" cy="395280"/>
              <a:chOff x="2593440" y="5429520"/>
              <a:chExt cx="478800" cy="395280"/>
            </a:xfrm>
          </p:grpSpPr>
          <p:sp>
            <p:nvSpPr>
              <p:cNvPr id="911" name="Freeform 95"/>
              <p:cNvSpPr/>
              <p:nvPr/>
            </p:nvSpPr>
            <p:spPr>
              <a:xfrm>
                <a:off x="2615040" y="5436000"/>
                <a:ext cx="435600" cy="365400"/>
              </a:xfrm>
              <a:prstGeom prst="pie">
                <a:avLst/>
              </a:prstGeom>
              <a:solidFill>
                <a:srgbClr val="c2b3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2" name="Freeform 96"/>
              <p:cNvSpPr/>
              <p:nvPr/>
            </p:nvSpPr>
            <p:spPr>
              <a:xfrm>
                <a:off x="2608200" y="5429520"/>
                <a:ext cx="448920" cy="378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3" name="Freeform 97"/>
              <p:cNvSpPr/>
              <p:nvPr/>
            </p:nvSpPr>
            <p:spPr>
              <a:xfrm>
                <a:off x="2735280" y="5653080"/>
                <a:ext cx="195120" cy="165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4" name="Freeform 98"/>
              <p:cNvSpPr/>
              <p:nvPr/>
            </p:nvSpPr>
            <p:spPr>
              <a:xfrm>
                <a:off x="2815200" y="5741640"/>
                <a:ext cx="36720" cy="61560"/>
              </a:xfrm>
              <a:prstGeom prst="pie">
                <a:avLst/>
              </a:prstGeom>
              <a:solidFill>
                <a:srgbClr val="f9c8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5" name="Freeform 99"/>
              <p:cNvSpPr/>
              <p:nvPr/>
            </p:nvSpPr>
            <p:spPr>
              <a:xfrm>
                <a:off x="2728440" y="5646240"/>
                <a:ext cx="208440" cy="178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6" name="Freeform 100"/>
              <p:cNvSpPr/>
              <p:nvPr/>
            </p:nvSpPr>
            <p:spPr>
              <a:xfrm>
                <a:off x="2778480" y="5723280"/>
                <a:ext cx="108360" cy="50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7" name="Freeform 101"/>
              <p:cNvSpPr/>
              <p:nvPr/>
            </p:nvSpPr>
            <p:spPr>
              <a:xfrm>
                <a:off x="2736720" y="5554440"/>
                <a:ext cx="482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8" name="Freeform 102"/>
              <p:cNvSpPr/>
              <p:nvPr/>
            </p:nvSpPr>
            <p:spPr>
              <a:xfrm>
                <a:off x="2878920" y="5554440"/>
                <a:ext cx="500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9" name="Freeform 103"/>
              <p:cNvSpPr/>
              <p:nvPr/>
            </p:nvSpPr>
            <p:spPr>
              <a:xfrm>
                <a:off x="2791800" y="5679720"/>
                <a:ext cx="79920" cy="482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0" name="Freeform 104"/>
              <p:cNvSpPr/>
              <p:nvPr/>
            </p:nvSpPr>
            <p:spPr>
              <a:xfrm>
                <a:off x="2785320" y="5673240"/>
                <a:ext cx="93240" cy="59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1" name="Freeform 105"/>
              <p:cNvSpPr/>
              <p:nvPr/>
            </p:nvSpPr>
            <p:spPr>
              <a:xfrm>
                <a:off x="2599920" y="546624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2" name="Freeform 106"/>
              <p:cNvSpPr/>
              <p:nvPr/>
            </p:nvSpPr>
            <p:spPr>
              <a:xfrm>
                <a:off x="2593440" y="545940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3" name="Freeform 107"/>
              <p:cNvSpPr/>
              <p:nvPr/>
            </p:nvSpPr>
            <p:spPr>
              <a:xfrm>
                <a:off x="2683440" y="5459400"/>
                <a:ext cx="349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4" name="Freeform 108"/>
              <p:cNvSpPr/>
              <p:nvPr/>
            </p:nvSpPr>
            <p:spPr>
              <a:xfrm>
                <a:off x="2953800" y="546624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5" name="Freeform 109"/>
              <p:cNvSpPr/>
              <p:nvPr/>
            </p:nvSpPr>
            <p:spPr>
              <a:xfrm>
                <a:off x="2947320" y="545940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6" name="Freeform 110"/>
              <p:cNvSpPr/>
              <p:nvPr/>
            </p:nvSpPr>
            <p:spPr>
              <a:xfrm>
                <a:off x="2947320" y="5459400"/>
                <a:ext cx="331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27" name="TextBox 164"/>
            <p:cNvSpPr/>
            <p:nvPr/>
          </p:nvSpPr>
          <p:spPr>
            <a:xfrm>
              <a:off x="1112400" y="4834440"/>
              <a:ext cx="692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중립자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종소리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TextBox 165"/>
            <p:cNvSpPr/>
            <p:nvPr/>
          </p:nvSpPr>
          <p:spPr>
            <a:xfrm>
              <a:off x="2584080" y="483444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반응없음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오른쪽 화살표 166"/>
            <p:cNvSpPr/>
            <p:nvPr/>
          </p:nvSpPr>
          <p:spPr>
            <a:xfrm>
              <a:off x="1928880" y="4571640"/>
              <a:ext cx="500040" cy="71280"/>
            </a:xfrm>
            <a:prstGeom prst="rightArrow">
              <a:avLst>
                <a:gd name="adj1" fmla="val 50000"/>
                <a:gd name="adj2" fmla="val 50080"/>
              </a:avLst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오른쪽 화살표 167"/>
            <p:cNvSpPr/>
            <p:nvPr/>
          </p:nvSpPr>
          <p:spPr>
            <a:xfrm>
              <a:off x="1928880" y="5643720"/>
              <a:ext cx="500040" cy="71280"/>
            </a:xfrm>
            <a:prstGeom prst="rightArrow">
              <a:avLst>
                <a:gd name="adj1" fmla="val 50000"/>
                <a:gd name="adj2" fmla="val 50080"/>
              </a:avLst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TextBox 168"/>
            <p:cNvSpPr/>
            <p:nvPr/>
          </p:nvSpPr>
          <p:spPr>
            <a:xfrm>
              <a:off x="1103760" y="5858280"/>
              <a:ext cx="714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무조건자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고기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TextBox 169"/>
            <p:cNvSpPr/>
            <p:nvPr/>
          </p:nvSpPr>
          <p:spPr>
            <a:xfrm>
              <a:off x="2425680" y="5858280"/>
              <a:ext cx="798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무조건반응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타액분비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3" name="그룹 249"/>
          <p:cNvGrpSpPr/>
          <p:nvPr/>
        </p:nvGrpSpPr>
        <p:grpSpPr>
          <a:xfrm>
            <a:off x="3595320" y="4357800"/>
            <a:ext cx="2343600" cy="2021760"/>
            <a:chOff x="3595320" y="4357800"/>
            <a:chExt cx="2343600" cy="2021760"/>
          </a:xfrm>
        </p:grpSpPr>
        <p:grpSp>
          <p:nvGrpSpPr>
            <p:cNvPr id="934" name="그룹 170"/>
            <p:cNvGrpSpPr/>
            <p:nvPr/>
          </p:nvGrpSpPr>
          <p:grpSpPr>
            <a:xfrm>
              <a:off x="3595320" y="5707440"/>
              <a:ext cx="905040" cy="365040"/>
              <a:chOff x="3595320" y="5707440"/>
              <a:chExt cx="905040" cy="365040"/>
            </a:xfrm>
          </p:grpSpPr>
          <p:sp>
            <p:nvSpPr>
              <p:cNvPr id="935" name="Freeform 18"/>
              <p:cNvSpPr/>
              <p:nvPr/>
            </p:nvSpPr>
            <p:spPr>
              <a:xfrm>
                <a:off x="3765240" y="5746320"/>
                <a:ext cx="136080" cy="281880"/>
              </a:xfrm>
              <a:prstGeom prst="pie">
                <a:avLst/>
              </a:prstGeom>
              <a:solidFill>
                <a:srgbClr val="c6c4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6" name="Freeform 54"/>
              <p:cNvSpPr/>
              <p:nvPr/>
            </p:nvSpPr>
            <p:spPr>
              <a:xfrm>
                <a:off x="3595320" y="5762520"/>
                <a:ext cx="905040" cy="309960"/>
              </a:xfrm>
              <a:prstGeom prst="pie">
                <a:avLst/>
              </a:prstGeom>
              <a:solidFill>
                <a:srgbClr val="f2f1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7" name="Freeform 55"/>
              <p:cNvSpPr/>
              <p:nvPr/>
            </p:nvSpPr>
            <p:spPr>
              <a:xfrm>
                <a:off x="3595320" y="5737680"/>
                <a:ext cx="905040" cy="309960"/>
              </a:xfrm>
              <a:prstGeom prst="pie">
                <a:avLst/>
              </a:prstGeom>
              <a:solidFill>
                <a:srgbClr val="d0cf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8" name="Freeform 56"/>
              <p:cNvSpPr/>
              <p:nvPr/>
            </p:nvSpPr>
            <p:spPr>
              <a:xfrm>
                <a:off x="3720600" y="5794560"/>
                <a:ext cx="614160" cy="219240"/>
              </a:xfrm>
              <a:prstGeom prst="pie">
                <a:avLst/>
              </a:prstGeom>
              <a:solidFill>
                <a:srgbClr val="a8ab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9" name="Freeform 69"/>
              <p:cNvSpPr/>
              <p:nvPr/>
            </p:nvSpPr>
            <p:spPr>
              <a:xfrm>
                <a:off x="3745800" y="5744160"/>
                <a:ext cx="540360" cy="255240"/>
              </a:xfrm>
              <a:prstGeom prst="pie">
                <a:avLst/>
              </a:prstGeom>
              <a:solidFill>
                <a:srgbClr val="b851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0" name="Freeform 70"/>
              <p:cNvSpPr/>
              <p:nvPr/>
            </p:nvSpPr>
            <p:spPr>
              <a:xfrm>
                <a:off x="3752280" y="5714280"/>
                <a:ext cx="524880" cy="242640"/>
              </a:xfrm>
              <a:prstGeom prst="pie">
                <a:avLst/>
              </a:prstGeom>
              <a:solidFill>
                <a:srgbClr val="e57d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1" name="Freeform 71"/>
              <p:cNvSpPr/>
              <p:nvPr/>
            </p:nvSpPr>
            <p:spPr>
              <a:xfrm>
                <a:off x="3753360" y="5707440"/>
                <a:ext cx="529560" cy="2397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2" name="Freeform 72"/>
              <p:cNvSpPr/>
              <p:nvPr/>
            </p:nvSpPr>
            <p:spPr>
              <a:xfrm>
                <a:off x="3990960" y="5953680"/>
                <a:ext cx="407520" cy="871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3" name="그룹 179"/>
            <p:cNvGrpSpPr/>
            <p:nvPr/>
          </p:nvGrpSpPr>
          <p:grpSpPr>
            <a:xfrm>
              <a:off x="3786120" y="4357800"/>
              <a:ext cx="429480" cy="500040"/>
              <a:chOff x="3786120" y="4357800"/>
              <a:chExt cx="429480" cy="500040"/>
            </a:xfrm>
          </p:grpSpPr>
          <p:sp>
            <p:nvSpPr>
              <p:cNvPr id="944" name="Freeform 80"/>
              <p:cNvSpPr/>
              <p:nvPr/>
            </p:nvSpPr>
            <p:spPr>
              <a:xfrm>
                <a:off x="3832560" y="4402800"/>
                <a:ext cx="383040" cy="417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5" name="Freeform 81"/>
              <p:cNvSpPr/>
              <p:nvPr/>
            </p:nvSpPr>
            <p:spPr>
              <a:xfrm>
                <a:off x="3872520" y="4432680"/>
                <a:ext cx="272880" cy="35316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6" name="Freeform 82"/>
              <p:cNvSpPr/>
              <p:nvPr/>
            </p:nvSpPr>
            <p:spPr>
              <a:xfrm>
                <a:off x="4053240" y="4453920"/>
                <a:ext cx="131760" cy="3326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7" name="Freeform 83"/>
              <p:cNvSpPr/>
              <p:nvPr/>
            </p:nvSpPr>
            <p:spPr>
              <a:xfrm>
                <a:off x="3786120" y="4632840"/>
                <a:ext cx="391680" cy="225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8" name="Freeform 84"/>
              <p:cNvSpPr/>
              <p:nvPr/>
            </p:nvSpPr>
            <p:spPr>
              <a:xfrm>
                <a:off x="4092480" y="4357800"/>
                <a:ext cx="90720" cy="90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" name="Freeform 85"/>
              <p:cNvSpPr/>
              <p:nvPr/>
            </p:nvSpPr>
            <p:spPr>
              <a:xfrm>
                <a:off x="4115160" y="4380120"/>
                <a:ext cx="45000" cy="4500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0" name="Freeform 86"/>
              <p:cNvSpPr/>
              <p:nvPr/>
            </p:nvSpPr>
            <p:spPr>
              <a:xfrm>
                <a:off x="3836160" y="4683960"/>
                <a:ext cx="281160" cy="14472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1" name="Freeform 87"/>
              <p:cNvSpPr/>
              <p:nvPr/>
            </p:nvSpPr>
            <p:spPr>
              <a:xfrm>
                <a:off x="3993480" y="4728240"/>
                <a:ext cx="90000" cy="77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2" name="Freeform 88"/>
              <p:cNvSpPr/>
              <p:nvPr/>
            </p:nvSpPr>
            <p:spPr>
              <a:xfrm>
                <a:off x="4014000" y="4737960"/>
                <a:ext cx="51480" cy="464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3" name="Freeform 89"/>
              <p:cNvSpPr/>
              <p:nvPr/>
            </p:nvSpPr>
            <p:spPr>
              <a:xfrm>
                <a:off x="3921480" y="4453920"/>
                <a:ext cx="166680" cy="1832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4" name="Freeform 90"/>
              <p:cNvSpPr/>
              <p:nvPr/>
            </p:nvSpPr>
            <p:spPr>
              <a:xfrm>
                <a:off x="3807720" y="4652640"/>
                <a:ext cx="293400" cy="914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5" name="Freeform 91"/>
              <p:cNvSpPr/>
              <p:nvPr/>
            </p:nvSpPr>
            <p:spPr>
              <a:xfrm>
                <a:off x="4124160" y="4382280"/>
                <a:ext cx="18000" cy="1800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56" name="덧셈 기호 192"/>
            <p:cNvSpPr/>
            <p:nvPr/>
          </p:nvSpPr>
          <p:spPr>
            <a:xfrm>
              <a:off x="3857400" y="5214960"/>
              <a:ext cx="357120" cy="357120"/>
            </a:xfrm>
            <a:prstGeom prst="pie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TextBox 193"/>
            <p:cNvSpPr/>
            <p:nvPr/>
          </p:nvSpPr>
          <p:spPr>
            <a:xfrm>
              <a:off x="3737880" y="485784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중립자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TextBox 194"/>
            <p:cNvSpPr/>
            <p:nvPr/>
          </p:nvSpPr>
          <p:spPr>
            <a:xfrm>
              <a:off x="3675600" y="6072480"/>
              <a:ext cx="71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무조건자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59" name="그룹 195"/>
            <p:cNvGrpSpPr/>
            <p:nvPr/>
          </p:nvGrpSpPr>
          <p:grpSpPr>
            <a:xfrm>
              <a:off x="5307840" y="5120640"/>
              <a:ext cx="478440" cy="395280"/>
              <a:chOff x="5307840" y="5120640"/>
              <a:chExt cx="478440" cy="395280"/>
            </a:xfrm>
          </p:grpSpPr>
          <p:sp>
            <p:nvSpPr>
              <p:cNvPr id="960" name="Freeform 95"/>
              <p:cNvSpPr/>
              <p:nvPr/>
            </p:nvSpPr>
            <p:spPr>
              <a:xfrm>
                <a:off x="5329440" y="5127120"/>
                <a:ext cx="435240" cy="365400"/>
              </a:xfrm>
              <a:prstGeom prst="pie">
                <a:avLst/>
              </a:prstGeom>
              <a:solidFill>
                <a:srgbClr val="c2b3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1" name="Freeform 96"/>
              <p:cNvSpPr/>
              <p:nvPr/>
            </p:nvSpPr>
            <p:spPr>
              <a:xfrm>
                <a:off x="5322600" y="5120640"/>
                <a:ext cx="448560" cy="378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2" name="Freeform 97"/>
              <p:cNvSpPr/>
              <p:nvPr/>
            </p:nvSpPr>
            <p:spPr>
              <a:xfrm>
                <a:off x="5449320" y="5344200"/>
                <a:ext cx="195120" cy="165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3" name="Freeform 98"/>
              <p:cNvSpPr/>
              <p:nvPr/>
            </p:nvSpPr>
            <p:spPr>
              <a:xfrm>
                <a:off x="5529600" y="5432760"/>
                <a:ext cx="36360" cy="61560"/>
              </a:xfrm>
              <a:prstGeom prst="pie">
                <a:avLst/>
              </a:prstGeom>
              <a:solidFill>
                <a:srgbClr val="f9c8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4" name="Freeform 99"/>
              <p:cNvSpPr/>
              <p:nvPr/>
            </p:nvSpPr>
            <p:spPr>
              <a:xfrm>
                <a:off x="5442840" y="5337360"/>
                <a:ext cx="208440" cy="178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5" name="Freeform 100"/>
              <p:cNvSpPr/>
              <p:nvPr/>
            </p:nvSpPr>
            <p:spPr>
              <a:xfrm>
                <a:off x="5492880" y="5414400"/>
                <a:ext cx="108360" cy="50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6" name="Freeform 101"/>
              <p:cNvSpPr/>
              <p:nvPr/>
            </p:nvSpPr>
            <p:spPr>
              <a:xfrm>
                <a:off x="5451120" y="5245560"/>
                <a:ext cx="482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7" name="Freeform 102"/>
              <p:cNvSpPr/>
              <p:nvPr/>
            </p:nvSpPr>
            <p:spPr>
              <a:xfrm>
                <a:off x="5592960" y="5245560"/>
                <a:ext cx="500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8" name="Freeform 103"/>
              <p:cNvSpPr/>
              <p:nvPr/>
            </p:nvSpPr>
            <p:spPr>
              <a:xfrm>
                <a:off x="5506200" y="5370840"/>
                <a:ext cx="79920" cy="482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Freeform 104"/>
              <p:cNvSpPr/>
              <p:nvPr/>
            </p:nvSpPr>
            <p:spPr>
              <a:xfrm>
                <a:off x="5499360" y="5364360"/>
                <a:ext cx="93240" cy="59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0" name="Freeform 105"/>
              <p:cNvSpPr/>
              <p:nvPr/>
            </p:nvSpPr>
            <p:spPr>
              <a:xfrm>
                <a:off x="5314320" y="515736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1" name="Freeform 106"/>
              <p:cNvSpPr/>
              <p:nvPr/>
            </p:nvSpPr>
            <p:spPr>
              <a:xfrm>
                <a:off x="5307840" y="515052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2" name="Freeform 107"/>
              <p:cNvSpPr/>
              <p:nvPr/>
            </p:nvSpPr>
            <p:spPr>
              <a:xfrm>
                <a:off x="5397840" y="5150520"/>
                <a:ext cx="349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Freeform 108"/>
              <p:cNvSpPr/>
              <p:nvPr/>
            </p:nvSpPr>
            <p:spPr>
              <a:xfrm>
                <a:off x="5667840" y="515736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Freeform 109"/>
              <p:cNvSpPr/>
              <p:nvPr/>
            </p:nvSpPr>
            <p:spPr>
              <a:xfrm>
                <a:off x="5661360" y="515052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Freeform 110"/>
              <p:cNvSpPr/>
              <p:nvPr/>
            </p:nvSpPr>
            <p:spPr>
              <a:xfrm>
                <a:off x="5661360" y="5150520"/>
                <a:ext cx="331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76" name="오른쪽 화살표 212"/>
            <p:cNvSpPr/>
            <p:nvPr/>
          </p:nvSpPr>
          <p:spPr>
            <a:xfrm>
              <a:off x="4643280" y="5334120"/>
              <a:ext cx="500040" cy="71280"/>
            </a:xfrm>
            <a:prstGeom prst="rightArrow">
              <a:avLst>
                <a:gd name="adj1" fmla="val 50000"/>
                <a:gd name="adj2" fmla="val 50113"/>
              </a:avLst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TextBox 213"/>
            <p:cNvSpPr/>
            <p:nvPr/>
          </p:nvSpPr>
          <p:spPr>
            <a:xfrm>
              <a:off x="5140080" y="5549400"/>
              <a:ext cx="798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무조건반응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타액분비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TextBox 214"/>
            <p:cNvSpPr/>
            <p:nvPr/>
          </p:nvSpPr>
          <p:spPr>
            <a:xfrm>
              <a:off x="4685760" y="5050080"/>
              <a:ext cx="39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반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9" name="그룹 250"/>
          <p:cNvGrpSpPr/>
          <p:nvPr/>
        </p:nvGrpSpPr>
        <p:grpSpPr>
          <a:xfrm>
            <a:off x="6327720" y="4786200"/>
            <a:ext cx="2167200" cy="1068480"/>
            <a:chOff x="6327720" y="4786200"/>
            <a:chExt cx="2167200" cy="1068480"/>
          </a:xfrm>
        </p:grpSpPr>
        <p:grpSp>
          <p:nvGrpSpPr>
            <p:cNvPr id="980" name="그룹 215"/>
            <p:cNvGrpSpPr/>
            <p:nvPr/>
          </p:nvGrpSpPr>
          <p:grpSpPr>
            <a:xfrm>
              <a:off x="6429240" y="4786200"/>
              <a:ext cx="429480" cy="500040"/>
              <a:chOff x="6429240" y="4786200"/>
              <a:chExt cx="429480" cy="500040"/>
            </a:xfrm>
          </p:grpSpPr>
          <p:sp>
            <p:nvSpPr>
              <p:cNvPr id="981" name="Freeform 80"/>
              <p:cNvSpPr/>
              <p:nvPr/>
            </p:nvSpPr>
            <p:spPr>
              <a:xfrm>
                <a:off x="6475680" y="4831200"/>
                <a:ext cx="383040" cy="417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2" name="Freeform 81"/>
              <p:cNvSpPr/>
              <p:nvPr/>
            </p:nvSpPr>
            <p:spPr>
              <a:xfrm>
                <a:off x="6515640" y="4861080"/>
                <a:ext cx="272880" cy="35316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3" name="Freeform 82"/>
              <p:cNvSpPr/>
              <p:nvPr/>
            </p:nvSpPr>
            <p:spPr>
              <a:xfrm>
                <a:off x="6696360" y="4882320"/>
                <a:ext cx="131760" cy="3326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4" name="Freeform 83"/>
              <p:cNvSpPr/>
              <p:nvPr/>
            </p:nvSpPr>
            <p:spPr>
              <a:xfrm>
                <a:off x="6429240" y="5061240"/>
                <a:ext cx="391680" cy="225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5" name="Freeform 84"/>
              <p:cNvSpPr/>
              <p:nvPr/>
            </p:nvSpPr>
            <p:spPr>
              <a:xfrm>
                <a:off x="6735600" y="4786200"/>
                <a:ext cx="90720" cy="90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6" name="Freeform 85"/>
              <p:cNvSpPr/>
              <p:nvPr/>
            </p:nvSpPr>
            <p:spPr>
              <a:xfrm>
                <a:off x="6758280" y="4808520"/>
                <a:ext cx="45000" cy="4500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7" name="Freeform 86"/>
              <p:cNvSpPr/>
              <p:nvPr/>
            </p:nvSpPr>
            <p:spPr>
              <a:xfrm>
                <a:off x="6479280" y="5112360"/>
                <a:ext cx="281160" cy="14472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8" name="Freeform 87"/>
              <p:cNvSpPr/>
              <p:nvPr/>
            </p:nvSpPr>
            <p:spPr>
              <a:xfrm>
                <a:off x="6636600" y="5156640"/>
                <a:ext cx="90000" cy="77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9" name="Freeform 88"/>
              <p:cNvSpPr/>
              <p:nvPr/>
            </p:nvSpPr>
            <p:spPr>
              <a:xfrm>
                <a:off x="6657120" y="5166360"/>
                <a:ext cx="51480" cy="464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0" name="Freeform 89"/>
              <p:cNvSpPr/>
              <p:nvPr/>
            </p:nvSpPr>
            <p:spPr>
              <a:xfrm>
                <a:off x="6564600" y="4882320"/>
                <a:ext cx="166680" cy="1832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Freeform 90"/>
              <p:cNvSpPr/>
              <p:nvPr/>
            </p:nvSpPr>
            <p:spPr>
              <a:xfrm>
                <a:off x="6450840" y="5081040"/>
                <a:ext cx="293400" cy="914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2" name="Freeform 91"/>
              <p:cNvSpPr/>
              <p:nvPr/>
            </p:nvSpPr>
            <p:spPr>
              <a:xfrm>
                <a:off x="6767280" y="4810680"/>
                <a:ext cx="18000" cy="1800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3" name="그룹 228"/>
            <p:cNvGrpSpPr/>
            <p:nvPr/>
          </p:nvGrpSpPr>
          <p:grpSpPr>
            <a:xfrm>
              <a:off x="7858440" y="4857480"/>
              <a:ext cx="478800" cy="395280"/>
              <a:chOff x="7858440" y="4857480"/>
              <a:chExt cx="478800" cy="395280"/>
            </a:xfrm>
          </p:grpSpPr>
          <p:sp>
            <p:nvSpPr>
              <p:cNvPr id="994" name="Freeform 95"/>
              <p:cNvSpPr/>
              <p:nvPr/>
            </p:nvSpPr>
            <p:spPr>
              <a:xfrm>
                <a:off x="7880040" y="4863960"/>
                <a:ext cx="435600" cy="365400"/>
              </a:xfrm>
              <a:prstGeom prst="pie">
                <a:avLst/>
              </a:prstGeom>
              <a:solidFill>
                <a:srgbClr val="c2b3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5" name="Freeform 96"/>
              <p:cNvSpPr/>
              <p:nvPr/>
            </p:nvSpPr>
            <p:spPr>
              <a:xfrm>
                <a:off x="7873200" y="4857480"/>
                <a:ext cx="448920" cy="378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6" name="Freeform 97"/>
              <p:cNvSpPr/>
              <p:nvPr/>
            </p:nvSpPr>
            <p:spPr>
              <a:xfrm>
                <a:off x="8000280" y="5081040"/>
                <a:ext cx="195120" cy="165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7" name="Freeform 98"/>
              <p:cNvSpPr/>
              <p:nvPr/>
            </p:nvSpPr>
            <p:spPr>
              <a:xfrm>
                <a:off x="8080200" y="5169600"/>
                <a:ext cx="36720" cy="61560"/>
              </a:xfrm>
              <a:prstGeom prst="pie">
                <a:avLst/>
              </a:prstGeom>
              <a:solidFill>
                <a:srgbClr val="f9c8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8" name="Freeform 99"/>
              <p:cNvSpPr/>
              <p:nvPr/>
            </p:nvSpPr>
            <p:spPr>
              <a:xfrm>
                <a:off x="7993440" y="5074200"/>
                <a:ext cx="208440" cy="178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9" name="Freeform 100"/>
              <p:cNvSpPr/>
              <p:nvPr/>
            </p:nvSpPr>
            <p:spPr>
              <a:xfrm>
                <a:off x="8043480" y="5151240"/>
                <a:ext cx="108360" cy="50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0" name="Freeform 101"/>
              <p:cNvSpPr/>
              <p:nvPr/>
            </p:nvSpPr>
            <p:spPr>
              <a:xfrm>
                <a:off x="8001720" y="4982400"/>
                <a:ext cx="482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1" name="Freeform 102"/>
              <p:cNvSpPr/>
              <p:nvPr/>
            </p:nvSpPr>
            <p:spPr>
              <a:xfrm>
                <a:off x="8143920" y="4982400"/>
                <a:ext cx="500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2" name="Freeform 103"/>
              <p:cNvSpPr/>
              <p:nvPr/>
            </p:nvSpPr>
            <p:spPr>
              <a:xfrm>
                <a:off x="8056800" y="5107680"/>
                <a:ext cx="79920" cy="482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3" name="Freeform 104"/>
              <p:cNvSpPr/>
              <p:nvPr/>
            </p:nvSpPr>
            <p:spPr>
              <a:xfrm>
                <a:off x="8050320" y="5101200"/>
                <a:ext cx="93240" cy="59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4" name="Freeform 105"/>
              <p:cNvSpPr/>
              <p:nvPr/>
            </p:nvSpPr>
            <p:spPr>
              <a:xfrm>
                <a:off x="7864920" y="489420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5" name="Freeform 106"/>
              <p:cNvSpPr/>
              <p:nvPr/>
            </p:nvSpPr>
            <p:spPr>
              <a:xfrm>
                <a:off x="7858440" y="488736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6" name="Freeform 107"/>
              <p:cNvSpPr/>
              <p:nvPr/>
            </p:nvSpPr>
            <p:spPr>
              <a:xfrm>
                <a:off x="7948440" y="4887360"/>
                <a:ext cx="349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7" name="Freeform 108"/>
              <p:cNvSpPr/>
              <p:nvPr/>
            </p:nvSpPr>
            <p:spPr>
              <a:xfrm>
                <a:off x="8218800" y="489420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8" name="Freeform 109"/>
              <p:cNvSpPr/>
              <p:nvPr/>
            </p:nvSpPr>
            <p:spPr>
              <a:xfrm>
                <a:off x="8212320" y="488736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9" name="Freeform 110"/>
              <p:cNvSpPr/>
              <p:nvPr/>
            </p:nvSpPr>
            <p:spPr>
              <a:xfrm>
                <a:off x="8212320" y="4887360"/>
                <a:ext cx="331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0" name="TextBox 245"/>
            <p:cNvSpPr/>
            <p:nvPr/>
          </p:nvSpPr>
          <p:spPr>
            <a:xfrm>
              <a:off x="6327720" y="5334480"/>
              <a:ext cx="692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건자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종소리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TextBox 246"/>
            <p:cNvSpPr/>
            <p:nvPr/>
          </p:nvSpPr>
          <p:spPr>
            <a:xfrm>
              <a:off x="7696080" y="5334480"/>
              <a:ext cx="798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건반응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타액분비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오른쪽 화살표 247"/>
            <p:cNvSpPr/>
            <p:nvPr/>
          </p:nvSpPr>
          <p:spPr>
            <a:xfrm>
              <a:off x="7143840" y="5072040"/>
              <a:ext cx="500040" cy="71280"/>
            </a:xfrm>
            <a:prstGeom prst="rightArrow">
              <a:avLst>
                <a:gd name="adj1" fmla="val 50000"/>
                <a:gd name="adj2" fmla="val 50113"/>
              </a:avLst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3" name="슬라이드 번호 개체 틀 168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C7F0B-8F96-4679-9C67-F535ADFBE2B5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4" name="TextBox 12" descr=""/>
          <p:cNvPicPr/>
          <p:nvPr/>
        </p:nvPicPr>
        <p:blipFill>
          <a:blip r:embed="rId1"/>
          <a:stretch/>
        </p:blipFill>
        <p:spPr>
          <a:xfrm>
            <a:off x="3560760" y="506520"/>
            <a:ext cx="57229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15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01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17" name="직사각형 13"/>
              <p:cNvSpPr/>
              <p:nvPr/>
            </p:nvSpPr>
            <p:spPr>
              <a:xfrm>
                <a:off x="1702800" y="1385640"/>
                <a:ext cx="2206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고전적 조건형성의 주요 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2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2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24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5" name="그룹 64"/>
          <p:cNvGrpSpPr/>
          <p:nvPr/>
        </p:nvGrpSpPr>
        <p:grpSpPr>
          <a:xfrm>
            <a:off x="285840" y="2000160"/>
            <a:ext cx="8501040" cy="1643040"/>
            <a:chOff x="285840" y="2000160"/>
            <a:chExt cx="8501040" cy="1643040"/>
          </a:xfrm>
        </p:grpSpPr>
        <p:grpSp>
          <p:nvGrpSpPr>
            <p:cNvPr id="1026" name="그룹 37"/>
            <p:cNvGrpSpPr/>
            <p:nvPr/>
          </p:nvGrpSpPr>
          <p:grpSpPr>
            <a:xfrm>
              <a:off x="285840" y="2000160"/>
              <a:ext cx="8501040" cy="1643040"/>
              <a:chOff x="285840" y="2000160"/>
              <a:chExt cx="8501040" cy="1643040"/>
            </a:xfrm>
          </p:grpSpPr>
          <p:grpSp>
            <p:nvGrpSpPr>
              <p:cNvPr id="1027" name="그룹 91"/>
              <p:cNvGrpSpPr/>
              <p:nvPr/>
            </p:nvGrpSpPr>
            <p:grpSpPr>
              <a:xfrm>
                <a:off x="285840" y="2214360"/>
                <a:ext cx="8501040" cy="1428840"/>
                <a:chOff x="285840" y="2214360"/>
                <a:chExt cx="8501040" cy="1428840"/>
              </a:xfrm>
            </p:grpSpPr>
            <p:pic>
              <p:nvPicPr>
                <p:cNvPr id="1028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14360"/>
                  <a:ext cx="8501040" cy="14288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29" name="직사각형 77"/>
                <p:cNvSpPr/>
                <p:nvPr/>
              </p:nvSpPr>
              <p:spPr>
                <a:xfrm>
                  <a:off x="1214280" y="2644560"/>
                  <a:ext cx="750096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반응이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획득된 후 무조건 자극을 주지 않고 조건자극만 반복해서 제시할 때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반응이 점차 감소하는 현상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30" name="그룹 44"/>
              <p:cNvGrpSpPr/>
              <p:nvPr/>
            </p:nvGrpSpPr>
            <p:grpSpPr>
              <a:xfrm>
                <a:off x="928440" y="2000160"/>
                <a:ext cx="7574040" cy="551160"/>
                <a:chOff x="928440" y="2000160"/>
                <a:chExt cx="7574040" cy="551160"/>
              </a:xfrm>
            </p:grpSpPr>
            <p:grpSp>
              <p:nvGrpSpPr>
                <p:cNvPr id="1031" name="그룹 91"/>
                <p:cNvGrpSpPr/>
                <p:nvPr/>
              </p:nvGrpSpPr>
              <p:grpSpPr>
                <a:xfrm>
                  <a:off x="928440" y="2000160"/>
                  <a:ext cx="1991520" cy="551160"/>
                  <a:chOff x="928440" y="2000160"/>
                  <a:chExt cx="1991520" cy="551160"/>
                </a:xfrm>
              </p:grpSpPr>
              <p:grpSp>
                <p:nvGrpSpPr>
                  <p:cNvPr id="1032" name="그룹 34"/>
                  <p:cNvGrpSpPr/>
                  <p:nvPr/>
                </p:nvGrpSpPr>
                <p:grpSpPr>
                  <a:xfrm>
                    <a:off x="928440" y="2109600"/>
                    <a:ext cx="349200" cy="362160"/>
                    <a:chOff x="928440" y="2109600"/>
                    <a:chExt cx="349200" cy="362160"/>
                  </a:xfrm>
                </p:grpSpPr>
                <p:pic>
                  <p:nvPicPr>
                    <p:cNvPr id="1033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115000"/>
                      <a:ext cx="349200" cy="35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34" name="TextBox 36"/>
                    <p:cNvSpPr/>
                    <p:nvPr/>
                  </p:nvSpPr>
                  <p:spPr>
                    <a:xfrm>
                      <a:off x="957960" y="21096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35" name="직사각형 73"/>
                  <p:cNvSpPr/>
                  <p:nvPr/>
                </p:nvSpPr>
                <p:spPr>
                  <a:xfrm>
                    <a:off x="1311120" y="2000160"/>
                    <a:ext cx="16088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소거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extinc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36" name="직선 연결선 71"/>
                <p:cNvSpPr/>
                <p:nvPr/>
              </p:nvSpPr>
              <p:spPr>
                <a:xfrm>
                  <a:off x="4357440" y="2286000"/>
                  <a:ext cx="4145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37" name="타원 66"/>
            <p:cNvGrpSpPr/>
            <p:nvPr/>
          </p:nvGrpSpPr>
          <p:grpSpPr>
            <a:xfrm>
              <a:off x="1005840" y="2791800"/>
              <a:ext cx="225360" cy="231480"/>
              <a:chOff x="1005840" y="2791800"/>
              <a:chExt cx="225360" cy="231480"/>
            </a:xfrm>
          </p:grpSpPr>
          <p:pic>
            <p:nvPicPr>
              <p:cNvPr id="1038" name="타원 6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05840" y="2791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39" name=""/>
              <p:cNvSpPr/>
              <p:nvPr/>
            </p:nvSpPr>
            <p:spPr>
              <a:xfrm rot="10800000">
                <a:off x="1085760" y="2845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40" name="그룹 79"/>
          <p:cNvGrpSpPr/>
          <p:nvPr/>
        </p:nvGrpSpPr>
        <p:grpSpPr>
          <a:xfrm>
            <a:off x="285840" y="4286160"/>
            <a:ext cx="8501040" cy="1965600"/>
            <a:chOff x="285840" y="4286160"/>
            <a:chExt cx="8501040" cy="1965600"/>
          </a:xfrm>
        </p:grpSpPr>
        <p:grpSp>
          <p:nvGrpSpPr>
            <p:cNvPr id="1041" name="그룹 37"/>
            <p:cNvGrpSpPr/>
            <p:nvPr/>
          </p:nvGrpSpPr>
          <p:grpSpPr>
            <a:xfrm>
              <a:off x="285840" y="4286160"/>
              <a:ext cx="8501040" cy="1965600"/>
              <a:chOff x="285840" y="4286160"/>
              <a:chExt cx="8501040" cy="1965600"/>
            </a:xfrm>
          </p:grpSpPr>
          <p:grpSp>
            <p:nvGrpSpPr>
              <p:cNvPr id="1042" name="그룹 91"/>
              <p:cNvGrpSpPr/>
              <p:nvPr/>
            </p:nvGrpSpPr>
            <p:grpSpPr>
              <a:xfrm>
                <a:off x="285840" y="4500360"/>
                <a:ext cx="8501040" cy="1751400"/>
                <a:chOff x="285840" y="4500360"/>
                <a:chExt cx="8501040" cy="1751400"/>
              </a:xfrm>
            </p:grpSpPr>
            <p:pic>
              <p:nvPicPr>
                <p:cNvPr id="1043" name="Picture 5" descr="233"/>
                <p:cNvPicPr/>
                <p:nvPr/>
              </p:nvPicPr>
              <p:blipFill>
                <a:blip r:embed="rId6"/>
                <a:srcRect l="0" t="0" r="24313" b="0"/>
                <a:stretch/>
              </p:blipFill>
              <p:spPr>
                <a:xfrm>
                  <a:off x="285840" y="4500360"/>
                  <a:ext cx="8501040" cy="16434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44" name="직사각형 109"/>
                <p:cNvSpPr/>
                <p:nvPr/>
              </p:nvSpPr>
              <p:spPr>
                <a:xfrm>
                  <a:off x="1214280" y="4786200"/>
                  <a:ext cx="7500960" cy="146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형성 후 원래의 조건자극과 유사한 자극에 조건반응을 나타내는 현상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일종의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혼동현상이지만 환경에 적응을 하는 데 큰 도움을 준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45" name="그룹 44"/>
              <p:cNvGrpSpPr/>
              <p:nvPr/>
            </p:nvGrpSpPr>
            <p:grpSpPr>
              <a:xfrm>
                <a:off x="928440" y="4286160"/>
                <a:ext cx="7574040" cy="551160"/>
                <a:chOff x="928440" y="4286160"/>
                <a:chExt cx="7574040" cy="551160"/>
              </a:xfrm>
            </p:grpSpPr>
            <p:grpSp>
              <p:nvGrpSpPr>
                <p:cNvPr id="1046" name="그룹 91"/>
                <p:cNvGrpSpPr/>
                <p:nvPr/>
              </p:nvGrpSpPr>
              <p:grpSpPr>
                <a:xfrm>
                  <a:off x="928440" y="4286160"/>
                  <a:ext cx="2686680" cy="551160"/>
                  <a:chOff x="928440" y="4286160"/>
                  <a:chExt cx="2686680" cy="551160"/>
                </a:xfrm>
              </p:grpSpPr>
              <p:grpSp>
                <p:nvGrpSpPr>
                  <p:cNvPr id="1047" name="그룹 34"/>
                  <p:cNvGrpSpPr/>
                  <p:nvPr/>
                </p:nvGrpSpPr>
                <p:grpSpPr>
                  <a:xfrm>
                    <a:off x="928440" y="4395600"/>
                    <a:ext cx="349200" cy="362160"/>
                    <a:chOff x="928440" y="4395600"/>
                    <a:chExt cx="349200" cy="362160"/>
                  </a:xfrm>
                </p:grpSpPr>
                <p:pic>
                  <p:nvPicPr>
                    <p:cNvPr id="1048" name="Picture 177" descr="bull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928440" y="4401000"/>
                      <a:ext cx="349200" cy="35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49" name="TextBox 36"/>
                    <p:cNvSpPr/>
                    <p:nvPr/>
                  </p:nvSpPr>
                  <p:spPr>
                    <a:xfrm>
                      <a:off x="957960" y="43956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50" name="직사각형 99"/>
                  <p:cNvSpPr/>
                  <p:nvPr/>
                </p:nvSpPr>
                <p:spPr>
                  <a:xfrm>
                    <a:off x="1432080" y="4286160"/>
                    <a:ext cx="21830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일반화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generaliza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51" name="직선 연결선 92"/>
                <p:cNvSpPr/>
                <p:nvPr/>
              </p:nvSpPr>
              <p:spPr>
                <a:xfrm>
                  <a:off x="4357440" y="4572000"/>
                  <a:ext cx="4145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52" name="타원 81"/>
            <p:cNvGrpSpPr/>
            <p:nvPr/>
          </p:nvGrpSpPr>
          <p:grpSpPr>
            <a:xfrm>
              <a:off x="1005840" y="4931640"/>
              <a:ext cx="225360" cy="231480"/>
              <a:chOff x="1005840" y="4931640"/>
              <a:chExt cx="225360" cy="231480"/>
            </a:xfrm>
          </p:grpSpPr>
          <p:pic>
            <p:nvPicPr>
              <p:cNvPr id="1053" name="타원 81" descr=""/>
              <p:cNvPicPr/>
              <p:nvPr/>
            </p:nvPicPr>
            <p:blipFill>
              <a:blip r:embed="rId8"/>
              <a:stretch/>
            </p:blipFill>
            <p:spPr>
              <a:xfrm>
                <a:off x="1005840" y="4931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4" name=""/>
              <p:cNvSpPr/>
              <p:nvPr/>
            </p:nvSpPr>
            <p:spPr>
              <a:xfrm rot="10800000">
                <a:off x="1085760" y="498816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5" name="타원 82"/>
            <p:cNvGrpSpPr/>
            <p:nvPr/>
          </p:nvGrpSpPr>
          <p:grpSpPr>
            <a:xfrm>
              <a:off x="1005840" y="5486400"/>
              <a:ext cx="225360" cy="231480"/>
              <a:chOff x="1005840" y="5486400"/>
              <a:chExt cx="225360" cy="231480"/>
            </a:xfrm>
          </p:grpSpPr>
          <p:pic>
            <p:nvPicPr>
              <p:cNvPr id="1056" name="타원 82" descr=""/>
              <p:cNvPicPr/>
              <p:nvPr/>
            </p:nvPicPr>
            <p:blipFill>
              <a:blip r:embed="rId9"/>
              <a:stretch/>
            </p:blipFill>
            <p:spPr>
              <a:xfrm>
                <a:off x="1005840" y="54864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7" name=""/>
              <p:cNvSpPr/>
              <p:nvPr/>
            </p:nvSpPr>
            <p:spPr>
              <a:xfrm rot="10800000">
                <a:off x="1085760" y="554508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58" name="슬라이드 번호 개체 틀 38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04CAF-8D80-4717-A9B2-266C303C48FA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9" name="TextBox 12" descr=""/>
          <p:cNvPicPr/>
          <p:nvPr/>
        </p:nvPicPr>
        <p:blipFill>
          <a:blip r:embed="rId1"/>
          <a:stretch/>
        </p:blipFill>
        <p:spPr>
          <a:xfrm>
            <a:off x="3560760" y="506520"/>
            <a:ext cx="57229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60" name="그룹 64"/>
          <p:cNvGrpSpPr/>
          <p:nvPr/>
        </p:nvGrpSpPr>
        <p:grpSpPr>
          <a:xfrm>
            <a:off x="285840" y="1643040"/>
            <a:ext cx="8501040" cy="1428840"/>
            <a:chOff x="285840" y="1643040"/>
            <a:chExt cx="8501040" cy="1428840"/>
          </a:xfrm>
        </p:grpSpPr>
        <p:grpSp>
          <p:nvGrpSpPr>
            <p:cNvPr id="1061" name="그룹 37"/>
            <p:cNvGrpSpPr/>
            <p:nvPr/>
          </p:nvGrpSpPr>
          <p:grpSpPr>
            <a:xfrm>
              <a:off x="285840" y="1643040"/>
              <a:ext cx="8501040" cy="1428840"/>
              <a:chOff x="285840" y="1643040"/>
              <a:chExt cx="8501040" cy="1428840"/>
            </a:xfrm>
          </p:grpSpPr>
          <p:grpSp>
            <p:nvGrpSpPr>
              <p:cNvPr id="1062" name="그룹 91"/>
              <p:cNvGrpSpPr/>
              <p:nvPr/>
            </p:nvGrpSpPr>
            <p:grpSpPr>
              <a:xfrm>
                <a:off x="285840" y="1857240"/>
                <a:ext cx="8501040" cy="1214640"/>
                <a:chOff x="285840" y="1857240"/>
                <a:chExt cx="8501040" cy="1214640"/>
              </a:xfrm>
            </p:grpSpPr>
            <p:pic>
              <p:nvPicPr>
                <p:cNvPr id="1063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85840" y="1857240"/>
                  <a:ext cx="8501040" cy="12146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64" name="직사각형 77"/>
                <p:cNvSpPr/>
                <p:nvPr/>
              </p:nvSpPr>
              <p:spPr>
                <a:xfrm>
                  <a:off x="1214280" y="2143080"/>
                  <a:ext cx="750096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원래의 조건자극에만 조건반응을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나타내고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다른 자극에는 조건반응을 나타내지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않는 현상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65" name="그룹 44"/>
              <p:cNvGrpSpPr/>
              <p:nvPr/>
            </p:nvGrpSpPr>
            <p:grpSpPr>
              <a:xfrm>
                <a:off x="928440" y="1643040"/>
                <a:ext cx="7574040" cy="551160"/>
                <a:chOff x="928440" y="1643040"/>
                <a:chExt cx="7574040" cy="551160"/>
              </a:xfrm>
            </p:grpSpPr>
            <p:grpSp>
              <p:nvGrpSpPr>
                <p:cNvPr id="1066" name="그룹 91"/>
                <p:cNvGrpSpPr/>
                <p:nvPr/>
              </p:nvGrpSpPr>
              <p:grpSpPr>
                <a:xfrm>
                  <a:off x="928440" y="1643040"/>
                  <a:ext cx="2436840" cy="551160"/>
                  <a:chOff x="928440" y="1643040"/>
                  <a:chExt cx="2436840" cy="551160"/>
                </a:xfrm>
              </p:grpSpPr>
              <p:grpSp>
                <p:nvGrpSpPr>
                  <p:cNvPr id="1067" name="그룹 34"/>
                  <p:cNvGrpSpPr/>
                  <p:nvPr/>
                </p:nvGrpSpPr>
                <p:grpSpPr>
                  <a:xfrm>
                    <a:off x="928440" y="1752480"/>
                    <a:ext cx="349200" cy="362160"/>
                    <a:chOff x="928440" y="1752480"/>
                    <a:chExt cx="349200" cy="362160"/>
                  </a:xfrm>
                </p:grpSpPr>
                <p:pic>
                  <p:nvPicPr>
                    <p:cNvPr id="1068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928440" y="1761120"/>
                      <a:ext cx="349200" cy="35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69" name="TextBox 36"/>
                    <p:cNvSpPr/>
                    <p:nvPr/>
                  </p:nvSpPr>
                  <p:spPr>
                    <a:xfrm>
                      <a:off x="957960" y="17524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70" name="직사각형 73"/>
                  <p:cNvSpPr/>
                  <p:nvPr/>
                </p:nvSpPr>
                <p:spPr>
                  <a:xfrm>
                    <a:off x="1337400" y="1643040"/>
                    <a:ext cx="202788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변별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discrimina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71" name="직선 연결선 71"/>
                <p:cNvSpPr/>
                <p:nvPr/>
              </p:nvSpPr>
              <p:spPr>
                <a:xfrm>
                  <a:off x="4357440" y="1928880"/>
                  <a:ext cx="4145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72" name="타원 66"/>
            <p:cNvGrpSpPr/>
            <p:nvPr/>
          </p:nvGrpSpPr>
          <p:grpSpPr>
            <a:xfrm>
              <a:off x="1005840" y="2286000"/>
              <a:ext cx="225360" cy="231480"/>
              <a:chOff x="1005840" y="2286000"/>
              <a:chExt cx="225360" cy="231480"/>
            </a:xfrm>
          </p:grpSpPr>
          <p:pic>
            <p:nvPicPr>
              <p:cNvPr id="1073" name="타원 66" descr=""/>
              <p:cNvPicPr/>
              <p:nvPr/>
            </p:nvPicPr>
            <p:blipFill>
              <a:blip r:embed="rId4"/>
              <a:stretch/>
            </p:blipFill>
            <p:spPr>
              <a:xfrm>
                <a:off x="1005840" y="22860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4" name=""/>
              <p:cNvSpPr/>
              <p:nvPr/>
            </p:nvSpPr>
            <p:spPr>
              <a:xfrm rot="10800000">
                <a:off x="1085760" y="2345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75" name="그룹 79"/>
          <p:cNvGrpSpPr/>
          <p:nvPr/>
        </p:nvGrpSpPr>
        <p:grpSpPr>
          <a:xfrm>
            <a:off x="285840" y="3429000"/>
            <a:ext cx="8501040" cy="1428840"/>
            <a:chOff x="285840" y="3429000"/>
            <a:chExt cx="8501040" cy="1428840"/>
          </a:xfrm>
        </p:grpSpPr>
        <p:grpSp>
          <p:nvGrpSpPr>
            <p:cNvPr id="1076" name="그룹 37"/>
            <p:cNvGrpSpPr/>
            <p:nvPr/>
          </p:nvGrpSpPr>
          <p:grpSpPr>
            <a:xfrm>
              <a:off x="285840" y="3429000"/>
              <a:ext cx="8501040" cy="1428840"/>
              <a:chOff x="285840" y="3429000"/>
              <a:chExt cx="8501040" cy="1428840"/>
            </a:xfrm>
          </p:grpSpPr>
          <p:grpSp>
            <p:nvGrpSpPr>
              <p:cNvPr id="1077" name="그룹 91"/>
              <p:cNvGrpSpPr/>
              <p:nvPr/>
            </p:nvGrpSpPr>
            <p:grpSpPr>
              <a:xfrm>
                <a:off x="285840" y="3643200"/>
                <a:ext cx="8501040" cy="1214640"/>
                <a:chOff x="285840" y="3643200"/>
                <a:chExt cx="8501040" cy="1214640"/>
              </a:xfrm>
            </p:grpSpPr>
            <p:pic>
              <p:nvPicPr>
                <p:cNvPr id="1078" name="Picture 5" descr="233"/>
                <p:cNvPicPr/>
                <p:nvPr/>
              </p:nvPicPr>
              <p:blipFill>
                <a:blip r:embed="rId5"/>
                <a:srcRect l="0" t="0" r="24313" b="0"/>
                <a:stretch/>
              </p:blipFill>
              <p:spPr>
                <a:xfrm>
                  <a:off x="285840" y="3643200"/>
                  <a:ext cx="8501040" cy="12146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79" name="직사각형 109"/>
                <p:cNvSpPr/>
                <p:nvPr/>
              </p:nvSpPr>
              <p:spPr>
                <a:xfrm>
                  <a:off x="1214280" y="3929040"/>
                  <a:ext cx="750096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반응이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일단 소거되고 나서 일정 시간이 경과한 후 조건자극에 대해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반응이 우연히 나타나는 현상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80" name="그룹 44"/>
              <p:cNvGrpSpPr/>
              <p:nvPr/>
            </p:nvGrpSpPr>
            <p:grpSpPr>
              <a:xfrm>
                <a:off x="928440" y="3429000"/>
                <a:ext cx="7574040" cy="551160"/>
                <a:chOff x="928440" y="3429000"/>
                <a:chExt cx="7574040" cy="551160"/>
              </a:xfrm>
            </p:grpSpPr>
            <p:grpSp>
              <p:nvGrpSpPr>
                <p:cNvPr id="1081" name="그룹 91"/>
                <p:cNvGrpSpPr/>
                <p:nvPr/>
              </p:nvGrpSpPr>
              <p:grpSpPr>
                <a:xfrm>
                  <a:off x="928440" y="3429000"/>
                  <a:ext cx="3961800" cy="551160"/>
                  <a:chOff x="928440" y="3429000"/>
                  <a:chExt cx="3961800" cy="551160"/>
                </a:xfrm>
              </p:grpSpPr>
              <p:grpSp>
                <p:nvGrpSpPr>
                  <p:cNvPr id="1082" name="그룹 34"/>
                  <p:cNvGrpSpPr/>
                  <p:nvPr/>
                </p:nvGrpSpPr>
                <p:grpSpPr>
                  <a:xfrm>
                    <a:off x="928440" y="3538440"/>
                    <a:ext cx="349200" cy="362160"/>
                    <a:chOff x="928440" y="3538440"/>
                    <a:chExt cx="349200" cy="362160"/>
                  </a:xfrm>
                </p:grpSpPr>
                <p:pic>
                  <p:nvPicPr>
                    <p:cNvPr id="1083" name="Picture 177" descr="bull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928440" y="3547440"/>
                      <a:ext cx="349200" cy="353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84" name="TextBox 36"/>
                    <p:cNvSpPr/>
                    <p:nvPr/>
                  </p:nvSpPr>
                  <p:spPr>
                    <a:xfrm>
                      <a:off x="957960" y="353844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85" name="직사각형 99"/>
                  <p:cNvSpPr/>
                  <p:nvPr/>
                </p:nvSpPr>
                <p:spPr>
                  <a:xfrm>
                    <a:off x="1582200" y="3429000"/>
                    <a:ext cx="33080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자발적 회복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spontaneous recovery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86" name="직선 연결선 92"/>
                <p:cNvSpPr/>
                <p:nvPr/>
              </p:nvSpPr>
              <p:spPr>
                <a:xfrm>
                  <a:off x="5786280" y="3714840"/>
                  <a:ext cx="271620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87" name="타원 81"/>
            <p:cNvGrpSpPr/>
            <p:nvPr/>
          </p:nvGrpSpPr>
          <p:grpSpPr>
            <a:xfrm>
              <a:off x="1005840" y="4072320"/>
              <a:ext cx="225360" cy="231480"/>
              <a:chOff x="1005840" y="4072320"/>
              <a:chExt cx="225360" cy="231480"/>
            </a:xfrm>
          </p:grpSpPr>
          <p:pic>
            <p:nvPicPr>
              <p:cNvPr id="1088" name="타원 81" descr=""/>
              <p:cNvPicPr/>
              <p:nvPr/>
            </p:nvPicPr>
            <p:blipFill>
              <a:blip r:embed="rId7"/>
              <a:stretch/>
            </p:blipFill>
            <p:spPr>
              <a:xfrm>
                <a:off x="1005840" y="4072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9" name=""/>
              <p:cNvSpPr/>
              <p:nvPr/>
            </p:nvSpPr>
            <p:spPr>
              <a:xfrm rot="10800000">
                <a:off x="1085760" y="4131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90" name="그룹 79"/>
          <p:cNvGrpSpPr/>
          <p:nvPr/>
        </p:nvGrpSpPr>
        <p:grpSpPr>
          <a:xfrm>
            <a:off x="285840" y="5286240"/>
            <a:ext cx="8501040" cy="1428840"/>
            <a:chOff x="285840" y="5286240"/>
            <a:chExt cx="8501040" cy="1428840"/>
          </a:xfrm>
        </p:grpSpPr>
        <p:grpSp>
          <p:nvGrpSpPr>
            <p:cNvPr id="1091" name="그룹 37"/>
            <p:cNvGrpSpPr/>
            <p:nvPr/>
          </p:nvGrpSpPr>
          <p:grpSpPr>
            <a:xfrm>
              <a:off x="285840" y="5286240"/>
              <a:ext cx="8501040" cy="1428840"/>
              <a:chOff x="285840" y="5286240"/>
              <a:chExt cx="8501040" cy="1428840"/>
            </a:xfrm>
          </p:grpSpPr>
          <p:grpSp>
            <p:nvGrpSpPr>
              <p:cNvPr id="1092" name="그룹 91"/>
              <p:cNvGrpSpPr/>
              <p:nvPr/>
            </p:nvGrpSpPr>
            <p:grpSpPr>
              <a:xfrm>
                <a:off x="285840" y="5500440"/>
                <a:ext cx="8501040" cy="1214640"/>
                <a:chOff x="285840" y="5500440"/>
                <a:chExt cx="8501040" cy="1214640"/>
              </a:xfrm>
            </p:grpSpPr>
            <p:pic>
              <p:nvPicPr>
                <p:cNvPr id="1093" name="Picture 5" descr="233"/>
                <p:cNvPicPr/>
                <p:nvPr/>
              </p:nvPicPr>
              <p:blipFill>
                <a:blip r:embed="rId8"/>
                <a:srcRect l="0" t="0" r="24313" b="0"/>
                <a:stretch/>
              </p:blipFill>
              <p:spPr>
                <a:xfrm>
                  <a:off x="285840" y="5500440"/>
                  <a:ext cx="8501040" cy="12146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94" name="직사각형 91"/>
                <p:cNvSpPr/>
                <p:nvPr/>
              </p:nvSpPr>
              <p:spPr>
                <a:xfrm>
                  <a:off x="1214280" y="5786280"/>
                  <a:ext cx="750096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자극과 연합된 제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2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 중립자극이 조건반응을 유발하는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현상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종소리가 불빛이 되었을 경우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종소리와 불빛을 결합하면 불빛도 조건자극이 됨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95" name="그룹 44"/>
              <p:cNvGrpSpPr/>
              <p:nvPr/>
            </p:nvGrpSpPr>
            <p:grpSpPr>
              <a:xfrm>
                <a:off x="928440" y="5286240"/>
                <a:ext cx="7574040" cy="551160"/>
                <a:chOff x="928440" y="5286240"/>
                <a:chExt cx="7574040" cy="551160"/>
              </a:xfrm>
            </p:grpSpPr>
            <p:grpSp>
              <p:nvGrpSpPr>
                <p:cNvPr id="1096" name="그룹 91"/>
                <p:cNvGrpSpPr/>
                <p:nvPr/>
              </p:nvGrpSpPr>
              <p:grpSpPr>
                <a:xfrm>
                  <a:off x="928440" y="5286240"/>
                  <a:ext cx="4752000" cy="551160"/>
                  <a:chOff x="928440" y="5286240"/>
                  <a:chExt cx="4752000" cy="551160"/>
                </a:xfrm>
              </p:grpSpPr>
              <p:grpSp>
                <p:nvGrpSpPr>
                  <p:cNvPr id="1097" name="그룹 34"/>
                  <p:cNvGrpSpPr/>
                  <p:nvPr/>
                </p:nvGrpSpPr>
                <p:grpSpPr>
                  <a:xfrm>
                    <a:off x="928440" y="5395680"/>
                    <a:ext cx="349200" cy="362160"/>
                    <a:chOff x="928440" y="5395680"/>
                    <a:chExt cx="349200" cy="362160"/>
                  </a:xfrm>
                </p:grpSpPr>
                <p:pic>
                  <p:nvPicPr>
                    <p:cNvPr id="1098" name="Picture 177" descr="bull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928440" y="5400360"/>
                      <a:ext cx="349200" cy="35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99" name="TextBox 36"/>
                    <p:cNvSpPr/>
                    <p:nvPr/>
                  </p:nvSpPr>
                  <p:spPr>
                    <a:xfrm>
                      <a:off x="957960" y="5395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00" name="직사각형 87"/>
                  <p:cNvSpPr/>
                  <p:nvPr/>
                </p:nvSpPr>
                <p:spPr>
                  <a:xfrm>
                    <a:off x="1705320" y="5286240"/>
                    <a:ext cx="397512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고차적 조건형성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higher-order-conditioning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01" name="직선 연결선 85"/>
                <p:cNvSpPr/>
                <p:nvPr/>
              </p:nvSpPr>
              <p:spPr>
                <a:xfrm>
                  <a:off x="6215040" y="5572080"/>
                  <a:ext cx="22874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02" name="타원 79"/>
            <p:cNvGrpSpPr/>
            <p:nvPr/>
          </p:nvGrpSpPr>
          <p:grpSpPr>
            <a:xfrm>
              <a:off x="1005840" y="5931360"/>
              <a:ext cx="225360" cy="231480"/>
              <a:chOff x="1005840" y="5931360"/>
              <a:chExt cx="225360" cy="231480"/>
            </a:xfrm>
          </p:grpSpPr>
          <p:pic>
            <p:nvPicPr>
              <p:cNvPr id="1103" name="타원 79" descr=""/>
              <p:cNvPicPr/>
              <p:nvPr/>
            </p:nvPicPr>
            <p:blipFill>
              <a:blip r:embed="rId10"/>
              <a:stretch/>
            </p:blipFill>
            <p:spPr>
              <a:xfrm>
                <a:off x="1005840" y="59313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4" name=""/>
              <p:cNvSpPr/>
              <p:nvPr/>
            </p:nvSpPr>
            <p:spPr>
              <a:xfrm rot="10800000">
                <a:off x="1085760" y="59882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05" name="슬라이드 번호 개체 틀 49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B8D61-876F-4A0B-8ACB-DD40DDAE3A35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6" name="TextBox 12" descr=""/>
          <p:cNvPicPr/>
          <p:nvPr/>
        </p:nvPicPr>
        <p:blipFill>
          <a:blip r:embed="rId1"/>
          <a:stretch/>
        </p:blipFill>
        <p:spPr>
          <a:xfrm>
            <a:off x="3560760" y="506520"/>
            <a:ext cx="57229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07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108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09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고전적 조건형성의 응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0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1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13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11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15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16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7" name="그룹 65"/>
          <p:cNvGrpSpPr/>
          <p:nvPr/>
        </p:nvGrpSpPr>
        <p:grpSpPr>
          <a:xfrm>
            <a:off x="285840" y="1857240"/>
            <a:ext cx="8501040" cy="1428840"/>
            <a:chOff x="285840" y="1857240"/>
            <a:chExt cx="8501040" cy="1428840"/>
          </a:xfrm>
        </p:grpSpPr>
        <p:grpSp>
          <p:nvGrpSpPr>
            <p:cNvPr id="1118" name="그룹 37"/>
            <p:cNvGrpSpPr/>
            <p:nvPr/>
          </p:nvGrpSpPr>
          <p:grpSpPr>
            <a:xfrm>
              <a:off x="285840" y="1857240"/>
              <a:ext cx="8501040" cy="1428840"/>
              <a:chOff x="285840" y="1857240"/>
              <a:chExt cx="8501040" cy="1428840"/>
            </a:xfrm>
          </p:grpSpPr>
          <p:grpSp>
            <p:nvGrpSpPr>
              <p:cNvPr id="1119" name="그룹 91"/>
              <p:cNvGrpSpPr/>
              <p:nvPr/>
            </p:nvGrpSpPr>
            <p:grpSpPr>
              <a:xfrm>
                <a:off x="285840" y="2071440"/>
                <a:ext cx="8501040" cy="1214640"/>
                <a:chOff x="285840" y="2071440"/>
                <a:chExt cx="8501040" cy="1214640"/>
              </a:xfrm>
            </p:grpSpPr>
            <p:pic>
              <p:nvPicPr>
                <p:cNvPr id="1120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071440"/>
                  <a:ext cx="8501040" cy="12146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21" name="직사각형 78"/>
                <p:cNvSpPr/>
                <p:nvPr/>
              </p:nvSpPr>
              <p:spPr>
                <a:xfrm>
                  <a:off x="1143000" y="2357280"/>
                  <a:ext cx="750096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무조건 자극이 없이 조건자극만 제시하여 바람직하지 않은 반응을 감소시키는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절차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ex, 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금연초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22" name="그룹 44"/>
              <p:cNvGrpSpPr/>
              <p:nvPr/>
            </p:nvGrpSpPr>
            <p:grpSpPr>
              <a:xfrm>
                <a:off x="928440" y="1857240"/>
                <a:ext cx="7574040" cy="551160"/>
                <a:chOff x="928440" y="1857240"/>
                <a:chExt cx="7574040" cy="551160"/>
              </a:xfrm>
            </p:grpSpPr>
            <p:grpSp>
              <p:nvGrpSpPr>
                <p:cNvPr id="1123" name="그룹 91"/>
                <p:cNvGrpSpPr/>
                <p:nvPr/>
              </p:nvGrpSpPr>
              <p:grpSpPr>
                <a:xfrm>
                  <a:off x="928440" y="1857240"/>
                  <a:ext cx="1991520" cy="551160"/>
                  <a:chOff x="928440" y="1857240"/>
                  <a:chExt cx="1991520" cy="551160"/>
                </a:xfrm>
              </p:grpSpPr>
              <p:grpSp>
                <p:nvGrpSpPr>
                  <p:cNvPr id="1124" name="그룹 34"/>
                  <p:cNvGrpSpPr/>
                  <p:nvPr/>
                </p:nvGrpSpPr>
                <p:grpSpPr>
                  <a:xfrm>
                    <a:off x="928440" y="1966680"/>
                    <a:ext cx="349200" cy="362160"/>
                    <a:chOff x="928440" y="1966680"/>
                    <a:chExt cx="349200" cy="362160"/>
                  </a:xfrm>
                </p:grpSpPr>
                <p:pic>
                  <p:nvPicPr>
                    <p:cNvPr id="1125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1974600"/>
                      <a:ext cx="349200" cy="35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26" name="TextBox 36"/>
                    <p:cNvSpPr/>
                    <p:nvPr/>
                  </p:nvSpPr>
                  <p:spPr>
                    <a:xfrm>
                      <a:off x="957960" y="1966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27" name="직사각형 74"/>
                  <p:cNvSpPr/>
                  <p:nvPr/>
                </p:nvSpPr>
                <p:spPr>
                  <a:xfrm>
                    <a:off x="1311120" y="1857240"/>
                    <a:ext cx="16088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소거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extinc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28" name="직선 연결선 72"/>
                <p:cNvSpPr/>
                <p:nvPr/>
              </p:nvSpPr>
              <p:spPr>
                <a:xfrm>
                  <a:off x="4357440" y="2143080"/>
                  <a:ext cx="4145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29" name="타원 67"/>
            <p:cNvGrpSpPr/>
            <p:nvPr/>
          </p:nvGrpSpPr>
          <p:grpSpPr>
            <a:xfrm>
              <a:off x="963000" y="2517480"/>
              <a:ext cx="225360" cy="231480"/>
              <a:chOff x="963000" y="2517480"/>
              <a:chExt cx="225360" cy="231480"/>
            </a:xfrm>
          </p:grpSpPr>
          <p:pic>
            <p:nvPicPr>
              <p:cNvPr id="1130" name="타원 67" descr=""/>
              <p:cNvPicPr/>
              <p:nvPr/>
            </p:nvPicPr>
            <p:blipFill>
              <a:blip r:embed="rId5"/>
              <a:stretch/>
            </p:blipFill>
            <p:spPr>
              <a:xfrm>
                <a:off x="963000" y="25174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1" name=""/>
              <p:cNvSpPr/>
              <p:nvPr/>
            </p:nvSpPr>
            <p:spPr>
              <a:xfrm rot="10800000">
                <a:off x="1042200" y="25736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32" name="그룹 79"/>
          <p:cNvGrpSpPr/>
          <p:nvPr/>
        </p:nvGrpSpPr>
        <p:grpSpPr>
          <a:xfrm>
            <a:off x="285840" y="3286080"/>
            <a:ext cx="8501040" cy="3289320"/>
            <a:chOff x="285840" y="3286080"/>
            <a:chExt cx="8501040" cy="3289320"/>
          </a:xfrm>
        </p:grpSpPr>
        <p:grpSp>
          <p:nvGrpSpPr>
            <p:cNvPr id="1133" name="그룹 37"/>
            <p:cNvGrpSpPr/>
            <p:nvPr/>
          </p:nvGrpSpPr>
          <p:grpSpPr>
            <a:xfrm>
              <a:off x="285840" y="3286080"/>
              <a:ext cx="8501040" cy="3289320"/>
              <a:chOff x="285840" y="3286080"/>
              <a:chExt cx="8501040" cy="3289320"/>
            </a:xfrm>
          </p:grpSpPr>
          <p:grpSp>
            <p:nvGrpSpPr>
              <p:cNvPr id="1134" name="그룹 91"/>
              <p:cNvGrpSpPr/>
              <p:nvPr/>
            </p:nvGrpSpPr>
            <p:grpSpPr>
              <a:xfrm>
                <a:off x="285840" y="3500280"/>
                <a:ext cx="8501040" cy="3075120"/>
                <a:chOff x="285840" y="3500280"/>
                <a:chExt cx="8501040" cy="3075120"/>
              </a:xfrm>
            </p:grpSpPr>
            <p:pic>
              <p:nvPicPr>
                <p:cNvPr id="1135" name="Picture 5" descr="233"/>
                <p:cNvPicPr/>
                <p:nvPr/>
              </p:nvPicPr>
              <p:blipFill>
                <a:blip r:embed="rId6"/>
                <a:srcRect l="0" t="0" r="24313" b="0"/>
                <a:stretch/>
              </p:blipFill>
              <p:spPr>
                <a:xfrm>
                  <a:off x="285840" y="3500280"/>
                  <a:ext cx="8501040" cy="30751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36" name="직사각형 91"/>
                <p:cNvSpPr/>
                <p:nvPr/>
              </p:nvSpPr>
              <p:spPr>
                <a:xfrm>
                  <a:off x="1143000" y="3785760"/>
                  <a:ext cx="750096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바람직하지 못한 조건반응을 바람직한 조건반응으로 대치하려는 방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절차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37" name="그룹 44"/>
              <p:cNvGrpSpPr/>
              <p:nvPr/>
            </p:nvGrpSpPr>
            <p:grpSpPr>
              <a:xfrm>
                <a:off x="928440" y="3286080"/>
                <a:ext cx="7574040" cy="551160"/>
                <a:chOff x="928440" y="3286080"/>
                <a:chExt cx="7574040" cy="551160"/>
              </a:xfrm>
            </p:grpSpPr>
            <p:grpSp>
              <p:nvGrpSpPr>
                <p:cNvPr id="1138" name="그룹 91"/>
                <p:cNvGrpSpPr/>
                <p:nvPr/>
              </p:nvGrpSpPr>
              <p:grpSpPr>
                <a:xfrm>
                  <a:off x="928440" y="3286080"/>
                  <a:ext cx="3752280" cy="551160"/>
                  <a:chOff x="928440" y="3286080"/>
                  <a:chExt cx="3752280" cy="551160"/>
                </a:xfrm>
              </p:grpSpPr>
              <p:grpSp>
                <p:nvGrpSpPr>
                  <p:cNvPr id="1139" name="그룹 34"/>
                  <p:cNvGrpSpPr/>
                  <p:nvPr/>
                </p:nvGrpSpPr>
                <p:grpSpPr>
                  <a:xfrm>
                    <a:off x="928440" y="3395520"/>
                    <a:ext cx="349200" cy="362160"/>
                    <a:chOff x="928440" y="3395520"/>
                    <a:chExt cx="349200" cy="362160"/>
                  </a:xfrm>
                </p:grpSpPr>
                <p:pic>
                  <p:nvPicPr>
                    <p:cNvPr id="1140" name="Picture 177" descr="bull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928440" y="3401280"/>
                      <a:ext cx="349200" cy="356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41" name="TextBox 36"/>
                    <p:cNvSpPr/>
                    <p:nvPr/>
                  </p:nvSpPr>
                  <p:spPr>
                    <a:xfrm>
                      <a:off x="957960" y="33955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42" name="직사각형 87"/>
                  <p:cNvSpPr/>
                  <p:nvPr/>
                </p:nvSpPr>
                <p:spPr>
                  <a:xfrm>
                    <a:off x="1554120" y="3286080"/>
                    <a:ext cx="31266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역조건형성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counter-conditioning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43" name="직선 연결선 85"/>
                <p:cNvSpPr/>
                <p:nvPr/>
              </p:nvSpPr>
              <p:spPr>
                <a:xfrm>
                  <a:off x="5429160" y="3571920"/>
                  <a:ext cx="30733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44" name="타원 81"/>
            <p:cNvGrpSpPr/>
            <p:nvPr/>
          </p:nvGrpSpPr>
          <p:grpSpPr>
            <a:xfrm>
              <a:off x="963000" y="3943800"/>
              <a:ext cx="225360" cy="231480"/>
              <a:chOff x="963000" y="3943800"/>
              <a:chExt cx="225360" cy="231480"/>
            </a:xfrm>
          </p:grpSpPr>
          <p:pic>
            <p:nvPicPr>
              <p:cNvPr id="1145" name="타원 81" descr=""/>
              <p:cNvPicPr/>
              <p:nvPr/>
            </p:nvPicPr>
            <p:blipFill>
              <a:blip r:embed="rId8"/>
              <a:stretch/>
            </p:blipFill>
            <p:spPr>
              <a:xfrm>
                <a:off x="963000" y="3943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6" name=""/>
              <p:cNvSpPr/>
              <p:nvPr/>
            </p:nvSpPr>
            <p:spPr>
              <a:xfrm rot="10800000">
                <a:off x="1042200" y="4002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7" name="타원 93"/>
            <p:cNvGrpSpPr/>
            <p:nvPr/>
          </p:nvGrpSpPr>
          <p:grpSpPr>
            <a:xfrm>
              <a:off x="963000" y="4389120"/>
              <a:ext cx="225360" cy="231480"/>
              <a:chOff x="963000" y="4389120"/>
              <a:chExt cx="225360" cy="231480"/>
            </a:xfrm>
          </p:grpSpPr>
          <p:pic>
            <p:nvPicPr>
              <p:cNvPr id="1148" name="타원 93" descr=""/>
              <p:cNvPicPr/>
              <p:nvPr/>
            </p:nvPicPr>
            <p:blipFill>
              <a:blip r:embed="rId9"/>
              <a:stretch/>
            </p:blipFill>
            <p:spPr>
              <a:xfrm>
                <a:off x="963000" y="43891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9" name=""/>
              <p:cNvSpPr/>
              <p:nvPr/>
            </p:nvSpPr>
            <p:spPr>
              <a:xfrm rot="10800000">
                <a:off x="1042200" y="4443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50" name="이등변 삼각형 94"/>
          <p:cNvGrpSpPr/>
          <p:nvPr/>
        </p:nvGrpSpPr>
        <p:grpSpPr>
          <a:xfrm>
            <a:off x="2011320" y="4821120"/>
            <a:ext cx="4979880" cy="1408320"/>
            <a:chOff x="2011320" y="4821120"/>
            <a:chExt cx="4979880" cy="1408320"/>
          </a:xfrm>
        </p:grpSpPr>
        <p:pic>
          <p:nvPicPr>
            <p:cNvPr id="1151" name="이등변 삼각형 94" descr=""/>
            <p:cNvPicPr/>
            <p:nvPr/>
          </p:nvPicPr>
          <p:blipFill>
            <a:blip r:embed="rId10"/>
            <a:stretch/>
          </p:blipFill>
          <p:spPr>
            <a:xfrm>
              <a:off x="2011320" y="4821120"/>
              <a:ext cx="4979880" cy="140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2" name=""/>
            <p:cNvSpPr/>
            <p:nvPr/>
          </p:nvSpPr>
          <p:spPr>
            <a:xfrm rot="10800000">
              <a:off x="3285720" y="4857840"/>
              <a:ext cx="242892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3" name="모서리가 둥근 직사각형 95"/>
          <p:cNvSpPr/>
          <p:nvPr/>
        </p:nvSpPr>
        <p:spPr>
          <a:xfrm>
            <a:off x="933480" y="4786200"/>
            <a:ext cx="7639200" cy="357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1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바람직하지 못한 조건반응과 상반되는 새로운 반응을 선택한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모서리가 둥근 직사각형 96"/>
          <p:cNvSpPr/>
          <p:nvPr/>
        </p:nvSpPr>
        <p:spPr>
          <a:xfrm>
            <a:off x="928800" y="5286240"/>
            <a:ext cx="7643880" cy="357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2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바람직한 반응을 유발하는 자극을 확인한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모서리가 둥근 직사각형 97"/>
          <p:cNvSpPr/>
          <p:nvPr/>
        </p:nvSpPr>
        <p:spPr>
          <a:xfrm>
            <a:off x="928800" y="5786280"/>
            <a:ext cx="7643880" cy="571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3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새로운 반응을 유발하는 자극을 제시한 다음 바람직하지 못한 반응을 유발하는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조건자극을 점차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제시한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슬라이드 번호 개체 틀 41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9E8F0-593D-4C72-A6A9-1FFB358FDF78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1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TextBox 12" descr=""/>
          <p:cNvPicPr/>
          <p:nvPr/>
        </p:nvPicPr>
        <p:blipFill>
          <a:blip r:embed="rId1"/>
          <a:stretch/>
        </p:blipFill>
        <p:spPr>
          <a:xfrm>
            <a:off x="3560760" y="506520"/>
            <a:ext cx="57229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58" name="그룹 65"/>
          <p:cNvGrpSpPr/>
          <p:nvPr/>
        </p:nvGrpSpPr>
        <p:grpSpPr>
          <a:xfrm>
            <a:off x="285840" y="1428840"/>
            <a:ext cx="8501040" cy="1500120"/>
            <a:chOff x="285840" y="1428840"/>
            <a:chExt cx="8501040" cy="1500120"/>
          </a:xfrm>
        </p:grpSpPr>
        <p:grpSp>
          <p:nvGrpSpPr>
            <p:cNvPr id="1159" name="그룹 37"/>
            <p:cNvGrpSpPr/>
            <p:nvPr/>
          </p:nvGrpSpPr>
          <p:grpSpPr>
            <a:xfrm>
              <a:off x="285840" y="1428840"/>
              <a:ext cx="8501040" cy="1500120"/>
              <a:chOff x="285840" y="1428840"/>
              <a:chExt cx="8501040" cy="1500120"/>
            </a:xfrm>
          </p:grpSpPr>
          <p:grpSp>
            <p:nvGrpSpPr>
              <p:cNvPr id="1160" name="그룹 91"/>
              <p:cNvGrpSpPr/>
              <p:nvPr/>
            </p:nvGrpSpPr>
            <p:grpSpPr>
              <a:xfrm>
                <a:off x="285840" y="1643040"/>
                <a:ext cx="8501040" cy="1285920"/>
                <a:chOff x="285840" y="1643040"/>
                <a:chExt cx="8501040" cy="1285920"/>
              </a:xfrm>
            </p:grpSpPr>
            <p:pic>
              <p:nvPicPr>
                <p:cNvPr id="1161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85840" y="1643040"/>
                  <a:ext cx="8501040" cy="12859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62" name="직사각형 78"/>
                <p:cNvSpPr/>
                <p:nvPr/>
              </p:nvSpPr>
              <p:spPr>
                <a:xfrm>
                  <a:off x="1143000" y="1928520"/>
                  <a:ext cx="750096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공포나 불안을 일으키는 조건자극을 장시간 동안 충분하게 경험시켜 공포나 불안을 소거시키려는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방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63" name="그룹 44"/>
              <p:cNvGrpSpPr/>
              <p:nvPr/>
            </p:nvGrpSpPr>
            <p:grpSpPr>
              <a:xfrm>
                <a:off x="928440" y="1428840"/>
                <a:ext cx="7574040" cy="551160"/>
                <a:chOff x="928440" y="1428840"/>
                <a:chExt cx="7574040" cy="551160"/>
              </a:xfrm>
            </p:grpSpPr>
            <p:grpSp>
              <p:nvGrpSpPr>
                <p:cNvPr id="1164" name="그룹 91"/>
                <p:cNvGrpSpPr/>
                <p:nvPr/>
              </p:nvGrpSpPr>
              <p:grpSpPr>
                <a:xfrm>
                  <a:off x="928440" y="1428840"/>
                  <a:ext cx="2568960" cy="551160"/>
                  <a:chOff x="928440" y="1428840"/>
                  <a:chExt cx="2568960" cy="551160"/>
                </a:xfrm>
              </p:grpSpPr>
              <p:grpSp>
                <p:nvGrpSpPr>
                  <p:cNvPr id="1165" name="그룹 34"/>
                  <p:cNvGrpSpPr/>
                  <p:nvPr/>
                </p:nvGrpSpPr>
                <p:grpSpPr>
                  <a:xfrm>
                    <a:off x="928440" y="1538280"/>
                    <a:ext cx="349200" cy="362160"/>
                    <a:chOff x="928440" y="1538280"/>
                    <a:chExt cx="349200" cy="362160"/>
                  </a:xfrm>
                </p:grpSpPr>
                <p:pic>
                  <p:nvPicPr>
                    <p:cNvPr id="1166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928440" y="1541880"/>
                      <a:ext cx="349200" cy="358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67" name="TextBox 36"/>
                    <p:cNvSpPr/>
                    <p:nvPr/>
                  </p:nvSpPr>
                  <p:spPr>
                    <a:xfrm>
                      <a:off x="957960" y="15382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68" name="직사각형 74"/>
                  <p:cNvSpPr/>
                  <p:nvPr/>
                </p:nvSpPr>
                <p:spPr>
                  <a:xfrm>
                    <a:off x="1384560" y="1428840"/>
                    <a:ext cx="21128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홍수법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flood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method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69" name="직선 연결선 72"/>
                <p:cNvSpPr/>
                <p:nvPr/>
              </p:nvSpPr>
              <p:spPr>
                <a:xfrm>
                  <a:off x="4357440" y="1714680"/>
                  <a:ext cx="4145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70" name="타원 67"/>
            <p:cNvGrpSpPr/>
            <p:nvPr/>
          </p:nvGrpSpPr>
          <p:grpSpPr>
            <a:xfrm>
              <a:off x="963000" y="2090880"/>
              <a:ext cx="225360" cy="231480"/>
              <a:chOff x="963000" y="2090880"/>
              <a:chExt cx="225360" cy="231480"/>
            </a:xfrm>
          </p:grpSpPr>
          <p:pic>
            <p:nvPicPr>
              <p:cNvPr id="1171" name="타원 67" descr=""/>
              <p:cNvPicPr/>
              <p:nvPr/>
            </p:nvPicPr>
            <p:blipFill>
              <a:blip r:embed="rId4"/>
              <a:stretch/>
            </p:blipFill>
            <p:spPr>
              <a:xfrm>
                <a:off x="963000" y="20908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2" name=""/>
              <p:cNvSpPr/>
              <p:nvPr/>
            </p:nvSpPr>
            <p:spPr>
              <a:xfrm rot="10800000">
                <a:off x="1042200" y="21452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73" name="그룹 65"/>
          <p:cNvGrpSpPr/>
          <p:nvPr/>
        </p:nvGrpSpPr>
        <p:grpSpPr>
          <a:xfrm>
            <a:off x="285840" y="3214800"/>
            <a:ext cx="8501040" cy="1500120"/>
            <a:chOff x="285840" y="3214800"/>
            <a:chExt cx="8501040" cy="1500120"/>
          </a:xfrm>
        </p:grpSpPr>
        <p:grpSp>
          <p:nvGrpSpPr>
            <p:cNvPr id="1174" name="그룹 37"/>
            <p:cNvGrpSpPr/>
            <p:nvPr/>
          </p:nvGrpSpPr>
          <p:grpSpPr>
            <a:xfrm>
              <a:off x="285840" y="3214800"/>
              <a:ext cx="8501040" cy="1500120"/>
              <a:chOff x="285840" y="3214800"/>
              <a:chExt cx="8501040" cy="1500120"/>
            </a:xfrm>
          </p:grpSpPr>
          <p:grpSp>
            <p:nvGrpSpPr>
              <p:cNvPr id="1175" name="그룹 91"/>
              <p:cNvGrpSpPr/>
              <p:nvPr/>
            </p:nvGrpSpPr>
            <p:grpSpPr>
              <a:xfrm>
                <a:off x="285840" y="3429000"/>
                <a:ext cx="8501040" cy="1285920"/>
                <a:chOff x="285840" y="3429000"/>
                <a:chExt cx="8501040" cy="1285920"/>
              </a:xfrm>
            </p:grpSpPr>
            <p:pic>
              <p:nvPicPr>
                <p:cNvPr id="1176" name="Picture 5" descr="233"/>
                <p:cNvPicPr/>
                <p:nvPr/>
              </p:nvPicPr>
              <p:blipFill>
                <a:blip r:embed="rId5"/>
                <a:srcRect l="0" t="0" r="24313" b="0"/>
                <a:stretch/>
              </p:blipFill>
              <p:spPr>
                <a:xfrm>
                  <a:off x="285840" y="3429000"/>
                  <a:ext cx="8501040" cy="12859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77" name="직사각형 109"/>
                <p:cNvSpPr/>
                <p:nvPr/>
              </p:nvSpPr>
              <p:spPr>
                <a:xfrm>
                  <a:off x="1143000" y="3714480"/>
                  <a:ext cx="750096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역조건형성을 이용하여 공포를 일으키는 자극에 점진적으로 노출시켜 공포를 소거시키려는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방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공포 등의 조건자극에 이완을 결합시켜 중립자극으로 환원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78" name="그룹 44"/>
              <p:cNvGrpSpPr/>
              <p:nvPr/>
            </p:nvGrpSpPr>
            <p:grpSpPr>
              <a:xfrm>
                <a:off x="928440" y="3214800"/>
                <a:ext cx="7574040" cy="551160"/>
                <a:chOff x="928440" y="3214800"/>
                <a:chExt cx="7574040" cy="551160"/>
              </a:xfrm>
            </p:grpSpPr>
            <p:grpSp>
              <p:nvGrpSpPr>
                <p:cNvPr id="1179" name="그룹 91"/>
                <p:cNvGrpSpPr/>
                <p:nvPr/>
              </p:nvGrpSpPr>
              <p:grpSpPr>
                <a:xfrm>
                  <a:off x="928440" y="3214800"/>
                  <a:ext cx="4548240" cy="551160"/>
                  <a:chOff x="928440" y="3214800"/>
                  <a:chExt cx="4548240" cy="551160"/>
                </a:xfrm>
              </p:grpSpPr>
              <p:grpSp>
                <p:nvGrpSpPr>
                  <p:cNvPr id="1180" name="그룹 34"/>
                  <p:cNvGrpSpPr/>
                  <p:nvPr/>
                </p:nvGrpSpPr>
                <p:grpSpPr>
                  <a:xfrm>
                    <a:off x="928440" y="3324240"/>
                    <a:ext cx="349200" cy="362160"/>
                    <a:chOff x="928440" y="3324240"/>
                    <a:chExt cx="349200" cy="362160"/>
                  </a:xfrm>
                </p:grpSpPr>
                <p:pic>
                  <p:nvPicPr>
                    <p:cNvPr id="1181" name="Picture 177" descr="bull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928440" y="3328200"/>
                      <a:ext cx="349200" cy="358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82" name="TextBox 36"/>
                    <p:cNvSpPr/>
                    <p:nvPr/>
                  </p:nvSpPr>
                  <p:spPr>
                    <a:xfrm>
                      <a:off x="957960" y="332424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83" name="직사각형 105"/>
                  <p:cNvSpPr/>
                  <p:nvPr/>
                </p:nvSpPr>
                <p:spPr>
                  <a:xfrm>
                    <a:off x="1635480" y="3214800"/>
                    <a:ext cx="38412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체계적 둔감법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systematic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desensitiza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84" name="직선 연결선 103"/>
                <p:cNvSpPr/>
                <p:nvPr/>
              </p:nvSpPr>
              <p:spPr>
                <a:xfrm>
                  <a:off x="6215040" y="3500640"/>
                  <a:ext cx="22874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5" name="타원 99"/>
            <p:cNvGrpSpPr/>
            <p:nvPr/>
          </p:nvGrpSpPr>
          <p:grpSpPr>
            <a:xfrm>
              <a:off x="963000" y="3877200"/>
              <a:ext cx="225360" cy="231480"/>
              <a:chOff x="963000" y="3877200"/>
              <a:chExt cx="225360" cy="231480"/>
            </a:xfrm>
          </p:grpSpPr>
          <p:pic>
            <p:nvPicPr>
              <p:cNvPr id="1186" name="타원 99" descr=""/>
              <p:cNvPicPr/>
              <p:nvPr/>
            </p:nvPicPr>
            <p:blipFill>
              <a:blip r:embed="rId7"/>
              <a:stretch/>
            </p:blipFill>
            <p:spPr>
              <a:xfrm>
                <a:off x="963000" y="3877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87" name=""/>
              <p:cNvSpPr/>
              <p:nvPr/>
            </p:nvSpPr>
            <p:spPr>
              <a:xfrm rot="10800000">
                <a:off x="1042200" y="39312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88" name="그룹 65"/>
          <p:cNvGrpSpPr/>
          <p:nvPr/>
        </p:nvGrpSpPr>
        <p:grpSpPr>
          <a:xfrm>
            <a:off x="285840" y="5000760"/>
            <a:ext cx="8501040" cy="1500120"/>
            <a:chOff x="285840" y="5000760"/>
            <a:chExt cx="8501040" cy="1500120"/>
          </a:xfrm>
        </p:grpSpPr>
        <p:grpSp>
          <p:nvGrpSpPr>
            <p:cNvPr id="1189" name="그룹 37"/>
            <p:cNvGrpSpPr/>
            <p:nvPr/>
          </p:nvGrpSpPr>
          <p:grpSpPr>
            <a:xfrm>
              <a:off x="285840" y="5000760"/>
              <a:ext cx="8501040" cy="1500120"/>
              <a:chOff x="285840" y="5000760"/>
              <a:chExt cx="8501040" cy="1500120"/>
            </a:xfrm>
          </p:grpSpPr>
          <p:grpSp>
            <p:nvGrpSpPr>
              <p:cNvPr id="1190" name="그룹 91"/>
              <p:cNvGrpSpPr/>
              <p:nvPr/>
            </p:nvGrpSpPr>
            <p:grpSpPr>
              <a:xfrm>
                <a:off x="285840" y="5214960"/>
                <a:ext cx="8501040" cy="1285920"/>
                <a:chOff x="285840" y="5214960"/>
                <a:chExt cx="8501040" cy="1285920"/>
              </a:xfrm>
            </p:grpSpPr>
            <p:pic>
              <p:nvPicPr>
                <p:cNvPr id="1191" name="Picture 5" descr="233"/>
                <p:cNvPicPr/>
                <p:nvPr/>
              </p:nvPicPr>
              <p:blipFill>
                <a:blip r:embed="rId8"/>
                <a:srcRect l="0" t="0" r="24313" b="0"/>
                <a:stretch/>
              </p:blipFill>
              <p:spPr>
                <a:xfrm>
                  <a:off x="285840" y="5214960"/>
                  <a:ext cx="8501040" cy="12859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92" name="직사각형 123"/>
                <p:cNvSpPr/>
                <p:nvPr/>
              </p:nvSpPr>
              <p:spPr>
                <a:xfrm>
                  <a:off x="1143000" y="5500440"/>
                  <a:ext cx="750096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바람직하지 않은 반응을 유발하는 자극과 혐오자극을 함께 제시하여 조건자극을 회피하도록 하는 방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ex.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알코올 중독자에게 구토제를 주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3" name="그룹 44"/>
              <p:cNvGrpSpPr/>
              <p:nvPr/>
            </p:nvGrpSpPr>
            <p:grpSpPr>
              <a:xfrm>
                <a:off x="928440" y="5000760"/>
                <a:ext cx="7574040" cy="551160"/>
                <a:chOff x="928440" y="5000760"/>
                <a:chExt cx="7574040" cy="551160"/>
              </a:xfrm>
            </p:grpSpPr>
            <p:grpSp>
              <p:nvGrpSpPr>
                <p:cNvPr id="1194" name="그룹 91"/>
                <p:cNvGrpSpPr/>
                <p:nvPr/>
              </p:nvGrpSpPr>
              <p:grpSpPr>
                <a:xfrm>
                  <a:off x="928440" y="5000760"/>
                  <a:ext cx="3121920" cy="551160"/>
                  <a:chOff x="928440" y="5000760"/>
                  <a:chExt cx="3121920" cy="551160"/>
                </a:xfrm>
              </p:grpSpPr>
              <p:grpSp>
                <p:nvGrpSpPr>
                  <p:cNvPr id="1195" name="그룹 34"/>
                  <p:cNvGrpSpPr/>
                  <p:nvPr/>
                </p:nvGrpSpPr>
                <p:grpSpPr>
                  <a:xfrm>
                    <a:off x="928440" y="5110200"/>
                    <a:ext cx="349200" cy="362160"/>
                    <a:chOff x="928440" y="5110200"/>
                    <a:chExt cx="349200" cy="362160"/>
                  </a:xfrm>
                </p:grpSpPr>
                <p:pic>
                  <p:nvPicPr>
                    <p:cNvPr id="1196" name="Picture 177" descr="bull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928440" y="5114160"/>
                      <a:ext cx="349200" cy="358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97" name="TextBox 36"/>
                    <p:cNvSpPr/>
                    <p:nvPr/>
                  </p:nvSpPr>
                  <p:spPr>
                    <a:xfrm>
                      <a:off x="957960" y="51102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98" name="직사각형 119"/>
                  <p:cNvSpPr/>
                  <p:nvPr/>
                </p:nvSpPr>
                <p:spPr>
                  <a:xfrm>
                    <a:off x="1472760" y="5000760"/>
                    <a:ext cx="25776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혐오치료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aversion therapy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9" name="직선 연결선 117"/>
                <p:cNvSpPr/>
                <p:nvPr/>
              </p:nvSpPr>
              <p:spPr>
                <a:xfrm>
                  <a:off x="6215040" y="5286600"/>
                  <a:ext cx="22874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0" name="타원 113"/>
            <p:cNvGrpSpPr/>
            <p:nvPr/>
          </p:nvGrpSpPr>
          <p:grpSpPr>
            <a:xfrm>
              <a:off x="963000" y="5657040"/>
              <a:ext cx="225360" cy="231480"/>
              <a:chOff x="963000" y="5657040"/>
              <a:chExt cx="225360" cy="231480"/>
            </a:xfrm>
          </p:grpSpPr>
          <p:pic>
            <p:nvPicPr>
              <p:cNvPr id="1201" name="타원 113" descr=""/>
              <p:cNvPicPr/>
              <p:nvPr/>
            </p:nvPicPr>
            <p:blipFill>
              <a:blip r:embed="rId10"/>
              <a:stretch/>
            </p:blipFill>
            <p:spPr>
              <a:xfrm>
                <a:off x="963000" y="5657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2" name=""/>
              <p:cNvSpPr/>
              <p:nvPr/>
            </p:nvSpPr>
            <p:spPr>
              <a:xfrm rot="10800000">
                <a:off x="1042200" y="57171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03" name="슬라이드 번호 개체 틀 49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DD23A-4963-437B-81EA-525B34D16F02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4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20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06" name="직사각형 13"/>
              <p:cNvSpPr/>
              <p:nvPr/>
            </p:nvSpPr>
            <p:spPr>
              <a:xfrm>
                <a:off x="1733400" y="1385640"/>
                <a:ext cx="2705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조작적 조건형성의 핵심개념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: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강화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0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1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11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1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13" name="TextBox 88"/>
            <p:cNvSpPr/>
            <p:nvPr/>
          </p:nvSpPr>
          <p:spPr>
            <a:xfrm>
              <a:off x="67860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4" name="그룹 39"/>
          <p:cNvGrpSpPr/>
          <p:nvPr/>
        </p:nvGrpSpPr>
        <p:grpSpPr>
          <a:xfrm>
            <a:off x="642960" y="1714680"/>
            <a:ext cx="8286840" cy="5143320"/>
            <a:chOff x="642960" y="1714680"/>
            <a:chExt cx="8286840" cy="5143320"/>
          </a:xfrm>
        </p:grpSpPr>
        <p:grpSp>
          <p:nvGrpSpPr>
            <p:cNvPr id="1215" name="그룹 123"/>
            <p:cNvGrpSpPr/>
            <p:nvPr/>
          </p:nvGrpSpPr>
          <p:grpSpPr>
            <a:xfrm>
              <a:off x="642960" y="1714680"/>
              <a:ext cx="8286840" cy="5143320"/>
              <a:chOff x="642960" y="1714680"/>
              <a:chExt cx="8286840" cy="5143320"/>
            </a:xfrm>
          </p:grpSpPr>
          <p:pic>
            <p:nvPicPr>
              <p:cNvPr id="1216" name="Picture 5" descr="233"/>
              <p:cNvPicPr/>
              <p:nvPr/>
            </p:nvPicPr>
            <p:blipFill>
              <a:blip r:embed="rId2"/>
              <a:srcRect l="2544" t="0" r="24313" b="0"/>
              <a:stretch/>
            </p:blipFill>
            <p:spPr>
              <a:xfrm>
                <a:off x="642960" y="1714680"/>
                <a:ext cx="8072640" cy="51433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17" name="직사각형 19"/>
              <p:cNvSpPr/>
              <p:nvPr/>
            </p:nvSpPr>
            <p:spPr>
              <a:xfrm>
                <a:off x="1000080" y="1870200"/>
                <a:ext cx="7929720" cy="215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긍정적인 결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를 얻을 수 있는 행동은 반복하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부정적인 결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처벌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나 중립적인 결과가 수반되는 행동은 반복하지 않는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반응 확률 혹은 강도를 증가시키는 절차 혹은 결과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인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반응의 확률을 증가시키기 위해 반응 후 제시하는 자극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18" name="타원 21"/>
              <p:cNvGrpSpPr/>
              <p:nvPr/>
            </p:nvGrpSpPr>
            <p:grpSpPr>
              <a:xfrm>
                <a:off x="908280" y="2066400"/>
                <a:ext cx="225360" cy="237600"/>
                <a:chOff x="908280" y="2066400"/>
                <a:chExt cx="225360" cy="237600"/>
              </a:xfrm>
            </p:grpSpPr>
            <p:pic>
              <p:nvPicPr>
                <p:cNvPr id="1219" name="타원 21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08280" y="2066400"/>
                  <a:ext cx="225360" cy="237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20" name=""/>
                <p:cNvSpPr/>
                <p:nvPr/>
              </p:nvSpPr>
              <p:spPr>
                <a:xfrm rot="10800000">
                  <a:off x="987480" y="2122920"/>
                  <a:ext cx="69120" cy="7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21" name="타원 17"/>
            <p:cNvGrpSpPr/>
            <p:nvPr/>
          </p:nvGrpSpPr>
          <p:grpSpPr>
            <a:xfrm>
              <a:off x="908280" y="3243240"/>
              <a:ext cx="225360" cy="243720"/>
              <a:chOff x="908280" y="3243240"/>
              <a:chExt cx="225360" cy="243720"/>
            </a:xfrm>
          </p:grpSpPr>
          <p:pic>
            <p:nvPicPr>
              <p:cNvPr id="1222" name="타원 17" descr=""/>
              <p:cNvPicPr/>
              <p:nvPr/>
            </p:nvPicPr>
            <p:blipFill>
              <a:blip r:embed="rId4"/>
              <a:stretch/>
            </p:blipFill>
            <p:spPr>
              <a:xfrm>
                <a:off x="908280" y="3243240"/>
                <a:ext cx="225360" cy="24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23" name=""/>
              <p:cNvSpPr/>
              <p:nvPr/>
            </p:nvSpPr>
            <p:spPr>
              <a:xfrm rot="10800000">
                <a:off x="987480" y="3301920"/>
                <a:ext cx="69120" cy="75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24" name="슬라이드 번호 개체 틀 20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418B6-7CB8-4A4C-85EF-458E4F5FD5A6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5" name="TextBox 22" descr=""/>
          <p:cNvPicPr/>
          <p:nvPr/>
        </p:nvPicPr>
        <p:blipFill>
          <a:blip r:embed="rId5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26" name="타원 24"/>
          <p:cNvGrpSpPr/>
          <p:nvPr/>
        </p:nvGrpSpPr>
        <p:grpSpPr>
          <a:xfrm>
            <a:off x="858960" y="4316400"/>
            <a:ext cx="226800" cy="231840"/>
            <a:chOff x="858960" y="4316400"/>
            <a:chExt cx="226800" cy="231840"/>
          </a:xfrm>
        </p:grpSpPr>
        <p:pic>
          <p:nvPicPr>
            <p:cNvPr id="1227" name="타원 24" descr=""/>
            <p:cNvPicPr/>
            <p:nvPr/>
          </p:nvPicPr>
          <p:blipFill>
            <a:blip r:embed="rId6"/>
            <a:stretch/>
          </p:blipFill>
          <p:spPr>
            <a:xfrm>
              <a:off x="858960" y="4316400"/>
              <a:ext cx="22680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8" name=""/>
            <p:cNvSpPr/>
            <p:nvPr/>
          </p:nvSpPr>
          <p:spPr>
            <a:xfrm rot="10800000">
              <a:off x="942840" y="43718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9" name="직사각형 25"/>
          <p:cNvSpPr/>
          <p:nvPr/>
        </p:nvSpPr>
        <p:spPr>
          <a:xfrm>
            <a:off x="1000080" y="4157640"/>
            <a:ext cx="792972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적 강화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강화인이 제공된 뒤에 행동빈도나 강도가 증가되는 과정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칭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스티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15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프리맥의 원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더 선호하는 행동이 덜 선호하는 행동을 증가시키는 정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강화인으로 작용하는 현상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요약을 마치면 게임을 이용한 활동을 할 수 있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직사각형 26"/>
          <p:cNvSpPr/>
          <p:nvPr/>
        </p:nvSpPr>
        <p:spPr>
          <a:xfrm>
            <a:off x="1000080" y="5572080"/>
            <a:ext cx="792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부적 강화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행동을 증가시키기 위해 자극을 제거하거나 피하는 과정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진통제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복용으로 근육통을 제거하지만 알약 먹는 행동이 증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1" name="타원 27"/>
          <p:cNvGrpSpPr/>
          <p:nvPr/>
        </p:nvGrpSpPr>
        <p:grpSpPr>
          <a:xfrm>
            <a:off x="858960" y="5742000"/>
            <a:ext cx="226800" cy="231840"/>
            <a:chOff x="858960" y="5742000"/>
            <a:chExt cx="226800" cy="231840"/>
          </a:xfrm>
        </p:grpSpPr>
        <p:pic>
          <p:nvPicPr>
            <p:cNvPr id="1232" name="타원 27" descr=""/>
            <p:cNvPicPr/>
            <p:nvPr/>
          </p:nvPicPr>
          <p:blipFill>
            <a:blip r:embed="rId7"/>
            <a:stretch/>
          </p:blipFill>
          <p:spPr>
            <a:xfrm>
              <a:off x="858960" y="5742000"/>
              <a:ext cx="22680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3" name=""/>
            <p:cNvSpPr/>
            <p:nvPr/>
          </p:nvSpPr>
          <p:spPr>
            <a:xfrm rot="10800000">
              <a:off x="942840" y="580068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1-11T01:01:05Z</dcterms:modified>
  <cp:revision>389</cp:revision>
  <dc:subject/>
  <dc:title>PowerPoint Template</dc:title>
</cp:coreProperties>
</file>