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D6293-039D-44D5-8A5F-59519241B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E2A8E-403A-4D15-93A0-9186216E4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4214C-7607-4B7F-A50D-4FB4EA8B8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95A0B-2DB0-4408-B4E4-D8BEEFD1D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56C12-CD4E-4181-9CDF-F0F77273E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41029-C0B4-46D1-98ED-7EFD3F63F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64602-5A1F-4104-A8A8-F1553043B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2009A-A34A-4020-A27D-1B4348D9D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07F8C-7148-453B-9ADA-1132110A2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4C1BC-5FDD-4385-B1EC-5EB42BF8A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0E475-2BC1-4A6C-ABD2-776C5509A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DD56A-E334-48CB-B3F2-5D1CE1ABF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FAB99-FF58-4364-9D42-6F8E4A142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C2942-5488-4147-82D3-D697458CE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A4ADD-A71E-4CCC-873D-A650538B8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2CCBC-1342-4281-8934-CF43E39B2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3CF3A-A6E1-453C-A4AB-ACBEEEACB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26FED-E97D-4016-B98B-5A5CC5B16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70340-A495-438D-93EB-92A29C704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D0FF0-2999-4946-B83D-B88F51277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14439-6B8D-4CD1-9EC9-531B85C45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CAF2D-DD2F-447D-81B3-F5A284443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C9F09-033D-4F9A-8C5E-24B654A5F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56987-6BE8-49DA-968F-9C2AE8618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1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92E30-74DA-4B79-A410-AD5E36850C8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135CF-4CDA-4A04-AEA9-827F277E04C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7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장 행동관리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371600" y="3645000"/>
            <a:ext cx="64008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고전행동주의와 신행동주의 차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-R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과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-R-S (ABC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수정의 관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거 또는 증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성취동기 향상 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보상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칭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흥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동기부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효능감과 귀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교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행동수정 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바람직한 행동의 증가 전략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적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적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토큰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할머니 법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remark Principle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계약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바람직하지 못한 행동의 감소 전략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소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연대책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학급관리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실의 물리적 배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의 조 편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좌석배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실생활 규칙 제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질문</a:t>
            </a: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?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979640" y="1844640"/>
            <a:ext cx="475308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0T03:46:38Z</dcterms:created>
  <dc:creator>.</dc:creator>
  <dc:description/>
  <dc:language>en-US</dc:language>
  <cp:lastModifiedBy>f</cp:lastModifiedBy>
  <dcterms:modified xsi:type="dcterms:W3CDTF">2007-05-02T01:29:10Z</dcterms:modified>
  <cp:revision>9</cp:revision>
  <dc:subject/>
  <dc:title>제 7장 체육교육과정</dc:title>
</cp:coreProperties>
</file>