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DC710-EC7A-4B98-A92C-9F45685D5A7E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223A-D058-49FF-A2BD-58EA9C1C1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B104-5EE5-4CF4-89F9-17F149D92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7F0E72-D071-44DE-8DB6-4AD3A168A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46564E-05EE-440D-8CA1-EA85E451C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1B5E1F-FDB3-49CB-802C-D98D7D9FD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0D90CB-5E1B-455F-A37D-489B91E4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D70C9A-5AF4-444A-94DE-AEF2D341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F1E6A4-E7B8-4EF4-9CF1-4B473225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84FBF1-7F83-450F-A23F-B8373BAEB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66EA46-9F30-4F7B-B699-5CA1B33C6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959ADF-6FA0-45B4-9227-E07309405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19EF2A-DEA5-4B3A-B82A-A03B37521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FFA8-4A9D-40F9-A442-3E974A121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FC3A2C-B954-4A1E-8D41-BA4E0B21D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68FD72-083D-4342-A5A2-0595BCA12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638378-F23A-4E39-9AAE-ADFB9CA61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A94749-B243-4D2E-8B70-AF505E0CF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05F187-782B-4FF3-9E82-B60EE8BE5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5795DB-0444-4FB1-86C1-F598D326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6D10C1-0EA6-4DCF-9ED2-C040427C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D98C24-BDD3-4D20-BD77-43EDB0CA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52C169-45D2-45F7-B223-8FC51C929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FC0F71-173A-470E-B672-9FE53BA0C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599C-A21E-4667-8B9E-016A1FBBB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5C61AF-BF6A-496D-9E75-F4D2B1991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0DF367-4695-4583-B2CB-3A6649A3F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A192B3-1595-4968-A364-9E30C7B78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2BD530-C904-4036-897E-3ED539991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DA9EC6-A5CF-4599-A02F-26FCAD9A9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ADAD43-CD68-42AC-8E68-53AAB4282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25AF7C-07E7-45A0-AD85-E519342DF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C0E4F2-598C-4C28-8224-2766A753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DF2F24-47C0-4250-9544-D652DAFF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180558-3572-4D5B-B317-9620FB35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E6B15-1279-41B5-A90A-63AB34B69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E068FD-13D2-46D7-BC8E-A9FCC1A84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47BDEF-336D-422C-BBE9-27E3D8C4A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09D9D5-8007-402E-A8BA-40295CAAD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4D8004-8FB3-494A-BF15-DB2AD6E0B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7A2EE4-3FBD-4858-AA22-D5F32DE20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C504CF-3698-4F95-ABDE-BB4BFF93B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DCF350-30BA-414B-B00A-5B7D23A59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1856B1-2314-4EBB-B237-6A33184B3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0C8C20-4579-4CAF-8E71-FD237266E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766C43-614B-47AD-9E05-9CDC7396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A7246-BB3C-434D-96BB-0D3282341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5519EF-9C0C-408B-8784-286F28B1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5BEE55-40C0-4850-97A2-7205DEC4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274E67-53E0-4A3D-9130-BEDDB487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EC8081-8094-4DAB-BEB4-740385799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158099-E0C9-4350-8517-41F0E1789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A113C80-8411-488B-BB52-9405FD656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111413B-CFE3-4C98-9296-14F900A21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BD9B04A-B659-4DCC-ACB3-F0EA28444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F3BE390-4705-40C5-806D-BAD7452F1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49E3F9E-7878-462B-80D5-75BA3B81C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11DFC-6E4F-4577-9F0A-6B5823FDE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1AA6964-8C75-4360-92E7-1E9F2732B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7757C34-60A5-47FC-8D54-F141D054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EA21A16-0C0D-4D01-B9A2-479C9F8B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4FAEF61-FF84-4BB8-BC32-FD55B912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622A62C-7D6F-4BA7-853B-3D52FA0FD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74703CA-140C-4A61-9070-6569AA30F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B2B9F6B-0A63-4B70-9DB9-1B63303AD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2EE41-33C0-4A0F-9246-9AC7D8DA5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85BA0-DAC8-4F53-9D6A-B3FF7A058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58899-8E53-4089-92E7-6C2E61F30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99952-CFBB-49FF-9C3B-0B614797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BDC5-54FB-4831-8212-9536562A6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65332-566D-408C-A1BA-010EC99D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DBA4D-5BBA-4AFB-A866-5C29CB94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B2AF3-E836-40DE-A2F8-ADC67979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27809-E9A4-4506-8ED2-BCF9C2626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31FDA-971C-47BD-A0F1-62215735F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9FFF3-9841-4EC2-98D7-2CE18BD12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39163-DF0E-4525-9050-B9B6F1364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75CC7-24C5-40E2-9466-E0B1FBBA7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F5E5C-9775-4225-A1D9-836B49657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75675-D354-4F1B-94AB-1E4DB43DE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62ED-57F5-4D9A-8D6A-0F11D5F21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F9AE7-8115-48C1-9047-47505C63D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B51AE-4677-4333-94ED-0A7EEED1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F09E1-6E4A-4C23-BA68-1249C941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24CE0-D8B8-43C9-BD01-7D65F6F5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3ADAF-1D42-4023-BE6E-7A7CAB79E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D628D-59FB-4F46-8610-D596EBFA5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58958-76BD-42DC-95ED-B8408A2DB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6743B-516F-4877-96D0-2498FDCBC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3A282-3C85-4D89-8A30-672E8EB3E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8B19C-3941-4599-9477-F4C319A57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D374-E522-4E7E-875B-71B5126B0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8A3F3-50F2-4F18-A471-FD7319E6F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BBC17-CD00-432F-9355-04AF708A2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89D57-1D24-4C4A-9273-557B81ECA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37641-3019-4FB7-B28B-80298C5C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ACB16-5259-4555-95BF-72CDCC2B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BEF43-DABA-4F9E-A553-FC56C1B8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FBF38-B9B2-4478-83A3-FE3266914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EAA00-74DF-41F4-8568-14FFC3F4C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3A21D-8128-4B5E-B5F2-8295EE624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BE70E-E565-4AB4-9DF3-75BC8E8DD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ACB6-E348-475D-AB0F-092B5FF48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C1281-AAE2-4A66-BF89-65B0BF939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9000D-921C-49EA-8DA4-3BC08A5C0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6B7CB-4BC5-4E4B-8037-51B33693D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A55D2-32B4-4DC7-8564-6CAC7144B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15ED5-24E3-4FF8-A91B-D94076B77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6FFE8-FD42-4E2B-B93E-A6995833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5575B-714A-469A-AB51-8B6C2ED2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A06DB-E6C0-484B-AF23-863DC949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55E53-2D04-475B-8A67-ECF4E2A7F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2B36D-C338-4C2E-9A40-09866150E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9FA3-884E-47E7-97BA-464CBEDBB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351CB-BA0C-4534-9DDD-EBE621811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70B878-7552-4FF2-8C43-886A1C140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E52163-E954-4958-8EA9-DDB8BD1A0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89D12E-8116-4B05-B596-577F57652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1E3082-1C77-4F0F-85EF-716073267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872033-94FB-46C0-976E-B11A15022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359975-B283-4C89-A590-F705C2142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F8EC1B-9BA6-44C7-A4C6-D29A6BEB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0B7C05-927A-4A97-9126-0BCA7A1B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DA0D0E-E1E7-4DF2-837B-3D2D8E00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32E2-1EBA-42DD-A563-E91D5A74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4DACE7-C9BD-4E8F-9176-5486C01E3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BBE8B3-8AE7-4D44-976E-8F6ED94B3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F0AFE9-46EE-4BB5-9D08-80ABC148A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487FB3-ED54-4203-BE3B-0DF8EAEC6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A0950A-3C7A-40A7-A78B-6959586D1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5DC880-2E26-4932-A480-3147CE3AB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6DE60-6ABE-49EA-96C6-644AB5316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987C07-8EB5-410D-8A76-135147490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35172-9A2A-451D-A6D0-3C1699640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65AAFD-6DBE-4F70-80C4-2639BDC0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AE02-5E0E-4E9F-95FB-7250F329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5E410-B9B1-4842-86D2-0288D4FB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3D45C7-2895-4A82-8EC6-F9AC224E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49C53-6E7E-4CC3-8CD7-CAB88AD2C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97CF15-49C2-4103-ACB4-D58297B26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9402F6-8636-4FB4-B8AF-556E86F0A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5AAE9A-9258-46F9-A788-B42D31124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224098-ADE0-434B-B4C5-C7D7CFCBF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057AFD-854A-4E5A-A3FF-B5D88F7BB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F53C16-0C23-4131-9E76-D664B4E9C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ECA9EA-19F5-48EE-B7A9-DFB29E502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266A-5FC9-44D3-A740-950FBEB0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D2803B-173D-45C0-9F34-30050525B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CC55A4-5622-462A-9E4B-0A317B7F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FCC3A9-6E35-42DA-A169-9AE9CB5B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4DD0EF-5152-4429-9EA7-B5D7D10E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A865F8-9389-4236-85D0-E210603A1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D3B654-18B5-402F-ADFD-D9535B5DA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FFE1A2-C383-48C7-93A5-1184B7338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99C23D-9487-4CAA-97B1-E941AD294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28E623-1289-41E7-8DCE-17DD54A3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36C791-CDC6-43A3-9C0B-24337348B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85506-E866-4FE2-B510-2679419C7BC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DB212-26FF-4C50-8755-0608245335A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97955-5F18-40D3-B9EA-89886D72923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1D23D-A6DD-49E9-9D3C-8F7B61D3457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94E5D-77FD-45D5-A388-C71929074FA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1F30C-9139-4F0E-9600-0B768DB2C7E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87669-0B26-4641-9845-0DD0AA63212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DB9E3-B614-484B-80CE-92E8EA8D3FD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6044F-260A-4E38-9020-C025D6005FD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84099-C051-4D17-A23E-40C6F415D3C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ECF22-0D1E-4911-961F-2987805CE01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92F7E-C977-42E2-B988-646E2D5F3B0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B4FD3-561C-4F60-8FFD-5C8AA8EB5D3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32236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487440" y="3316320"/>
            <a:ext cx="313380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61800" y="234468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343480" y="3267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의 이해 및 해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256360" y="4187880"/>
            <a:ext cx="26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에 대한 쟁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1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8FA3D-926C-4A07-9D46-A13BA83C2A1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sp>
        <p:nvSpPr>
          <p:cNvPr id="78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029AB-839E-4C5D-8E83-02E55F186FB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6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란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그룹 43"/>
          <p:cNvGrpSpPr/>
          <p:nvPr/>
        </p:nvGrpSpPr>
        <p:grpSpPr>
          <a:xfrm>
            <a:off x="571680" y="1876320"/>
            <a:ext cx="8072280" cy="3052800"/>
            <a:chOff x="571680" y="1876320"/>
            <a:chExt cx="8072280" cy="3052800"/>
          </a:xfrm>
        </p:grpSpPr>
        <p:pic>
          <p:nvPicPr>
            <p:cNvPr id="79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052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79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9" name="직사각형 19"/>
            <p:cNvSpPr/>
            <p:nvPr/>
          </p:nvSpPr>
          <p:spPr>
            <a:xfrm>
              <a:off x="928800" y="19918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한 조건에서 많은 수의 학생들을 대상으로 시행되고 동일한 절차에 따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채점되는 평가도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직사각형 16"/>
          <p:cNvSpPr/>
          <p:nvPr/>
        </p:nvSpPr>
        <p:spPr>
          <a:xfrm>
            <a:off x="928800" y="29941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규준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표성을 띠는 개인들의 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이러한 개인들의 표준화 점수를 가지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 전국적 규준을 구성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타원 20"/>
          <p:cNvGrpSpPr/>
          <p:nvPr/>
        </p:nvGrpSpPr>
        <p:grpSpPr>
          <a:xfrm>
            <a:off x="835200" y="3170160"/>
            <a:ext cx="225360" cy="225360"/>
            <a:chOff x="835200" y="3170160"/>
            <a:chExt cx="225360" cy="225360"/>
          </a:xfrm>
        </p:grpSpPr>
        <p:pic>
          <p:nvPicPr>
            <p:cNvPr id="80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317016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 rot="10800000">
              <a:off x="915840" y="32270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직사각형 21"/>
          <p:cNvSpPr/>
          <p:nvPr/>
        </p:nvSpPr>
        <p:spPr>
          <a:xfrm>
            <a:off x="928800" y="399240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규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에서 선발된 대표 학생들이 표준화 검사에서 획득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타원 22"/>
          <p:cNvGrpSpPr/>
          <p:nvPr/>
        </p:nvGrpSpPr>
        <p:grpSpPr>
          <a:xfrm>
            <a:off x="835200" y="4170240"/>
            <a:ext cx="225360" cy="219240"/>
            <a:chOff x="835200" y="4170240"/>
            <a:chExt cx="225360" cy="219240"/>
          </a:xfrm>
        </p:grpSpPr>
        <p:pic>
          <p:nvPicPr>
            <p:cNvPr id="806" name="타원 22" descr=""/>
            <p:cNvPicPr/>
            <p:nvPr/>
          </p:nvPicPr>
          <p:blipFill>
            <a:blip r:embed="rId6"/>
            <a:stretch/>
          </p:blipFill>
          <p:spPr>
            <a:xfrm>
              <a:off x="835200" y="4170240"/>
              <a:ext cx="22536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 rot="10800000">
              <a:off x="915840" y="422712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09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737DC-1983-4587-BA1E-10C200C95FF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1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12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기능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43"/>
          <p:cNvGrpSpPr/>
          <p:nvPr/>
        </p:nvGrpSpPr>
        <p:grpSpPr>
          <a:xfrm>
            <a:off x="571680" y="1876320"/>
            <a:ext cx="8072280" cy="3267360"/>
            <a:chOff x="571680" y="1876320"/>
            <a:chExt cx="8072280" cy="3267360"/>
          </a:xfrm>
        </p:grpSpPr>
        <p:pic>
          <p:nvPicPr>
            <p:cNvPr id="82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267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2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2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4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 평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진척에 대한 객관적인 정보제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직사각형 16"/>
          <p:cNvSpPr/>
          <p:nvPr/>
        </p:nvSpPr>
        <p:spPr>
          <a:xfrm>
            <a:off x="928800" y="2571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장단점 진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타원 20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828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직사각형 21"/>
          <p:cNvSpPr/>
          <p:nvPr/>
        </p:nvSpPr>
        <p:spPr>
          <a:xfrm>
            <a:off x="928800" y="3714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로그램 평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프로그램에 대한 정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타원 22"/>
          <p:cNvGrpSpPr/>
          <p:nvPr/>
        </p:nvGrpSpPr>
        <p:grpSpPr>
          <a:xfrm>
            <a:off x="858960" y="3889440"/>
            <a:ext cx="226800" cy="225360"/>
            <a:chOff x="858960" y="3889440"/>
            <a:chExt cx="226800" cy="225360"/>
          </a:xfrm>
        </p:grpSpPr>
        <p:pic>
          <p:nvPicPr>
            <p:cNvPr id="832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388944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942840" y="3941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직사각형 23"/>
          <p:cNvSpPr/>
          <p:nvPr/>
        </p:nvSpPr>
        <p:spPr>
          <a:xfrm>
            <a:off x="928800" y="3135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선발과 배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별한 목적이 수업에 선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타원 25"/>
          <p:cNvGrpSpPr/>
          <p:nvPr/>
        </p:nvGrpSpPr>
        <p:grpSpPr>
          <a:xfrm>
            <a:off x="835200" y="3316320"/>
            <a:ext cx="225360" cy="225360"/>
            <a:chOff x="835200" y="3316320"/>
            <a:chExt cx="225360" cy="225360"/>
          </a:xfrm>
        </p:grpSpPr>
        <p:pic>
          <p:nvPicPr>
            <p:cNvPr id="836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31632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 rot="10800000">
              <a:off x="915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직사각형 26"/>
          <p:cNvSpPr/>
          <p:nvPr/>
        </p:nvSpPr>
        <p:spPr>
          <a:xfrm>
            <a:off x="928800" y="4278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성적에 대한 책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지역의 학교들의 상대적인 수행에 대한 정보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타원 27"/>
          <p:cNvGrpSpPr/>
          <p:nvPr/>
        </p:nvGrpSpPr>
        <p:grpSpPr>
          <a:xfrm>
            <a:off x="858960" y="4456080"/>
            <a:ext cx="226800" cy="225360"/>
            <a:chOff x="858960" y="4456080"/>
            <a:chExt cx="226800" cy="225360"/>
          </a:xfrm>
        </p:grpSpPr>
        <p:pic>
          <p:nvPicPr>
            <p:cNvPr id="840" name="타원 27" descr=""/>
            <p:cNvPicPr/>
            <p:nvPr/>
          </p:nvPicPr>
          <p:blipFill>
            <a:blip r:embed="rId8"/>
            <a:stretch/>
          </p:blipFill>
          <p:spPr>
            <a:xfrm>
              <a:off x="858960" y="4456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"/>
            <p:cNvSpPr/>
            <p:nvPr/>
          </p:nvSpPr>
          <p:spPr>
            <a:xfrm rot="10800000">
              <a:off x="942840" y="4512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4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D9366-19FB-4CE4-BBEB-7E7D34A6F63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4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그룹 43"/>
          <p:cNvGrpSpPr/>
          <p:nvPr/>
        </p:nvGrpSpPr>
        <p:grpSpPr>
          <a:xfrm>
            <a:off x="571680" y="1876320"/>
            <a:ext cx="8072280" cy="3838680"/>
            <a:chOff x="571680" y="1876320"/>
            <a:chExt cx="8072280" cy="3838680"/>
          </a:xfrm>
        </p:grpSpPr>
        <p:pic>
          <p:nvPicPr>
            <p:cNvPr id="85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838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5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취도 검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특정한 내용 영역에서 얼마나 많이 배웠는지 측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직사각형 16"/>
          <p:cNvSpPr/>
          <p:nvPr/>
        </p:nvSpPr>
        <p:spPr>
          <a:xfrm>
            <a:off x="928800" y="27781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한 기능영역에서 학생들의 장점과 단점을 상세히 설명해 주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타원 20"/>
          <p:cNvGrpSpPr/>
          <p:nvPr/>
        </p:nvGrpSpPr>
        <p:grpSpPr>
          <a:xfrm>
            <a:off x="835200" y="2938320"/>
            <a:ext cx="225360" cy="225720"/>
            <a:chOff x="835200" y="2938320"/>
            <a:chExt cx="225360" cy="225720"/>
          </a:xfrm>
        </p:grpSpPr>
        <p:pic>
          <p:nvPicPr>
            <p:cNvPr id="86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93832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"/>
            <p:cNvSpPr/>
            <p:nvPr/>
          </p:nvSpPr>
          <p:spPr>
            <a:xfrm rot="10800000">
              <a:off x="915840" y="29937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21"/>
          <p:cNvSpPr/>
          <p:nvPr/>
        </p:nvSpPr>
        <p:spPr>
          <a:xfrm>
            <a:off x="928800" y="457668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성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위한 잠재력을 예측하며 오랜 시간에 걸쳐 개발된 일반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하는 검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타원 22"/>
          <p:cNvGrpSpPr/>
          <p:nvPr/>
        </p:nvGrpSpPr>
        <p:grpSpPr>
          <a:xfrm>
            <a:off x="858960" y="4743360"/>
            <a:ext cx="226800" cy="225360"/>
            <a:chOff x="858960" y="4743360"/>
            <a:chExt cx="226800" cy="225360"/>
          </a:xfrm>
        </p:grpSpPr>
        <p:pic>
          <p:nvPicPr>
            <p:cNvPr id="866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4743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 rot="10800000">
              <a:off x="942840" y="4799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직사각형 23"/>
          <p:cNvSpPr/>
          <p:nvPr/>
        </p:nvSpPr>
        <p:spPr>
          <a:xfrm>
            <a:off x="928800" y="35053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능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을 습득할 수 있는 개인의 능력과 추상적인 것을 사고하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론하는 능력과 새로운 문제를 해결할 수 있는 능력을 측정하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타원 25"/>
          <p:cNvGrpSpPr/>
          <p:nvPr/>
        </p:nvGrpSpPr>
        <p:grpSpPr>
          <a:xfrm>
            <a:off x="835200" y="3724200"/>
            <a:ext cx="225360" cy="225360"/>
            <a:chOff x="835200" y="3724200"/>
            <a:chExt cx="225360" cy="225360"/>
          </a:xfrm>
        </p:grpSpPr>
        <p:pic>
          <p:nvPicPr>
            <p:cNvPr id="870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724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 rot="10800000">
              <a:off x="915840" y="378000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7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4299B-A215-4B6E-9538-8582016A93A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7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7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8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88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8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타당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르쳐진 내용을 대표할 수 있는 문항으로 구성되었는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내용을 얼마나 이해하고 있는지를 측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험 내용과 교과과정의 목표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교해서 결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직사각형 16"/>
          <p:cNvSpPr/>
          <p:nvPr/>
        </p:nvSpPr>
        <p:spPr>
          <a:xfrm>
            <a:off x="928800" y="342900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언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래의 수행을 측정하는 검사의 능력에 대한 지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와 성적간의 상관관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직사각형 21"/>
          <p:cNvSpPr/>
          <p:nvPr/>
        </p:nvSpPr>
        <p:spPr>
          <a:xfrm>
            <a:off x="928800" y="4446720"/>
            <a:ext cx="7669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구성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과 그 시험이 측정하려는 것 사이의 논리적 연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학능력시험의 문제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단어와 수에 대해 추상적인 사고를 할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으로 이상의 것들을 대학에서 다뤄야 할 과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타원 22"/>
          <p:cNvGrpSpPr/>
          <p:nvPr/>
        </p:nvGrpSpPr>
        <p:grpSpPr>
          <a:xfrm>
            <a:off x="858960" y="4651200"/>
            <a:ext cx="226800" cy="219240"/>
            <a:chOff x="858960" y="4651200"/>
            <a:chExt cx="226800" cy="219240"/>
          </a:xfrm>
        </p:grpSpPr>
        <p:pic>
          <p:nvPicPr>
            <p:cNvPr id="893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4651200"/>
              <a:ext cx="22680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"/>
            <p:cNvSpPr/>
            <p:nvPr/>
          </p:nvSpPr>
          <p:spPr>
            <a:xfrm rot="10800000">
              <a:off x="942840" y="47080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타원 25"/>
          <p:cNvGrpSpPr/>
          <p:nvPr/>
        </p:nvGrpSpPr>
        <p:grpSpPr>
          <a:xfrm>
            <a:off x="835200" y="3602160"/>
            <a:ext cx="225360" cy="226800"/>
            <a:chOff x="835200" y="3602160"/>
            <a:chExt cx="225360" cy="226800"/>
          </a:xfrm>
        </p:grpSpPr>
        <p:pic>
          <p:nvPicPr>
            <p:cNvPr id="896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3602160"/>
              <a:ext cx="22536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 rot="10800000">
              <a:off x="915840" y="3656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직사각형 20"/>
          <p:cNvSpPr/>
          <p:nvPr/>
        </p:nvSpPr>
        <p:spPr>
          <a:xfrm>
            <a:off x="928800" y="60055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**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와 신뢰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900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C4E3D-C98D-4F50-8903-4E33ADA977E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02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03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사의 역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0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12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13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14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5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6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표준화 검사 점수가 타당한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이 배운 것을 정확히 반영하는지 확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직사각형 16"/>
          <p:cNvSpPr/>
          <p:nvPr/>
        </p:nvSpPr>
        <p:spPr>
          <a:xfrm>
            <a:off x="928800" y="27147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결과를 학생과 부모에게 전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직사각형 21"/>
          <p:cNvSpPr/>
          <p:nvPr/>
        </p:nvSpPr>
        <p:spPr>
          <a:xfrm>
            <a:off x="928800" y="335772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 결과를 바탕으로 자신의 교수법에 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타원 22"/>
          <p:cNvGrpSpPr/>
          <p:nvPr/>
        </p:nvGrpSpPr>
        <p:grpSpPr>
          <a:xfrm>
            <a:off x="858960" y="3529080"/>
            <a:ext cx="226800" cy="225360"/>
            <a:chOff x="858960" y="3529080"/>
            <a:chExt cx="226800" cy="225360"/>
          </a:xfrm>
        </p:grpSpPr>
        <p:pic>
          <p:nvPicPr>
            <p:cNvPr id="920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3529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"/>
            <p:cNvSpPr/>
            <p:nvPr/>
          </p:nvSpPr>
          <p:spPr>
            <a:xfrm rot="10800000">
              <a:off x="942840" y="35841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타원 25"/>
          <p:cNvGrpSpPr/>
          <p:nvPr/>
        </p:nvGrpSpPr>
        <p:grpSpPr>
          <a:xfrm>
            <a:off x="835200" y="2882880"/>
            <a:ext cx="225360" cy="231840"/>
            <a:chOff x="835200" y="2882880"/>
            <a:chExt cx="225360" cy="231840"/>
          </a:xfrm>
        </p:grpSpPr>
        <p:pic>
          <p:nvPicPr>
            <p:cNvPr id="923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28828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/>
            <p:nvPr/>
          </p:nvSpPr>
          <p:spPr>
            <a:xfrm rot="10800000">
              <a:off x="915840" y="29412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직사각형 23"/>
          <p:cNvSpPr/>
          <p:nvPr/>
        </p:nvSpPr>
        <p:spPr>
          <a:xfrm>
            <a:off x="928800" y="3890880"/>
            <a:ext cx="76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선택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내용이 수업 내용과 일치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들에게 배울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회를 제공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규준집단을 가지고 있는지 확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준비시키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실시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항상 동일하게 실시하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결과 해석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“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및 학부모와 공유하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2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F55C1-85F4-406E-ADEB-9FBE55A3C90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2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3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술 통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3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4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4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빈도분석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몇 명 인지 점수의 분포를 보여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직사각형 16"/>
          <p:cNvSpPr/>
          <p:nvPr/>
        </p:nvSpPr>
        <p:spPr>
          <a:xfrm>
            <a:off x="928800" y="257184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집중 경향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한 집단의 전체적인 수행을 양적으로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4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직사각형 20"/>
          <p:cNvSpPr/>
          <p:nvPr/>
        </p:nvSpPr>
        <p:spPr>
          <a:xfrm>
            <a:off x="928800" y="435780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변산도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들이 얼마나 퍼져 있는지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편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vs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분산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타원 24"/>
          <p:cNvGrpSpPr/>
          <p:nvPr/>
        </p:nvGrpSpPr>
        <p:grpSpPr>
          <a:xfrm>
            <a:off x="858960" y="4529160"/>
            <a:ext cx="226800" cy="225360"/>
            <a:chOff x="858960" y="4529160"/>
            <a:chExt cx="226800" cy="225360"/>
          </a:xfrm>
        </p:grpSpPr>
        <p:pic>
          <p:nvPicPr>
            <p:cNvPr id="95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5291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"/>
            <p:cNvSpPr/>
            <p:nvPr/>
          </p:nvSpPr>
          <p:spPr>
            <a:xfrm rot="10800000">
              <a:off x="942840" y="45842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직사각형 26"/>
          <p:cNvSpPr/>
          <p:nvPr/>
        </p:nvSpPr>
        <p:spPr>
          <a:xfrm>
            <a:off x="928800" y="578628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상분포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좌우 대칭의 종 모양의 분포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타원 27"/>
          <p:cNvGrpSpPr/>
          <p:nvPr/>
        </p:nvGrpSpPr>
        <p:grpSpPr>
          <a:xfrm>
            <a:off x="858960" y="5937120"/>
            <a:ext cx="226800" cy="225720"/>
            <a:chOff x="858960" y="5937120"/>
            <a:chExt cx="226800" cy="225720"/>
          </a:xfrm>
        </p:grpSpPr>
        <p:pic>
          <p:nvPicPr>
            <p:cNvPr id="954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937120"/>
              <a:ext cx="22680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 rot="10800000">
              <a:off x="942840" y="5994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5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6D259-811C-4BCF-9E39-AE56577FC5B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5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6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해 및 해석잏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6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6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6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7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7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서로 다른 학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라에 살고 있는 학생들과 비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직사각형 16"/>
          <p:cNvSpPr/>
          <p:nvPr/>
        </p:nvSpPr>
        <p:spPr>
          <a:xfrm>
            <a:off x="928800" y="257184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이 표준화 검사 혹은 그 하위 검사에서 정확하게 반응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7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직사각형 20"/>
          <p:cNvSpPr/>
          <p:nvPr/>
        </p:nvSpPr>
        <p:spPr>
          <a:xfrm>
            <a:off x="928800" y="31431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백분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검수를 다른 모든 학생들의 점수와 비교하여 나온 등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타원 24"/>
          <p:cNvGrpSpPr/>
          <p:nvPr/>
        </p:nvGrpSpPr>
        <p:grpSpPr>
          <a:xfrm>
            <a:off x="858960" y="3316320"/>
            <a:ext cx="226800" cy="225360"/>
            <a:chOff x="858960" y="3316320"/>
            <a:chExt cx="226800" cy="225360"/>
          </a:xfrm>
        </p:grpSpPr>
        <p:pic>
          <p:nvPicPr>
            <p:cNvPr id="98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331632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/>
            <p:cNvSpPr/>
            <p:nvPr/>
          </p:nvSpPr>
          <p:spPr>
            <a:xfrm rot="10800000">
              <a:off x="942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직사각형 21"/>
          <p:cNvSpPr/>
          <p:nvPr/>
        </p:nvSpPr>
        <p:spPr>
          <a:xfrm>
            <a:off x="928800" y="367668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 점수에서 학생이 얼마나 잘했는지 표준편차를 기본단위로 해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술한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Z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으로부터 몇 표준편차 만큼 떨어져 있는지에 관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타원 22"/>
          <p:cNvGrpSpPr/>
          <p:nvPr/>
        </p:nvGrpSpPr>
        <p:grpSpPr>
          <a:xfrm>
            <a:off x="858960" y="3816360"/>
            <a:ext cx="226800" cy="225360"/>
            <a:chOff x="858960" y="3816360"/>
            <a:chExt cx="226800" cy="225360"/>
          </a:xfrm>
        </p:grpSpPr>
        <p:pic>
          <p:nvPicPr>
            <p:cNvPr id="984" name="타원 22" descr=""/>
            <p:cNvPicPr/>
            <p:nvPr/>
          </p:nvPicPr>
          <p:blipFill>
            <a:blip r:embed="rId7"/>
            <a:stretch/>
          </p:blipFill>
          <p:spPr>
            <a:xfrm>
              <a:off x="858960" y="3816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"/>
            <p:cNvSpPr/>
            <p:nvPr/>
          </p:nvSpPr>
          <p:spPr>
            <a:xfrm rot="10800000">
              <a:off x="942840" y="3870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TextBox 9" descr=""/>
          <p:cNvPicPr/>
          <p:nvPr/>
        </p:nvPicPr>
        <p:blipFill>
          <a:blip r:embed="rId1"/>
          <a:stretch/>
        </p:blipFill>
        <p:spPr>
          <a:xfrm>
            <a:off x="4730760" y="506520"/>
            <a:ext cx="4168800" cy="590400"/>
          </a:xfrm>
          <a:prstGeom prst="rect">
            <a:avLst/>
          </a:prstGeom>
          <a:ln w="0">
            <a:noFill/>
          </a:ln>
        </p:spPr>
      </p:pic>
      <p:sp>
        <p:nvSpPr>
          <p:cNvPr id="98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CEFFF-9C06-4A52-8480-02E6515DB60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8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9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쟁점 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9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3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의 다양성과 검사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 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절차 및 사용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타원 25"/>
          <p:cNvGrpSpPr/>
          <p:nvPr/>
        </p:nvGrpSpPr>
        <p:grpSpPr>
          <a:xfrm>
            <a:off x="835200" y="3078000"/>
            <a:ext cx="225360" cy="225720"/>
            <a:chOff x="835200" y="3078000"/>
            <a:chExt cx="225360" cy="225720"/>
          </a:xfrm>
        </p:grpSpPr>
        <p:pic>
          <p:nvPicPr>
            <p:cNvPr id="1005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307800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rot="10800000">
              <a:off x="915840" y="313704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직사각형 21"/>
          <p:cNvSpPr/>
          <p:nvPr/>
        </p:nvSpPr>
        <p:spPr>
          <a:xfrm>
            <a:off x="928800" y="2928960"/>
            <a:ext cx="77864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안적인 평가를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급 관찰 및 기타 사항을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표와 기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리 정한 교육목표 측정에 대한 동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간이 많이 걸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의 문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03T23:57:37Z</dcterms:modified>
  <cp:revision>375</cp:revision>
  <dc:subject/>
  <dc:title>PowerPoint Template</dc:title>
</cp:coreProperties>
</file>